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6C24948-36DF-4F78-AB22-4900CE757D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428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428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428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7468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drew Tridgell</a:t>
            </a:r>
            <a:br>
              <a:rPr sz="36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amba-team@samba.anu.edu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48520" y="324000"/>
            <a:ext cx="1127160" cy="26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4440" y="237960"/>
            <a:ext cx="800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CIFS Cli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diverse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client is ftp-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fs is 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lib is a portable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CIFS clients are not widely used 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uthentication interface is awk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servers lack full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links and permis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cl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49280" y="1676520"/>
            <a:ext cx="7728120" cy="42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as a diagnostic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ittle sanity 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ommand l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exte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change packets at the bit/byt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backups of PCs to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gateway from Unix to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scripts for installation/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via WinPop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ue SMB filesystem for 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with VF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s supplied at moun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only a small subset of SMB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li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rtable SMB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to integrate into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eventualy replace smb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transpor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dmi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torture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licy versus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ifies a lot of policy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/illegal file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delete read-only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: Building a better SM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work to 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separate application API from file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functions need consolid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need to be very det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uthentication model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yond a file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Internet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model isn’t always i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s often have rotten network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ften the applications 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update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lgorithms are needed - rsyn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 surv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/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//samba.anu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SMB Heri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s the DOS/Windows API on the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gets extended in parallel with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mplicitly assumes many DOS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PI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impl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FS layer is 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9516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s there demand for CIFS on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! The Samba Survey show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gest users are corpo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site has 15000 users on 1200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and business users make up over 50% of respon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users contribute only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used beside non-unix servers (mostly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s dominated by SunOS and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mmon “wish list” is full NT domain security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riting a CIFS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implementor must decide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t emulation or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r user space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 - one client per proc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tegy is needed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 m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Security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IFS server must be 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ile operations done as non-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ity check all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nd CIFS security models are very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synchronisation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hare/server security - none fi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the spec doesn’t tell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spec you may not realise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 and IPC calls are essential, but currently undocu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s used in very unusual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 handling is unu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pplications ass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directory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loop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s are case in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arting from scr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both a client and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need a client you can mod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test unusual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robe existing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n extensible sni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o the sniffer as you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existing sniffers are cor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re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lots more thorny issues to deal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n unix is a m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ode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/file permissions are total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format is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rivilaged ports must be ob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firew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name status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 to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IFS viable for Unix to Unix conn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ally, at least not y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links, unix attributes, uids, g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device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uthen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Tridgell</dc:creator>
  <dc:description>DRAFT ONLY - V3</dc:description>
  <dc:language>en-US</dc:language>
  <cp:lastModifiedBy>Susan</cp:lastModifiedBy>
  <cp:revision>0</cp:revision>
  <dc:subject/>
  <dc:title>SMB on Unix</dc:title>
</cp:coreProperties>
</file>