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327FED-8F5D-47B3-B0A3-D684972AA1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0929D7-31EF-43A8-A7AC-F10E337ADB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0E1D1F-E9A1-4093-B026-6B58A4DDD7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4DEA7A-8BD5-4ED7-A335-79F4917D99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D3FE5E-D3AB-4576-8CFF-5B524DF25C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F43978-B348-4DBF-B8C7-F922022EF5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49FC53-0354-47F2-A595-DEDC7B8A4C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D62C27-00D9-4608-8C85-3193FACF94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8439AD-0F66-4357-9E30-F3A188D875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78241F-9C8F-414C-8C38-F4D1D332BA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ED9F26-E77E-4055-8FFC-49E851657D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25D234-4117-408B-AAA4-781E35A0C1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A75FC5-90C0-41A3-BBCB-884E505D69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3931D8-A279-41C1-9D35-4CEE133976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A5355B-E157-459E-B931-DCFB1DD97C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33B810-79F5-4A2F-9EB3-54F479DC06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6FB6EF-5B47-4C7E-9C59-1EB443C6B4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370D96-E070-402A-B239-D4AB40DC8C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01F2EA-BF90-42E7-B461-79399D083B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27157C-2DC6-44DD-85C9-27DB845E66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A111DF-19C7-4CF0-A0AD-66BC2A016E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4068F2-4366-486E-9E33-D14A2BAC06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F3088D-753D-49ED-A3D7-9089924217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5A3ABA-CA74-4642-805E-0F237848FC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CAF52-6D3B-4E8B-AB1D-F781AA5FF67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38AE6-4588-4C54-B429-409E62691E8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04331F5-D7C3-4177-B56D-379C1D2B8E1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6D141F3-A43D-44D0-85D3-16D05657D71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ABDD5F-D5DD-4BA7-B933-5922C8EE397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AF7E2C-24DD-400E-8B59-27424E3B2A8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CC6287-D175-49B5-BE20-3F562CD8462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0D83D4-D42B-4613-A27C-31CA0069B22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78109B-8904-4F2C-9F49-0346498D9F9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E3B4F5-61E8-44D9-96CB-154D4BB5C531}"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4D75C3-6326-42D2-8A3A-D09FF271227C}"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CF0EAA-52A3-4AC1-A192-5F446CE618CA}"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985BE2-F5B1-4B77-920F-9218E36D8E07}"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00B958-E470-4D61-9484-F57DABC99349}"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5B6EBA-5B92-4B7D-84D8-386137D5166F}"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3CFD9A-70F3-452C-8E5E-69A210363918}"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D97109-BC43-4972-A6F2-ACDA51F96ED8}"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C303A0-76E7-491E-80D6-F80255EC126E}"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F6DB7F-8C48-4848-AA3A-3C6849D5EBBC}"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43B2AC-F714-4A02-8D9D-87E562BDD70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CC9036-B567-428B-8B43-AE533369961A}"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006C97-C174-4235-AA10-A15ACCF3CF48}"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8296C1-47A9-4DC1-B050-61AC4C173572}"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E7609A-95D8-470E-A07C-7CDF4486F4FD}"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79C210-66AB-4EA4-A48F-A78E4B65A100}"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F79F65-8E64-41BB-ADEF-921833D2A113}"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0AB4D3-2D40-41DA-9417-6E44C17E3509}"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ACB885-8A11-4CC5-9C67-7332D55ED0A1}"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3F52B1-FCE7-4750-A7C2-B7F3059ED63A}"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25DB716-9915-4968-853E-BF8B64934F04}"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28033D-E589-4A07-BA10-94868D7A4B6D}"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C1520E-3D98-4CC4-89C0-B87500B6481D}"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A3E861-3A0E-412E-A3A3-6C95155D1C6C}"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49DC92-3E67-4C3B-9179-ACBF59A98F5E}"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43DB80-8367-49FE-A928-724FBE63904C}"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988FBF-F659-4272-8241-2A48B6737C0E}"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0CF765-4A7E-4A8C-BAA3-AE5C1840709E}"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127A8E-4279-4EEB-8817-E2FB05518F91}"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2D10B4-E044-4A63-AEE9-33A38B1CFD18}"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385398-E911-4A55-93AD-F8DE3D3EA7CD}"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8C9AEF-7C4A-42C4-A61F-A88EB9241B16}"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85A00E-47F8-4E66-87EA-5DDD83A29B25}"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FF0E12-AE5A-44EF-B585-105AF1FB7FEF}"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2E4095-BB3F-4B5B-9F4B-5E34B4B661C0}"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428D08-7CA0-4DA9-9960-69E42DBDDE26}"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D31E69-5451-4766-A23A-90C7CDA3099A}"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7E8DFE-04CB-4148-9EE6-1E78F004F6DE}"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090C83-636D-4712-98D2-477C99282DAC}"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C3605E-FCA3-4BA4-A9A5-B5F24804D06C}"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55ABEE-D88B-4CED-8488-37E7740A4A54}"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26B66FA-388B-4237-9EAD-F58787597CEE}"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C78D68-5E10-4B96-B69D-B94E6CEECFE0}"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B8574F-BCC0-4C5B-96F0-516FD762344B}"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25DF434-4422-4923-8D76-07466CD8FA1B}"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D177B7-BACF-4BAF-974D-C3BBFD60E3BD}"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24CDB6-CEBA-42D7-8D13-38F8A2520725}"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F4EB7D-4DBB-41AF-A2C0-B1BF59A6E07B}"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1A8B78-FA38-4980-80F8-9931C77D98F0}"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4E0FC0-BCEC-4916-B2AB-8EA703793411}"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01BB45-BCFD-49C8-B554-D85CAB8E6626}"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D357E9-041D-4525-A378-6B61AA8B2AFE}"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6D43831-BA1F-4A0F-8518-04187D459A44}"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2409E7-06D9-447C-A313-C14C812F4486}"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BE1E6A-D6AF-4666-9D6E-44E13E2A01DF}"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B29B7D-02D6-40B9-BA5C-5361D3783E77}"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61B1F4-AD2F-44B7-AF11-271509E08344}"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2711CD-2549-4B3C-BE14-DD635A7952F1}"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8FC0C8E-A62C-4457-BF83-5D815D10E3E2}"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017BC4-5D47-4452-8DF1-26222225487B}"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F60331-12C6-4BFB-BF1E-F99B038E01EE}"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2A64C3-7404-4D5B-B2AA-C546EEB2C9C7}"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7075BC-BE18-4F1D-85DB-F7B7ED8F4F39}"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9C72DD7-C4C0-489E-8BC3-A09C57D65F33}"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18EB0E-86E0-46DE-94A2-884EC3580D36}"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5065D1-25B2-4C96-BADF-BE22951F9B60}"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F7E78D-8C54-4650-BF1D-F2C0FCC0F87C}"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300DE3-5949-44B5-BF7E-84886F29073B}"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3858F7-3BE6-4B62-8ACA-638E5FE54E3C}"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8001F5-DD94-4188-A8AA-89661BE6C891}"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F4B9D41-8DD4-4D08-9DEE-75F99E1F7F32}"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4F174B-BC06-4D2D-80E8-8C0F42175342}"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439DCD-19B3-46AD-ACE2-26819528DAD3}"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813388-B8B5-4671-9841-62D584C6515D}"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F132958-84F8-4379-9D5B-54BF52FFD74E}"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3210C0-FF28-43EF-A1F0-A9B67C696BC5}"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BC3603F-2386-46AF-A742-3AA0A1E2F0B5}"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FE9089-F962-4FC1-80B1-B1CA6BA0DE47}"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4DEC5A-088F-4ED0-A4D2-A86882889F53}"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D8A33B-931B-4469-B648-C59B0E06F2C5}"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65E00A-E6CD-40B9-9AC2-4F4F38EB8D63}"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C447C9-28A8-4161-93B6-CDF86E7FD930}"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1249DC-9CC9-4D70-9B11-1A169BD06086}"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4E8D7B-0E24-4A0F-85A7-3ED457FB2BF4}"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61AB8C-0FFD-4813-9067-76CB42931BE6}"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6FF96A-CAEA-430D-8837-2E0E7152BA37}"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8444EA-4ED5-48A0-8122-878CA9099D9E}"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2CA90F-C5D1-40E3-8A0F-9ADAA9DBAAE3}"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25E3B0-265B-49CE-B3DD-1FD8328401B7}"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D94CE9-4409-4008-BCDC-F34ECA4F4E23}"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3E4CDF-2C32-4B9D-B046-4E96D029ABB2}"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780896-4090-471D-949D-061735E0A154}"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28D8227-5982-4523-8F4E-43D49DB33AD1}"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4336D6-46DC-40B4-8B8C-ED14192B4856}"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966E6C-38CA-44AC-8DBB-60D0E9A4EAEB}"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E9A88C-7A86-4113-965F-2A04E4BB48D0}"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350FC6-5D87-477C-912A-E96AA682B7E8}"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466894-3846-47FC-9042-2E93368E3931}"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E547FB-861A-4A83-A662-6428A10C4B21}"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A3A14C-4431-4C75-B1E8-FDD4648C1D3B}"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F1ECB1-DCA9-4742-B7E6-31083CD4FBFD}"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270AC4-4746-45B0-AA05-0F745C233139}"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D96A8A-0CD4-41D3-8B11-742966C8C6C3}"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A0DFBB-5E4C-40A4-89BE-3E358E1BE517}"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7BD8FD-714B-454E-B5DF-B8AFD965969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882A4F-A9B7-4E8A-B53A-25B4DE92B135}"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0C8C56-15EC-40CD-B8FE-5A74C8EA197F}"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61A718-16AE-4C1E-8A25-AABED87493D8}"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FA48DB-372D-4743-BCC0-603A8A45284F}"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5E0A77-BC83-48D3-85A8-A6CAE9FB193F}"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C01E87-9E96-48D5-A6AA-689991DEED14}"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51C61F-F54F-4AC1-B05D-C857B145BE59}"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90B6EE-8D55-4DCC-8812-481BFB69C7DB}"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558D55-454F-46C9-AFCB-1F43049C97BA}"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913ADB-6D2A-4A49-B978-A83EE0F0DB9C}"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3EBB64-4A86-4C74-9F2C-8359564B56CA}"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3D9D61-E4DC-4DC4-80EF-1E1F66CEA463}"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D4B1C7-5E0E-42B9-89A6-B5C414C67B84}"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4F1877-3E41-4E6B-80C8-6B2E189632A2}"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F9704B-456F-487B-8428-49257E1A9A72}"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8043CB2-5375-4F21-9CC4-B26D4F16E5ED}"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9CBA40-F9F4-46DA-AF94-922B487A882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572495-347B-4C10-A56A-C2E5C1D9177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6D0C02-62B4-4032-918C-EE3AC11E9F2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D774D3-6579-4870-ADB9-2009C100B94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41563A-E74F-43AD-AF65-A22CDB4401A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6F5D51-8A21-4636-AA7D-BDB0D8FBD20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ACD0C69-31C6-4F90-82C4-577B4CC3010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203973-DA2E-4424-9B43-9611F313889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87E85F-97DF-4C7F-ABD2-DFA005764A6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2777FF-8DEA-47D3-9ADE-4124232A0BB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576CD0-B247-4300-9325-8C7430E74E2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F1B932-39CB-4CFD-B80F-5653FC91ECA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A8AD41-CF76-4818-BDBC-978D4F958AF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DFBD9C-E849-45D5-8A09-8EE3DDF6822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7D7450-5B2E-4CDE-8B39-BA5F629896D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F135F1-536E-4A5B-AFAF-A1E7E70AB96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B20B36-6901-4289-A0A8-6F6BBA5782C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D41AD7-4135-4CD8-80BF-FC0D5ACA6A3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6C2F08-F7BE-43D7-BB1F-5662938EFBA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520305-2607-4FC7-90E4-80E6C174BE3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8BE1D3-12A0-43B2-AC27-64464969AB0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D45122-AD20-4F41-8BFC-26EA56479DB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253133-722F-4413-AFFB-65129E8A765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C9A528-101F-4523-AF0E-36AB93DEFD3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A35A94-9631-4DE3-A2AA-0F2F5E4EADC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74E743-B200-4B59-B831-EA045085849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11A43A-A5B9-4E1B-AFCB-A3DF2024929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68EBD1-2B8B-4FDC-8299-AD6A7CC1FDD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333DC0-E12D-4846-AFDA-17854E745CD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5E665F-F79F-421A-8314-CE79484D002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4FC25C-0630-4938-96CF-16B0D53B43E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C97217-227C-4F97-B1ED-7C4DBEE1421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1FD0B5-91D9-4FC4-8E7A-FA673F968A4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E93BFC-2ACE-4DA6-98A4-1ACE19ABA76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F087C0-7C57-4597-8596-9361B728966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793186-70A5-42F9-BE67-66622D8B152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705496-968E-4491-B5C7-F2552F1B4C4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6FDCE9-CAA7-4C75-B47F-3CCE35CB181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E9980A-C44A-40F5-B8DE-B4DC9E5FA01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49D08C-EB68-4193-99A3-B1DD7ED9DA3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88FF89-210A-4702-967D-B44436F4CAB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DC456E-FE23-4B02-94A7-4BEB9EBBD45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CCEA1A-6A53-4A17-A5DE-9D5FC3403AC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BAF3D0-5584-4400-9748-F915ABC4652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5EC88E-6F20-4265-BCEA-E8F457ACFE0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0E857F-636A-4863-82D0-E73D6F215D8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AA69E0-FAD2-4652-AF36-29CC71315CD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32887E5-38C8-4EEB-B759-1CD0CBB6542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2876B0-D842-4AB1-99FE-3ABF4C235C6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DE37BC-026C-49AA-BC30-CEB1D81C84A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770443-E46E-42E5-9715-C709C25DFB7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BEE61B-A7AA-4802-B694-AB85A4FA0E5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523DE4-C593-41C6-B58E-A7DA85A50D7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261A3C-0D58-4EC3-AAEE-01703CD4D66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0A2732-41B3-45BE-A343-D52B8CD4DD5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0FA263-DDB9-43E6-A587-8C3C9390C68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6AAB141-1B01-4374-A71F-7C59D2D78A4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C616C0-066A-4AF8-B2A5-D2C6C288A7F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9D1918-691C-458F-8FF2-583AE84768D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FF0FFC-E6DD-4259-8891-B79D43C5EA0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0D3571-BB95-4FC3-A37E-5308FB78766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C8019F-722B-4095-B9A0-0E12202A044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A23479-B091-43D3-8E4B-EC84C378D20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B9C706-A109-46BA-B0C7-66BC2730E90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C37573-F222-47FC-865D-0E6556E7102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63F8C4-420B-4024-A1EA-40702FAF375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D0C5A5-EF49-4DFA-AF2F-22440EFF632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37CC39-C31C-48CD-93AC-CD84FD6EA97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36B7E9-BA95-4C36-A282-587FEA46922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CF5897-B423-48A7-88EF-94629C1C7AD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3308D0-0BDB-4262-91D5-1ACD12E1DD2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65A934B-B406-4966-B567-F5B9A649149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728143-3F77-4F1E-B654-26CC834537A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8B1FB9-A306-493D-A167-066A32C5F29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DBB88D-1F00-4C02-B5C8-8161D4AA168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B79E90-10CD-41E4-93ED-229B412D5D3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DBE82A-589D-4AF9-A534-BD9CD08BCB5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8955E6-3421-4273-B678-BA3C36E2CAD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9B97C8-9A7D-490A-ABA8-C1937EFC4DF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1F3872-3947-47CB-8D2E-FEA1F2F3CCF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DB0A9B-BA97-4023-90E8-8C455493C5E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66350C-DBDF-4EE1-9737-410D1F5B6AE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352C3C-1795-4598-9C9C-650E89D9266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EBB8F2-02A5-4963-93B8-B43E108C539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463077-36E4-451A-A253-B13DA11EC9A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