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805724"/>
        <c:axId val="73777669"/>
      </c:barChart>
      <c:catAx>
        <c:axId val="458057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777669"/>
        <c:crosses val="autoZero"/>
        <c:auto val="1"/>
        <c:lblAlgn val="ctr"/>
        <c:lblOffset val="100"/>
        <c:noMultiLvlLbl val="0"/>
      </c:catAx>
      <c:valAx>
        <c:axId val="737776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8057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CA18-6B46-4123-BADC-735521307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E822-F35D-49FC-ABD3-46BC0421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4D90-486B-4801-95C3-48B69CA1A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B612-7E65-4AED-9814-01315F3FB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48E3-CFC6-4F10-82DA-62674DB4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3BAD-529F-4789-B64A-14D62B6C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6875-C660-41B2-9C2E-52FD2C02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4DD2-5DAB-45D6-8E62-E1C68111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E0F3-CF8C-4676-AAA6-35DECBAF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F828-25B9-4906-B7CC-404A0CF9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B998-DE41-4F2B-98CB-C516CF32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8ACF-BDAE-49D8-86B9-DA004EA5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31E3BC-01FF-4F1F-A869-9B3E4A64B2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