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01494"/>
        <c:axId val="41711393"/>
      </c:barChart>
      <c:catAx>
        <c:axId val="74401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11393"/>
        <c:crosses val="autoZero"/>
        <c:auto val="1"/>
        <c:lblAlgn val="ctr"/>
        <c:lblOffset val="100"/>
        <c:noMultiLvlLbl val="0"/>
      </c:catAx>
      <c:valAx>
        <c:axId val="41711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01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D16-53F6-465A-AA5C-5C513DEB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716-3A53-4CE3-B62A-9DE04B17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A78-AFEF-49A0-B2AD-D2FDD797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B6C-08BF-4C82-A0C4-592A74ED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E48-2527-47D4-A5D8-96D8921B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62F9-55E4-4EFC-82D4-19345694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A238-E9B0-451D-B07A-8D4F98A0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499-CDF2-415A-BBC8-6B48AC09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700C-6DBD-4213-88A8-51C31B7E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C8D-4C60-45A1-8FA1-545A4437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19E-CD70-41BA-9679-70AEDC68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546-1BA2-4F13-800A-85F40660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05A70-3CCE-4A4E-B619-5472013BBB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