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18999"/>
        <c:axId val="43825395"/>
      </c:barChart>
      <c:catAx>
        <c:axId val="707189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25395"/>
        <c:crosses val="autoZero"/>
        <c:auto val="1"/>
        <c:lblAlgn val="ctr"/>
        <c:lblOffset val="100"/>
        <c:noMultiLvlLbl val="0"/>
      </c:catAx>
      <c:valAx>
        <c:axId val="438253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189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BF0-7C76-4811-8D35-6246BDE6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6FDF-EE53-456B-9AF4-5A3F7A5E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8FA-5880-4316-8EDA-7CC88AE6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F0EF-E680-4CD4-8C6E-A3EE43E9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BCF6-BECC-49D9-83D1-DC6C8F8A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86B-F509-4BBE-BF05-6C891BC3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A833-0B6D-4081-8D48-2C36B921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0338-8AEC-47A5-8698-DFF0D6A7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B2B-570A-4009-9AE9-F28F9FEC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9FE-CCFC-43F7-86A1-33594B30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68C-CA41-41F4-BD53-7F771BF2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EFB0-3E91-4CBB-9A92-B8FF1DCD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9F447-0F56-46E9-95AF-1CD6AB603F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