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5D0DAD-E82A-46E9-8551-8F325E0A35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7FC50-040B-4CAB-8383-36D55C60F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4667B1-A217-417F-83A5-1711962CE1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21651A-99FA-4446-934E-F624CDDC6C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D535B-FBCD-48EC-943B-A25A80BE7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E832699-D803-4A76-A2EC-9C759530626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884FF21-5CEA-4F8E-AD8C-908FC61F828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3A8D411-518A-4BC3-80BF-C92B783C234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35E4C08-8AF3-4D1C-BF7C-2F33958E2B1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614DC8F9-1931-4037-9F44-5095467BEE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DB782-2E7C-4C10-8A7C-5B991C239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FDC822BD-6086-4CC1-BEE8-79E44F51BDA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5465D9A-600D-4A2F-9F61-753A68F9ECA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471B3D9-41F8-4FE5-9732-8DB50B5590F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432E791-8C28-466C-9683-F2805678F55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5042590-6F04-41AE-B792-74B36F84003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D952B762-ECA0-4D4A-A459-004DE0FBFA3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073A6FC-AF68-4A41-B9C7-95ACA23243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E8F28-6E49-4E51-ADF0-2FDA46842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A40EB-9EA4-4D6F-9568-836672FE7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42EC6-5BAF-4F26-8C2D-696F3D3B6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F074F-4103-4436-8851-7E251756C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215A6-C4E6-4E63-9C2F-80D0923CA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CA70E-92FE-4B67-9E2F-F95E213FCF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7CC4F-2938-4411-9032-718076213142}"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52D34-5E89-45A1-8D86-8458F5C6229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063A5-FC39-4FDB-81FD-0C18DCEEE17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2" name="Grafik 6" descr="agena.png"/>
          <p:cNvPicPr/>
          <p:nvPr/>
        </p:nvPicPr>
        <p:blipFill>
          <a:blip r:embed="rId1"/>
          <a:stretch/>
        </p:blipFill>
        <p:spPr>
          <a:xfrm>
            <a:off x="6966000" y="1655640"/>
            <a:ext cx="304920" cy="304920"/>
          </a:xfrm>
          <a:prstGeom prst="rect">
            <a:avLst/>
          </a:prstGeom>
          <a:ln w="0">
            <a:noFill/>
          </a:ln>
        </p:spPr>
      </p:pic>
      <p:pic>
        <p:nvPicPr>
          <p:cNvPr id="153"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5"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B2730-07DB-4223-ADE5-E5CFE2A879D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7"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CBAD6-0217-491A-89DB-F7F58B806C1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prin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59FC1-C818-420C-B3B9-B38EF119638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to the name c, and you can refer to this number through the name c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c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ls statement clears the screen, restart clears all values, and bye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F7EF5-C8BD-4FCF-9020-4CF019E0434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9"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null or use clear:</a:t>
            </a:r>
            <a:endParaRPr b="0" lang="en-US" sz="2000" spc="-1" strike="noStrike">
              <a:solidFill>
                <a:srgbClr val="000000"/>
              </a:solidFill>
              <a:latin typeface="Calibri"/>
            </a:endParaRPr>
          </a:p>
        </p:txBody>
      </p:sp>
      <p:sp>
        <p:nvSpPr>
          <p:cNvPr id="1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A9052-84E1-48A4-B25B-ADDC37A986C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4"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2" descr=""/>
          <p:cNvPicPr/>
          <p:nvPr/>
        </p:nvPicPr>
        <p:blipFill>
          <a:blip r:embed="rId1"/>
          <a:stretch/>
        </p:blipFill>
        <p:spPr>
          <a:xfrm>
            <a:off x="2805120" y="2357280"/>
            <a:ext cx="3533760" cy="667080"/>
          </a:xfrm>
          <a:prstGeom prst="rect">
            <a:avLst/>
          </a:prstGeom>
          <a:ln w="0">
            <a:noFill/>
          </a:ln>
        </p:spPr>
      </p:pic>
      <p:sp>
        <p:nvSpPr>
          <p:cNvPr id="17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BAF3A-CB72-4102-9D7C-6FA2F57B2D2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3"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4"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5"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8576A-40F9-4379-8B86-91D7E28917F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1"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92"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4E396-AD8C-45FF-8B45-424E9EDB1B5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6"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7"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Raspberry Pi,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24FC1-A912-4EAA-A801-FB85E04E389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9BE02-C163-4E1A-B558-CE4B4D522A2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202"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3"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136CB-FFE6-4347-B563-420CBEAFB28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8"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ED38B-8D04-400B-853D-BBAD16DEAE7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true and false, also called `booleans`.  A third Boolean constant named fail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 &lt; b,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952E0-4293-43C0-AC30-BED420AE3A5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2786040" y="350028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956E9-163E-4631-9BC6-332828D9E15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20" name=""/>
          <p:cNvGraphicFramePr/>
          <p:nvPr/>
        </p:nvGraphicFramePr>
        <p:xfrm>
          <a:off x="8269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21"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graphicFrame>
        <p:nvGraphicFramePr>
          <p:cNvPr id="222" name=""/>
          <p:cNvGraphicFramePr/>
          <p:nvPr/>
        </p:nvGraphicFramePr>
        <p:xfrm>
          <a:off x="4816440" y="2146320"/>
          <a:ext cx="3643200" cy="1112760"/>
        </p:xfrm>
        <a:graphic>
          <a:graphicData uri="http://schemas.openxmlformats.org/drawingml/2006/table">
            <a:tbl>
              <a:tblPr/>
              <a:tblGrid>
                <a:gridCol w="2452680"/>
                <a:gridCol w="11905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8356D-549D-4ACE-B117-224BEE4E5CF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7"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67FAF-76C2-4D70-BFE6-3F64951018A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32"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33"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85AA5-4CD7-4640-B8B0-9C4139C6D5D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8"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9"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quoted keys and tildes, or with unquotes names and =.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8D101-5601-4DEE-A195-7D672E501A3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4"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5"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2000" spc="-1" strike="noStrike">
                <a:solidFill>
                  <a:srgbClr val="000000"/>
                </a:solidFill>
                <a:latin typeface="Arial"/>
                <a:ea typeface="Arial"/>
              </a:rPr>
              <a:t>null.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donald' is part of the set s,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12792-525E-422F-A15A-A28822C574F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50"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868DC-DB41-4744-B756-8CDCDA219F1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insert and delete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6AF9C-7D04-43E9-A855-52076DF042B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5"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nu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72A9F-E07D-40D9-A1FF-BA65FCA2B48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60"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1"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null, or by applying delete.</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0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15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9781F-0469-4F14-83A6-2CC91F8AE70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6" name="Rechteck 5"/>
          <p:cNvSpPr/>
          <p:nvPr/>
        </p:nvSpPr>
        <p:spPr>
          <a:xfrm>
            <a:off x="928800" y="386064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FE8BB-3DA9-4204-934F-35D51E7CFB4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71"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72"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07BD6-647D-442B-903B-8A4191B86A2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7"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null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831A7-2EF5-4B49-8E1F-5704F202853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82"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83"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Picture 2" descr=""/>
          <p:cNvPicPr/>
          <p:nvPr/>
        </p:nvPicPr>
        <p:blipFill>
          <a:blip r:embed="rId1"/>
          <a:stretch/>
        </p:blipFill>
        <p:spPr>
          <a:xfrm>
            <a:off x="2805120" y="2357280"/>
            <a:ext cx="3533760" cy="667080"/>
          </a:xfrm>
          <a:prstGeom prst="rect">
            <a:avLst/>
          </a:prstGeom>
          <a:ln w="0">
            <a:noFill/>
          </a:ln>
        </p:spPr>
      </p:pic>
      <p:sp>
        <p:nvSpPr>
          <p:cNvPr id="28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if statement. The elif and else clauses are optional. The closing fi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f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B45F9-19EC-45AA-A9B0-BFB45D50B6B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92"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1</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ase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CD880-D3E4-4C4F-B011-F12F977824D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357280"/>
            <a:ext cx="7572240" cy="3016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1 then        # one value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0, 1 then      # multiple values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2 to infinity  # a r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non-negative, to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2</a:t>
            </a:r>
            <a:endParaRPr b="0" lang="en-US" sz="2800" spc="-1" strike="noStrike">
              <a:solidFill>
                <a:srgbClr val="000000"/>
              </a:solidFill>
              <a:latin typeface="Calibri"/>
            </a:endParaRPr>
          </a:p>
        </p:txBody>
      </p:sp>
      <p:sp>
        <p:nvSpPr>
          <p:cNvPr id="29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variant works like the if statement and may improve readability of cod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2ECFE-E422-492C-9C58-58EDFEAF7A6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Rechteck 4"/>
          <p:cNvSpPr/>
          <p:nvPr/>
        </p:nvSpPr>
        <p:spPr>
          <a:xfrm>
            <a:off x="928800" y="2357280"/>
            <a:ext cx="7572240" cy="1863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a:t>
            </a:r>
            <a:br>
              <a:rPr sz="1400"/>
            </a:br>
            <a:r>
              <a:rPr b="0" lang="en-US" sz="1400" spc="-1" strike="noStrike">
                <a:solidFill>
                  <a:srgbClr val="000000"/>
                </a:solidFill>
                <a:latin typeface="Courier New"/>
                <a:ea typeface="Courier New"/>
              </a:rPr>
              <a:t>&gt;    of x &lt; 0 then return -1</a:t>
            </a:r>
            <a:br>
              <a:rPr sz="1400"/>
            </a:br>
            <a:r>
              <a:rPr b="0" lang="en-US" sz="1400" spc="-1" strike="noStrike">
                <a:solidFill>
                  <a:srgbClr val="000000"/>
                </a:solidFill>
                <a:latin typeface="Courier New"/>
                <a:ea typeface="Courier New"/>
              </a:rPr>
              <a:t>&gt;    of x = 0 then return 0  </a:t>
            </a:r>
            <a:br>
              <a:rPr sz="1400"/>
            </a:br>
            <a:r>
              <a:rPr b="0" lang="en-US" sz="1400" spc="-1" strike="noStrike">
                <a:solidFill>
                  <a:srgbClr val="000000"/>
                </a:solidFill>
                <a:latin typeface="Courier New"/>
                <a:ea typeface="Courier New"/>
              </a:rPr>
              <a:t>&gt;    else return 1  </a:t>
            </a:r>
            <a:br>
              <a:rPr sz="1400"/>
            </a:br>
            <a:r>
              <a:rPr b="0" lang="en-US" sz="1400" spc="-1" strike="noStrike">
                <a:solidFill>
                  <a:srgbClr val="000000"/>
                </a:solidFill>
                <a:latin typeface="Courier New"/>
                <a:ea typeface="Courier New"/>
              </a:rPr>
              <a:t>&gt; esac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472B7-8FF9-4723-AD98-B31617C4152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AFC76-5520-46D1-8052-EE031857E23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0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2" descr=""/>
          <p:cNvPicPr/>
          <p:nvPr/>
        </p:nvPicPr>
        <p:blipFill>
          <a:blip r:embed="rId1"/>
          <a:stretch/>
        </p:blipFill>
        <p:spPr>
          <a:xfrm>
            <a:off x="2805120" y="2357280"/>
            <a:ext cx="3533760" cy="667080"/>
          </a:xfrm>
          <a:prstGeom prst="rect">
            <a:avLst/>
          </a:prstGeom>
          <a:ln w="0">
            <a:noFill/>
          </a:ln>
        </p:spPr>
      </p:pic>
      <p:sp>
        <p:nvSpPr>
          <p:cNvPr id="30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i in this example) which can be used in the loop body.</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40C7E-7595-4E18-991C-9EF8A65E219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4325760"/>
            <a:ext cx="7572240" cy="151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from and step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from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step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C1AF6-7109-41A3-ACD7-1038F0544AB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D7101-63E5-46D9-80F7-7509B0E06D3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22"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in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84254-8616-49C2-A2EF-B9D63157AE1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64B49-EC68-445A-9F6B-A06E05AD8CD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000" spc="-1" strike="noStrike">
                <a:solidFill>
                  <a:srgbClr val="000000"/>
                </a:solidFill>
                <a:latin typeface="Arial"/>
                <a:ea typeface="Arial"/>
              </a:rPr>
              <a:t>condition remains tru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D64C3-E046-4F7C-9A2C-1F7A81EFF71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while are the do .. as and do .. until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while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1B73A-3666-415F-83F3-1844E995EA4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5D5E7-907E-4319-8582-70100168273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66A82-60D1-4D26-A98E-CE3AD20A225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59A90-9BBF-445E-BB41-8F76386A35B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until or as condition.</a:t>
            </a: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76CFC-E954-443B-9FEB-3385EA09635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break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A5050-D622-4219-A0BA-E81E00ED515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40514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kip and 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when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EDF45-3F82-4A42-8503-107260EE31F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do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48AB2-6BB8-4494-B067-1E79A3D9C88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launch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DAA80-444F-49D1-83C2-2E1E152E306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6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7" name="Picture 2" descr=""/>
          <p:cNvPicPr/>
          <p:nvPr/>
        </p:nvPicPr>
        <p:blipFill>
          <a:blip r:embed="rId1"/>
          <a:stretch/>
        </p:blipFill>
        <p:spPr>
          <a:xfrm>
            <a:off x="2805120" y="2357280"/>
            <a:ext cx="3533760" cy="667080"/>
          </a:xfrm>
          <a:prstGeom prst="rect">
            <a:avLst/>
          </a:prstGeom>
          <a:ln w="0">
            <a:noFill/>
          </a:ln>
        </p:spPr>
      </p:pic>
      <p:sp>
        <p:nvSpPr>
          <p:cNvPr id="36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1DDEB-2D06-4252-9599-D11ED8D710D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73"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turn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CD44C-DF15-4C08-881D-3E2D2FBC920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228E2-2EEE-4105-B7E5-10A5273D51D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unctions as Binary Operato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bject-Oriented Programm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ith and related Statements on Dictionaries</a:t>
            </a: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2554A-E10C-41E0-832A-BF3453CCD60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rargs system table contains all variable arguments passed with the ?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nargs contains the number of arguments passed (both with the ?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DF44E-8CBF-477D-8A0D-383EA7BAF8D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876BE-0488-421C-9D18-C659B6F127B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E59DF-681C-4F47-89A1-1058DAA66B3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CFF07-60D6-45F2-A5A6-546004FD416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Rechteck 4"/>
          <p:cNvSpPr/>
          <p:nvPr/>
        </p:nvSpPr>
        <p:spPr>
          <a:xfrm>
            <a:off x="898560" y="26557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 or :- (the negation) operat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4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3D44B-C1DD-43EE-8417-0143312CAE5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 number then error('no number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402"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40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40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42711-98DF-4837-AFE3-6DBF5C404C4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407"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16A71-37FC-4DF3-B424-3C278330CE6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rtable.defaults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38E0C-2B7F-4655-BA27-8DA83D5ABE8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defaults and remember check the manual (Chapter 7.23). Chapter 6.18.1 describes the feature</a:t>
            </a:r>
            <a:r>
              <a:rPr b="0" lang="en-GB" sz="1800" spc="-1" strike="noStrike">
                <a:solidFill>
                  <a:srgbClr val="000000"/>
                </a:solidFill>
                <a:latin typeface="Courier New"/>
                <a:ea typeface="Courier New"/>
              </a:rPr>
              <a:t> </a:t>
            </a:r>
            <a:r>
              <a:rPr b="0" lang="en-GB" sz="2000" spc="-1" strike="noStrike">
                <a:solidFill>
                  <a:srgbClr val="000000"/>
                </a:solidFill>
                <a:latin typeface="Arial"/>
                <a:ea typeface="Arial"/>
              </a:rPr>
              <a:t>reminisce shortcut.</a:t>
            </a: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9D7E1-7529-4085-8C99-60A9702E433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unctions as Binary Operators</a:t>
            </a:r>
            <a:endParaRPr b="0" lang="en-US" sz="2800" spc="-1" strike="noStrike">
              <a:solidFill>
                <a:srgbClr val="000000"/>
              </a:solidFill>
              <a:latin typeface="Calibri"/>
            </a:endParaRPr>
          </a:p>
        </p:txBody>
      </p:sp>
      <p:sp>
        <p:nvSpPr>
          <p:cNvPr id="42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n ordinary function of two arguments can be called just like a binary operator.</a:t>
            </a:r>
            <a:endParaRPr b="0" lang="en-US" sz="20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n using a function this way, it has always the highest prece-de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E0AC4-1F01-4E39-AE00-5CB4A4F63B0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Rechteck 4"/>
          <p:cNvSpPr/>
          <p:nvPr/>
        </p:nvSpPr>
        <p:spPr>
          <a:xfrm>
            <a:off x="928800" y="2400480"/>
            <a:ext cx="7572240" cy="1152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lus := proc(x, y) is return x + y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plus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5</a:t>
            </a:r>
            <a:endParaRPr b="0" lang="en-US" sz="28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p:txBody>
      </p:sp>
      <p:sp>
        <p:nvSpPr>
          <p:cNvPr id="14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90830-A923-409A-A6BB-9805240A483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1</a:t>
            </a:r>
            <a:endParaRPr b="0" lang="en-US" sz="2800" spc="-1" strike="noStrike">
              <a:solidFill>
                <a:srgbClr val="000000"/>
              </a:solidFill>
              <a:latin typeface="Calibri"/>
            </a:endParaRPr>
          </a:p>
        </p:txBody>
      </p:sp>
      <p:sp>
        <p:nvSpPr>
          <p:cNvPr id="4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ethods for tables can be implemented OOP-style using the @@ syntax:</a:t>
            </a:r>
            <a:endParaRPr b="0" lang="en-US" sz="2000" spc="-1" strike="noStrike">
              <a:solidFill>
                <a:srgbClr val="000000"/>
              </a:solidFill>
              <a:latin typeface="Calibri"/>
            </a:endParaRPr>
          </a:p>
        </p:txBody>
      </p:sp>
      <p:sp>
        <p:nvSpPr>
          <p:cNvPr id="4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C811B-97BD-4FA2-880A-FE34597F0E5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Rechteck 4"/>
          <p:cNvSpPr/>
          <p:nvPr/>
        </p:nvSpPr>
        <p:spPr>
          <a:xfrm>
            <a:off x="928800" y="2349360"/>
            <a:ext cx="7572240" cy="3240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 := ['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Courier New"/>
                <a:ea typeface="Courier New"/>
              </a:rPr>
              <a:t>&gt; proc account@@deposit(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n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br>
              <a:rPr sz="1400"/>
            </a:br>
            <a:br>
              <a:rPr sz="1400"/>
            </a:br>
            <a:r>
              <a:rPr b="0" lang="en-US" sz="1400" spc="-1" strike="noStrike">
                <a:solidFill>
                  <a:srgbClr val="000000"/>
                </a:solidFill>
                <a:latin typeface="Courier New"/>
                <a:ea typeface="Courier New"/>
              </a:rPr>
              <a:t>&gt; account@@deposi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00</a:t>
            </a:r>
            <a:br>
              <a:rPr sz="1400"/>
            </a:br>
            <a:br>
              <a:rPr sz="1400"/>
            </a:br>
            <a:r>
              <a:rPr b="0" lang="en-US" sz="1400" spc="-1" strike="noStrike">
                <a:solidFill>
                  <a:srgbClr val="000000"/>
                </a:solidFill>
                <a:latin typeface="Courier New"/>
                <a:ea typeface="Courier New"/>
              </a:rPr>
              <a:t>&gt; proc 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2</a:t>
            </a:r>
            <a:endParaRPr b="0" lang="en-US" sz="2800" spc="-1" strike="noStrike">
              <a:solidFill>
                <a:srgbClr val="000000"/>
              </a:solidFill>
              <a:latin typeface="Calibri"/>
            </a:endParaRPr>
          </a:p>
        </p:txBody>
      </p:sp>
      <p:sp>
        <p:nvSpPr>
          <p:cNvPr id="42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constructor that created new accounts:</a:t>
            </a:r>
            <a:endParaRPr b="0" lang="en-US" sz="2000" spc="-1" strike="noStrike">
              <a:solidFill>
                <a:srgbClr val="000000"/>
              </a:solidFill>
              <a:latin typeface="Calibri"/>
            </a:endParaRPr>
          </a:p>
        </p:txBody>
      </p:sp>
      <p:sp>
        <p:nvSpPr>
          <p:cNvPr id="4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A0AF4-64BD-47D3-B57F-C72462AD305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Rechteck 4"/>
          <p:cNvSpPr/>
          <p:nvPr/>
        </p:nvSpPr>
        <p:spPr>
          <a:xfrm>
            <a:off x="928800" y="2027160"/>
            <a:ext cx="7572240" cy="2338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account@@new(o)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tmetatable(o,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lf.__index :=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 := account@@new(['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3</a:t>
            </a:r>
            <a:endParaRPr b="0" lang="en-US" sz="2800" spc="-1" strike="noStrike">
              <a:solidFill>
                <a:srgbClr val="000000"/>
              </a:solidFill>
              <a:latin typeface="Calibri"/>
            </a:endParaRPr>
          </a:p>
        </p:txBody>
      </p:sp>
      <p:sp>
        <p:nvSpPr>
          <p:cNvPr id="43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heritance: here we define a new account class based on the one defined above that does not allow overdrafts.</a:t>
            </a:r>
            <a:br>
              <a:rPr sz="2000"/>
            </a:br>
            <a:br>
              <a:rPr sz="2000"/>
            </a:br>
            <a:br>
              <a:rPr sz="2000"/>
            </a:br>
            <a:br>
              <a:rPr sz="2000"/>
            </a:br>
            <a:br>
              <a:rPr sz="2000"/>
            </a:br>
            <a:br>
              <a:rPr sz="2000"/>
            </a:br>
            <a:br>
              <a:rPr sz="2000"/>
            </a:br>
            <a:br>
              <a:rPr sz="1100"/>
            </a:br>
            <a:br>
              <a:rPr sz="1100"/>
            </a:b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more information, please check Chapter 6.24 of the Primer and Reference.</a:t>
            </a:r>
            <a:endParaRPr b="0" lang="en-US" sz="2000" spc="-1" strike="noStrike">
              <a:solidFill>
                <a:srgbClr val="000000"/>
              </a:solidFill>
              <a:latin typeface="Calibri"/>
            </a:endParaRPr>
          </a:p>
        </p:txBody>
      </p:sp>
      <p:sp>
        <p:nvSpPr>
          <p:cNvPr id="43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8653F-253F-425F-AB62-3074345075F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Rechteck 4"/>
          <p:cNvSpPr/>
          <p:nvPr/>
        </p:nvSpPr>
        <p:spPr>
          <a:xfrm>
            <a:off x="928800" y="2349360"/>
            <a:ext cx="7572240" cy="2808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reditaccount := 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credit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gt; self.balance then error('Error, not enough credi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elf.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 := credit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withdraw(1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not enough credi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1</a:t>
            </a:r>
            <a:endParaRPr b="0" lang="en-US" sz="2800" spc="-1" strike="noStrike">
              <a:solidFill>
                <a:srgbClr val="000000"/>
              </a:solidFill>
              <a:latin typeface="Calibri"/>
            </a:endParaRPr>
          </a:p>
        </p:txBody>
      </p:sp>
      <p:sp>
        <p:nvSpPr>
          <p:cNvPr id="4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9300E-E09E-4B60-BE56-4378A58FDD8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Rechteck 4"/>
          <p:cNvSpPr/>
          <p:nvPr/>
        </p:nvSpPr>
        <p:spPr>
          <a:xfrm>
            <a:off x="928800" y="293688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210, bonn = 53111, cologne = 5066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with duedo, bonn in zips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duedo, bonn, colog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 null  # zips.duedo is not chang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1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due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 in zips; # equals duedo, bonn := zips.duedo, zips.bonn</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2</a:t>
            </a:r>
            <a:endParaRPr b="0" lang="en-US" sz="2800" spc="-1" strike="noStrike">
              <a:solidFill>
                <a:srgbClr val="000000"/>
              </a:solidFill>
              <a:latin typeface="Calibri"/>
            </a:endParaRPr>
          </a:p>
        </p:txBody>
      </p:sp>
      <p:sp>
        <p:nvSpPr>
          <p:cNvPr id="4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lavour of the with statement allows to reference an entry by just an underscore. It also allows to actively change values in the table.</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5850F-11F6-49AC-B3CF-E5C48322122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Rechteck 4"/>
          <p:cNvSpPr/>
          <p:nvPr/>
        </p:nvSpPr>
        <p:spPr>
          <a:xfrm>
            <a:off x="928800" y="2382840"/>
            <a:ext cx="7572240" cy="2414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00, bonn = 5300]</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gt; with zips do  </a:t>
            </a:r>
            <a:br>
              <a:rPr sz="1400"/>
            </a:br>
            <a:r>
              <a:rPr b="0" lang="en-US" sz="1400" spc="-1" strike="noStrike">
                <a:solidFill>
                  <a:srgbClr val="000000"/>
                </a:solidFill>
                <a:latin typeface="Courier New"/>
                <a:ea typeface="Courier New"/>
              </a:rPr>
              <a:t>&gt;    print(_.bonn);  </a:t>
            </a:r>
            <a:br>
              <a:rPr sz="1400"/>
            </a:br>
            <a:r>
              <a:rPr b="0" lang="en-US" sz="1400" spc="-1" strike="noStrike">
                <a:solidFill>
                  <a:srgbClr val="000000"/>
                </a:solidFill>
                <a:latin typeface="Courier New"/>
                <a:ea typeface="Courier New"/>
              </a:rPr>
              <a:t>&gt;    _.bonn := 53111  </a:t>
            </a:r>
            <a:br>
              <a:rPr sz="1400"/>
            </a:br>
            <a:r>
              <a:rPr b="0" lang="en-US" sz="1400" spc="-1" strike="noStrike">
                <a:solidFill>
                  <a:srgbClr val="000000"/>
                </a:solidFill>
                <a:latin typeface="Courier New"/>
                <a:ea typeface="Courier New"/>
              </a:rPr>
              <a:t>&gt; od  </a:t>
            </a:r>
            <a:br>
              <a:rPr sz="1400"/>
            </a:br>
            <a:r>
              <a:rPr b="0" lang="en-US" sz="1400" spc="-1" strike="noStrike">
                <a:solidFill>
                  <a:srgbClr val="000000"/>
                </a:solidFill>
                <a:latin typeface="Courier New"/>
                <a:ea typeface="Courier New"/>
              </a:rPr>
              <a:t>5300  </a:t>
            </a:r>
            <a:br>
              <a:rPr sz="1400"/>
            </a:br>
            <a:br>
              <a:rPr sz="1400"/>
            </a:br>
            <a:r>
              <a:rPr b="0" lang="en-US" sz="1400" spc="-1" strike="noStrike">
                <a:solidFill>
                  <a:srgbClr val="000000"/>
                </a:solidFill>
                <a:latin typeface="Courier New"/>
                <a:ea typeface="Courier New"/>
              </a:rPr>
              <a:t>&gt; zips:  </a:t>
            </a:r>
            <a:br>
              <a:rPr sz="1400"/>
            </a:br>
            <a:r>
              <a:rPr b="0" lang="en-US" sz="1400" spc="-1" strike="noStrike">
                <a:solidFill>
                  <a:srgbClr val="000000"/>
                </a:solidFill>
                <a:latin typeface="Courier New"/>
                <a:ea typeface="Courier New"/>
              </a:rPr>
              <a:t>[bonn ~ 53111, duedo ~ 4000]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4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6" name="Picture 2" descr=""/>
          <p:cNvPicPr/>
          <p:nvPr/>
        </p:nvPicPr>
        <p:blipFill>
          <a:blip r:embed="rId1"/>
          <a:stretch/>
        </p:blipFill>
        <p:spPr>
          <a:xfrm>
            <a:off x="2805120" y="2357280"/>
            <a:ext cx="3533760" cy="667080"/>
          </a:xfrm>
          <a:prstGeom prst="rect">
            <a:avLst/>
          </a:prstGeom>
          <a:ln w="0">
            <a:noFill/>
          </a:ln>
        </p:spPr>
      </p:pic>
      <p:sp>
        <p:nvSpPr>
          <p:cNvPr id="44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4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ne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run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map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2000" spc="-1" strike="noStrike">
                <a:solidFill>
                  <a:srgbClr val="000000"/>
                </a:solidFill>
                <a:latin typeface="Arial"/>
                <a:ea typeface="Arial"/>
              </a:rPr>
              <a:t>countitems, remove, select, subs, and 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gena.ini file (Windows, OS/2, DOS) or .agenainit (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5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E8FA9-9E4D-4288-B39A-D49DFF01AF1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52"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save function to be read into another session later by read.</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xml package or the utils.readcsv and utils.readxml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protec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6C455-CDFC-40DB-9F20-9A200B4DC71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5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6" name="Picture 2" descr=""/>
          <p:cNvPicPr/>
          <p:nvPr/>
        </p:nvPicPr>
        <p:blipFill>
          <a:blip r:embed="rId1"/>
          <a:stretch/>
        </p:blipFill>
        <p:spPr>
          <a:xfrm>
            <a:off x="2805120" y="2357280"/>
            <a:ext cx="3533760" cy="667080"/>
          </a:xfrm>
          <a:prstGeom prst="rect">
            <a:avLst/>
          </a:prstGeom>
          <a:ln w="0">
            <a:noFill/>
          </a:ln>
        </p:spPr>
      </p:pic>
      <p:sp>
        <p:nvSpPr>
          <p:cNvPr id="45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87F21-50D8-4612-A6CE-85FD4C7C33E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1"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 n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 n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lt;&lt;&lt; &gt;&gt;&gt; &lt;&lt;&lt;&lt; &gt;&gt;&gt;&gt; &amp;&amp; *%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2805120" y="2357280"/>
            <a:ext cx="3533760" cy="667080"/>
          </a:xfrm>
          <a:prstGeom prst="rect">
            <a:avLst/>
          </a:prstGeom>
          <a:ln w="0">
            <a:noFill/>
          </a:ln>
        </p:spPr>
      </p:pic>
      <p:sp>
        <p:nvSpPr>
          <p:cNvPr id="145"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impor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85E62-D9A4-467C-835A-0B0EB136762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5"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DB56A-11FA-4B65-86D6-4D18E9888D2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9"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 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arr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ic C arr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F4165-DAE1-4EB9-9572-92F98A5079C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2" name=""/>
          <p:cNvGraphicFramePr/>
          <p:nvPr/>
        </p:nvGraphicFramePr>
        <p:xfrm>
          <a:off x="900000" y="1727280"/>
          <a:ext cx="7858080" cy="439416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access the 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to list, read, and extract UNIX tar arch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4</a:t>
            </a:r>
            <a:endParaRPr b="0" lang="en-US" sz="2800" spc="-1" strike="noStrike">
              <a:solidFill>
                <a:srgbClr val="000000"/>
              </a:solidFill>
              <a:latin typeface="Calibri"/>
            </a:endParaRPr>
          </a:p>
        </p:txBody>
      </p:sp>
      <p:sp>
        <p:nvSpPr>
          <p:cNvPr id="47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5B2C4-E970-48D6-AFD9-6B30ED53863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5" name=""/>
          <p:cNvGraphicFramePr/>
          <p:nvPr/>
        </p:nvGraphicFramePr>
        <p:xfrm>
          <a:off x="900000" y="1727280"/>
          <a:ext cx="7858080" cy="109692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8E2D5-2E8D-408E-94F0-9105229CC4B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9"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604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um:</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sourceforge.net/projects/agena/forum</a:t>
            </a:r>
            <a:endParaRPr b="0" lang="en-US" sz="2000" spc="-1" strike="noStrike">
              <a:solidFill>
                <a:srgbClr val="000000"/>
              </a:solidFill>
              <a:latin typeface="Calibri"/>
            </a:endParaRPr>
          </a:p>
        </p:txBody>
      </p:sp>
      <p:sp>
        <p:nvSpPr>
          <p:cNvPr id="4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EEAE9-FDD2-417C-9C34-0106F245226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83" name="Picture 2" descr="Manual"/>
          <p:cNvPicPr/>
          <p:nvPr/>
        </p:nvPicPr>
        <p:blipFill>
          <a:blip r:embed="rId1"/>
          <a:stretch/>
        </p:blipFill>
        <p:spPr>
          <a:xfrm>
            <a:off x="6143760" y="1643040"/>
            <a:ext cx="2857320" cy="2143080"/>
          </a:xfrm>
          <a:prstGeom prst="rect">
            <a:avLst/>
          </a:prstGeom>
          <a:ln w="0">
            <a:noFill/>
          </a:ln>
        </p:spPr>
      </p:pic>
      <p:pic>
        <p:nvPicPr>
          <p:cNvPr id="484"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19B00-86B9-48D3-A616-458022D8430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5-11-05T15:40:49Z</dcterms:modified>
  <cp:revision>555</cp:revision>
  <dc:subject/>
  <dc:title>Agena Language Summary</dc:title>
</cp:coreProperties>
</file>