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0778E-25AF-4589-984A-68DD407F9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330A4-5939-444E-8AA4-DC4EF509F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E786-95C5-45B7-9083-9C1A5C4CE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46F23-C715-4C9C-906A-AB5163F00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D2DBA-3CD1-45FD-BEE5-2993272D8A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DE8E44-1A89-449F-9EB3-F546B46F88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E14FFD74-8FC8-403D-9870-5B29E09B8A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6696FA2A-2C9F-4538-AF44-CBAA7F5F55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7FA659C7-66E0-47A7-AB3D-7A507F6D64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F937E3E6-A422-46DA-9B3D-33AE219ED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D0E42-2151-436A-84D6-459451FE1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994CB277-3667-4637-964A-4E86DC7BFF8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6628BBF9-CE75-49B4-A89F-F392F96FAFF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86AA28DB-0F61-4B67-9268-971C007FCA3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C5B09AA2-57C8-4E64-A87F-B7A189BEFD0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86A17FE5-39D3-41E3-97A6-55B3C474A06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929399E1-8FE3-480D-BDEE-44BBE9A172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9C144E3E-B0F7-40D9-8852-D5C9AA77CF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5E17F-3230-46B2-9A11-B9E723BC7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807CD-3C4C-424D-A41F-DF24ECDA6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8EA2-BE75-4808-90E5-0BA6CE0D3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43DC-D92A-4FC7-AEA6-77E85F69D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F5C9-1C7B-41CF-BB11-7BC5AFDE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41A26-4A10-496B-83BE-2FBE3D04D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D27F21DE-1167-422C-AA45-9A13BFFC052B}"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F0284B67-BF8E-4A0A-AD51-85E7D71D5F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8A31806-7B32-4322-94A7-3ACB5D0BC0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55"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 A3 of the Primer and Reference.</a:t>
            </a:r>
            <a:endParaRPr b="0" lang="en-US" sz="2200" spc="-1" strike="noStrike">
              <a:solidFill>
                <a:srgbClr val="000000"/>
              </a:solidFill>
              <a:latin typeface="Calibri"/>
            </a:endParaRPr>
          </a:p>
        </p:txBody>
      </p:sp>
      <p:sp>
        <p:nvSpPr>
          <p:cNvPr id="5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B3476F-4CF8-4EFC-A5FB-F54236DADB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7"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97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D942FE-F30B-48D6-B105-FD5AEFC0F4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61" name="Picture 2" descr="Manual"/>
          <p:cNvPicPr/>
          <p:nvPr/>
        </p:nvPicPr>
        <p:blipFill>
          <a:blip r:embed="rId1"/>
          <a:stretch/>
        </p:blipFill>
        <p:spPr>
          <a:xfrm>
            <a:off x="6921360" y="1859040"/>
            <a:ext cx="3341880" cy="2363760"/>
          </a:xfrm>
          <a:prstGeom prst="rect">
            <a:avLst/>
          </a:prstGeom>
          <a:ln w="0">
            <a:noFill/>
          </a:ln>
        </p:spPr>
      </p:pic>
      <p:pic>
        <p:nvPicPr>
          <p:cNvPr id="562"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381389-750C-4532-84E7-2C7C21B704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313DD2-C7A0-440B-8C7E-CA2E1FEEF5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5AB555-F884-4F6B-A6FF-E319E47CFB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69DDD3-8E01-4EA3-91A9-DEF2CC0C4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1B81DAD-B961-4E4A-A013-3BA605F04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280189-29B5-4F34-BDD9-3E805ACACA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4"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7" name="Picture 2" descr=""/>
          <p:cNvPicPr/>
          <p:nvPr/>
        </p:nvPicPr>
        <p:blipFill>
          <a:blip r:embed="rId1"/>
          <a:stretch/>
        </p:blipFill>
        <p:spPr>
          <a:xfrm>
            <a:off x="3279600" y="2598840"/>
            <a:ext cx="4133880" cy="734760"/>
          </a:xfrm>
          <a:prstGeom prst="rect">
            <a:avLst/>
          </a:prstGeom>
          <a:ln w="0">
            <a:noFill/>
          </a:ln>
        </p:spPr>
      </p:pic>
      <p:sp>
        <p:nvSpPr>
          <p:cNvPr id="18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435603C-6C6F-4A8F-B8F6-4BB2D8CDC0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3"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4"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5"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D7C6BD-18A5-4681-9137-78299807FF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9"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2"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BBD47CB-822D-404B-B64D-58945898A6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149BE4-2528-48DC-BAB7-2C932D5E0B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6"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7"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592498-D1C2-4E5B-A85C-2BFC7B7D7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1"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2"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3"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AF5FB8-E5E7-46FF-8541-733BB5FD43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8"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5D6E8F4-49C8-40FC-B5FB-1C17EE4C5C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8516A6-93A9-4378-8678-86587C4C3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6"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685B2A2-6B87-4FD7-B31F-0820996EF4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0"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1"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2"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BFE1EAD-E9D3-45FD-BFB3-94E91F9BA8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6" name="Rechteck 5"/>
          <p:cNvSpPr/>
          <p:nvPr/>
        </p:nvSpPr>
        <p:spPr>
          <a:xfrm>
            <a:off x="105264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20C51D-CD2D-499C-AA12-6FD97492A2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1"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2" name="Rechteck 4"/>
          <p:cNvSpPr/>
          <p:nvPr/>
        </p:nvSpPr>
        <p:spPr>
          <a:xfrm>
            <a:off x="5600880" y="3463920"/>
            <a:ext cx="435420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3"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4"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6"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D3052B-5EC7-4E38-9E57-36F5589EEF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9"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0"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DCE302-1B40-483B-B510-036A9B9E77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5" name="Rechteck 5"/>
          <p:cNvSpPr/>
          <p:nvPr/>
        </p:nvSpPr>
        <p:spPr>
          <a:xfrm>
            <a:off x="1085760" y="4057560"/>
            <a:ext cx="885528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043F267-CD07-4DD5-AE88-40576300AD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DC50590-343B-49FD-BCBA-4B7035AFF7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0"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1"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D7F9E2-A532-4D80-9369-FE22E35B71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6"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7"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2BD518-35C5-49C9-A0FE-DB98D41A0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2"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C27447-D298-474B-93C1-596B1A0AB6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6"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7"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7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FC97D70-3F3F-4CD6-AC2C-3A2F342748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1"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2"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3"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778FE5B-3DE6-4D66-BA82-87356E34E2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8"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11F5D8-E071-416D-B690-726932F8B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2"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3"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4"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D5DB6E-699D-4B88-A69C-F964F5ECF0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8"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99"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3B24158-E6D5-43A7-B9EE-487AF2724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3"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4"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5"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0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08" name="Picture 2" descr=""/>
          <p:cNvPicPr/>
          <p:nvPr/>
        </p:nvPicPr>
        <p:blipFill>
          <a:blip r:embed="rId1"/>
          <a:stretch/>
        </p:blipFill>
        <p:spPr>
          <a:xfrm>
            <a:off x="3279600" y="2598840"/>
            <a:ext cx="4133880" cy="734760"/>
          </a:xfrm>
          <a:prstGeom prst="rect">
            <a:avLst/>
          </a:prstGeom>
          <a:ln w="0">
            <a:noFill/>
          </a:ln>
        </p:spPr>
      </p:pic>
      <p:sp>
        <p:nvSpPr>
          <p:cNvPr id="30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C100D0-20BD-416B-8972-CF5236C8F6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A8AA76-468D-40B9-BBB1-C70577085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3"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4"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92DDDA8-19F3-4BD7-9292-95AEE094F6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2564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903FD3C-A802-42AD-80E4-D34AA9F33B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23"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F958C77-6837-4D75-A054-0BF5D08B1C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7"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AEBDB0-6263-4AC2-BB47-3894528543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1" name="Rechteck 4"/>
          <p:cNvSpPr/>
          <p:nvPr/>
        </p:nvSpPr>
        <p:spPr>
          <a:xfrm>
            <a:off x="108576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952425-5B06-4DBF-AF6F-CD547AE3BB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3377E0-EE01-4817-9BED-F5820127C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94F979-B28E-49BC-BCE3-79F2C7C7F3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8576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4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46" name="Picture 2" descr=""/>
          <p:cNvPicPr/>
          <p:nvPr/>
        </p:nvPicPr>
        <p:blipFill>
          <a:blip r:embed="rId1"/>
          <a:stretch/>
        </p:blipFill>
        <p:spPr>
          <a:xfrm>
            <a:off x="3279600" y="2598840"/>
            <a:ext cx="4133880" cy="734760"/>
          </a:xfrm>
          <a:prstGeom prst="rect">
            <a:avLst/>
          </a:prstGeom>
          <a:ln w="0">
            <a:noFill/>
          </a:ln>
        </p:spPr>
      </p:pic>
      <p:sp>
        <p:nvSpPr>
          <p:cNvPr id="34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7B7B0DE-FBA5-4D1C-BE18-EB8815A14B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1D77D88-F9D5-4957-A06D-BA8F55C1A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790852-90FA-4AA8-965B-AAD0EA529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5"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1C8EE6-7264-4C98-9255-6314138FC9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1"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189D3D-A7AF-467C-B471-82AE951A13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998147-333C-4BEC-9437-86095ABEE6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84718F5-F8F8-4E7F-8ED0-B65C93EDF2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429DFF-91E6-4ACC-8A75-38D1AD2676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05AFC7-6D8C-4479-B029-410535181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009F122-C264-4B15-8224-079423225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BFFAB9-D1AD-47DC-ACD1-4DD3185B0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88"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D309BC-96D7-4EAD-B17F-D367B95503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2"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A653AC4-6C0E-43B9-88E5-DCDC36A60E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7322BE7-F961-4EF4-A7A7-5D3A89B58C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DD9DE18-A5FA-435D-8A96-71C461DEA4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0"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7B0740-0D30-46B4-BA16-6D07628DDA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476FDA9-C233-4359-B017-70673D6D25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1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11" name="Picture 2" descr=""/>
          <p:cNvPicPr/>
          <p:nvPr/>
        </p:nvPicPr>
        <p:blipFill>
          <a:blip r:embed="rId1"/>
          <a:stretch/>
        </p:blipFill>
        <p:spPr>
          <a:xfrm>
            <a:off x="3279600" y="2598840"/>
            <a:ext cx="4133880" cy="734760"/>
          </a:xfrm>
          <a:prstGeom prst="rect">
            <a:avLst/>
          </a:prstGeom>
          <a:ln w="0">
            <a:noFill/>
          </a:ln>
        </p:spPr>
      </p:pic>
      <p:sp>
        <p:nvSpPr>
          <p:cNvPr id="41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44A6E9-56FE-4630-8E95-A804074A0A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7EBB8E4-0C7F-40E5-9E9A-24E4387BE6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6D9525-BA4A-4D20-9CFA-00249022B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5C3034F-8410-41AB-8575-70D769A67A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8"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6F0C17-FCA9-4E29-951D-9C722A552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2A0D28F-688F-4E72-B38B-95AAFAE67A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85A744F-2223-42E8-9CD7-FDCAE87233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B8CD282-7260-42B7-BF88-1E90FE25C9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D37392-8083-4234-BE19-0430C6D7E8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45"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34B37C-6E60-4F38-8503-EF72DDDD48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9"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50"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E44893-693C-4ED5-B3A3-2814656A4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55"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57"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59D99E-E679-415C-AB8C-BAB55AFF7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9"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B8DB21-1E4B-42B4-9331-7D702362C5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3" name="Rechteck 5"/>
          <p:cNvSpPr/>
          <p:nvPr/>
        </p:nvSpPr>
        <p:spPr>
          <a:xfrm>
            <a:off x="1052640" y="480708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64"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D80011-ED23-487F-BE65-84CC92418B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682009-1478-49CC-B36A-F8BFE8494D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2F1B5FD-5992-489B-A42C-A06BCF6D56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 store[1], stor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7C13D3-D0EC-4E96-9579-9A9A2C23BF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415F96-420D-47CB-A518-92511D689E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85"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8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8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027740C-C3ED-446E-BAEF-603A8322E0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9"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490"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9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9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F91146C-FC4B-40F0-B146-45643F1DC0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440960-2DE3-4D4A-8940-5967DE507E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0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0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BF88514-4A3B-4ACC-A81E-17138405CB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61F40D-0852-461A-A715-D08B211E38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CA44D7D-6878-433F-9683-E1BD42C839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AF9CCA-5860-47F8-8EC4-54A9DAE16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85760" y="262728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F52529-8716-4222-B3B0-EC7BCDE4D9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26061B5-1E26-4CB1-B7FA-B000B5E992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2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21" name="Picture 2" descr=""/>
          <p:cNvPicPr/>
          <p:nvPr/>
        </p:nvPicPr>
        <p:blipFill>
          <a:blip r:embed="rId1"/>
          <a:stretch/>
        </p:blipFill>
        <p:spPr>
          <a:xfrm>
            <a:off x="3279600" y="2598840"/>
            <a:ext cx="4133880" cy="734760"/>
          </a:xfrm>
          <a:prstGeom prst="rect">
            <a:avLst/>
          </a:prstGeom>
          <a:ln w="0">
            <a:noFill/>
          </a:ln>
        </p:spPr>
      </p:pic>
      <p:sp>
        <p:nvSpPr>
          <p:cNvPr id="52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03FBA95-01DF-4CCD-886F-5B3B37802B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5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60746F-398B-43C2-B49A-62FF43A46D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3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31" name="Picture 2" descr=""/>
          <p:cNvPicPr/>
          <p:nvPr/>
        </p:nvPicPr>
        <p:blipFill>
          <a:blip r:embed="rId1"/>
          <a:stretch/>
        </p:blipFill>
        <p:spPr>
          <a:xfrm>
            <a:off x="3279600" y="2598840"/>
            <a:ext cx="4133880" cy="734760"/>
          </a:xfrm>
          <a:prstGeom prst="rect">
            <a:avLst/>
          </a:prstGeom>
          <a:ln w="0">
            <a:noFill/>
          </a:ln>
        </p:spPr>
      </p:pic>
      <p:sp>
        <p:nvSpPr>
          <p:cNvPr id="53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E58AF2-440A-4DCC-976D-D4B73AC598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36"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F43B76A-1C20-4E5B-93D9-2BE4F34E5C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507144D-BD5F-42E9-9F54-B98A9AF445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66B5C06-AF35-44E7-BFD1-8C2BA502E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4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6A2C6C-F66D-4D18-B475-F55244FAED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0"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5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2FB7D78-F22B-4AD5-8903-30130E8052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53" name=""/>
          <p:cNvGraphicFramePr/>
          <p:nvPr/>
        </p:nvGraphicFramePr>
        <p:xfrm>
          <a:off x="1052640" y="1905120"/>
          <a:ext cx="9190080" cy="1631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2-12-09T11:48:44Z</dcterms:modified>
  <cp:revision>698</cp:revision>
  <dc:subject/>
  <dc:title>Agena Language Summary</dc:title>
</cp:coreProperties>
</file>