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A86-1BC5-431D-A2BF-05088B76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AE8-1767-4044-9E5E-97FC997C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D1A-B83C-4D4F-990C-00552DC0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7FE-A0FD-489D-9B6B-A4288F56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B6C-0EC6-4F85-82D6-A0ECD7A5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3F6B-4BA5-44BB-A94B-22B065D6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894-A309-4B60-8527-D1754206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DF1-BBF7-47BA-A69D-DB95518D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06C-423A-49A0-8860-44CA957F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8D4-2B5E-47BD-B703-90061FF0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D07D-D449-41BA-B8DE-17B25BFE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80F-C6C9-4133-9F4E-66A1CEBC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76B6-BACE-47FC-AB55-922D6B356B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rtgage-site-tools.com/products/" TargetMode="External"/><Relationship Id="rId2" Type="http://schemas.openxmlformats.org/officeDocument/2006/relationships/hyperlink" Target="http://www.mortgage-site-tools.com/products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f0f"/>
                </a:solidFill>
                <a:latin typeface="Arial"/>
              </a:rPr>
              <a:t>Online mortgage calc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9951"/>
                </a:solidFill>
                <a:latin typeface="Arial"/>
              </a:rPr>
              <a:t>by mortgage-site-tool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Easy real-estate math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mortization tables comes with each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Wide range of mortgage calculation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djustable interest compounding and payment peri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Initial values customization for any real-estat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Simple and easy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Simple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Installation takes only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Full Cascade Style Sheet (CSS)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Software is template driven and visual style can be completely re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Multi-language enabled (at this time only English language pack comes with distribu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Customizable currency symbol and numerical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82720" y="1600200"/>
            <a:ext cx="3186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Want more deta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413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Visit online demonstration p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8880" y="2060640"/>
            <a:ext cx="47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rtgage-site-tools.com/product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63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Place a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3240" y="3357720"/>
            <a:ext cx="44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</a:rPr>
              <a:t>http://www.mortgage-site-tools.com/ord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04044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20:43:29Z</dcterms:created>
  <dc:creator/>
  <dc:description/>
  <dc:language>en-US</dc:language>
  <cp:lastModifiedBy>Ivan</cp:lastModifiedBy>
  <dcterms:modified xsi:type="dcterms:W3CDTF">2005-04-20T22:56:31Z</dcterms:modified>
  <cp:revision>4</cp:revision>
  <dc:subject/>
  <dc:title>Online mortgage calculators presentation</dc:title>
</cp:coreProperties>
</file>