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934200" cy="9399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AA14-1DE2-47A8-BC01-A3784D06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1560-2E47-4C2F-B2ED-DCAED392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62C2-874E-46D2-B8BB-896C4F705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EE2-60E0-42A4-BBDF-32BA1A9A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D3D1A-72DA-45D6-BD49-A4762F48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BAB6-7664-468F-844C-54DDF9DD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AAD2-F1F5-475A-A2CE-C0E22B381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40C99-5FE0-4C3C-98E2-04E7E454B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B985E-2B16-489A-B9E1-EB51F755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A63D-955D-445A-B228-73D2B950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9A82-AC21-488C-9436-A80BB6B3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9A1C-A827-4724-AF3B-25E86968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3B97-6A28-4FA1-8C9B-B20B99F3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2C13-4CD5-4A2A-859B-165A3627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2503-0958-43F9-A4F2-8E6518A2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B7987-D11A-4E86-AA05-8A8246B3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232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5509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295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9232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5509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60B4-1FE5-4211-8498-4F4A7EF6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4FC6-A7E1-4734-9587-85CA6E97B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A349-A44B-4197-A91B-F5DDB433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C372-0BB8-4277-AA3F-D62A5EC7E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6F17-3E1B-4581-975E-652E6DD5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2974-4831-4840-B0E5-FF93BFE7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2779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C08D-BAB7-437F-A28F-25EA157D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779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952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FDCB-55DF-4467-93FE-8141DB1C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952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95280" y="5943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0ACF-C603-47C0-A98F-87D57179DBA6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3356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162560" y="59436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817-FC7D-41CC-8806-A561811B1B7F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grpSp>
          <p:nvGrpSpPr>
            <p:cNvPr id="7" name=""/>
            <p:cNvGrpSpPr/>
            <p:nvPr/>
          </p:nvGrpSpPr>
          <p:grpSpPr>
            <a:xfrm>
              <a:off x="0" y="0"/>
              <a:ext cx="950400" cy="6856560"/>
              <a:chOff x="0" y="0"/>
              <a:chExt cx="950400" cy="6856560"/>
            </a:xfrm>
          </p:grpSpPr>
          <p:sp>
            <p:nvSpPr>
              <p:cNvPr id="8" name=""/>
              <p:cNvSpPr/>
              <p:nvPr/>
            </p:nvSpPr>
            <p:spPr>
              <a:xfrm>
                <a:off x="0" y="0"/>
                <a:ext cx="755640" cy="68565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89000" y="380880"/>
                <a:ext cx="566640" cy="3276720"/>
              </a:xfrm>
              <a:prstGeom prst="rect">
                <a:avLst/>
              </a:prstGeom>
              <a:solidFill>
                <a:srgbClr val="6699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523880"/>
                <a:ext cx="755640" cy="838440"/>
              </a:xfrm>
              <a:prstGeom prst="rect">
                <a:avLst/>
              </a:pr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71600" y="685800"/>
                <a:ext cx="141120" cy="6019920"/>
              </a:xfrm>
              <a:prstGeom prst="rect">
                <a:avLst/>
              </a:prstGeom>
              <a:solidFill>
                <a:srgbClr val="cccc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480060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5105520"/>
                <a:ext cx="519120" cy="15228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410080"/>
                <a:ext cx="519120" cy="152640"/>
              </a:xfrm>
              <a:prstGeom prst="rect">
                <a:avLst/>
              </a:pr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67720" y="3587760"/>
                <a:ext cx="382680" cy="1831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423" y="7"/>
                    </a:moveTo>
                    <a:arcTo wR="10800" hR="10800" stAng="-5520000" swAng="1092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423" y="7"/>
                    </a:moveTo>
                    <a:arcTo wR="10800" hR="10800" stAng="-5520000" swAng="10920000"/>
                  </a:path>
                </a:pathLst>
              </a:custGeom>
              <a:solidFill>
                <a:srgbClr val="5e6fd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6" name=""/>
            <p:cNvSpPr/>
            <p:nvPr/>
          </p:nvSpPr>
          <p:spPr>
            <a:xfrm>
              <a:off x="0" y="1066680"/>
              <a:ext cx="1066680" cy="990720"/>
            </a:xfrm>
            <a:prstGeom prst="ellipse">
              <a:avLst/>
            </a:prstGeom>
            <a:solidFill>
              <a:srgbClr val="00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2120" y="0"/>
              <a:ext cx="304560" cy="6856560"/>
            </a:xfrm>
            <a:prstGeom prst="rect">
              <a:avLst/>
            </a:prstGeom>
            <a:gradFill rotWithShape="0">
              <a:gsLst>
                <a:gs pos="0">
                  <a:srgbClr val="006699"/>
                </a:gs>
                <a:gs pos="100000">
                  <a:srgbClr val="00354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162920" y="5943600"/>
            <a:ext cx="2954160" cy="12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-1404360" y="-609120"/>
            <a:ext cx="10546560" cy="8965080"/>
            <a:chOff x="-1404360" y="-609120"/>
            <a:chExt cx="10546560" cy="8965080"/>
          </a:xfrm>
        </p:grpSpPr>
        <p:grpSp>
          <p:nvGrpSpPr>
            <p:cNvPr id="57" name=""/>
            <p:cNvGrpSpPr/>
            <p:nvPr/>
          </p:nvGrpSpPr>
          <p:grpSpPr>
            <a:xfrm>
              <a:off x="-1404360" y="-609120"/>
              <a:ext cx="9066240" cy="8965080"/>
              <a:chOff x="-1404360" y="-609120"/>
              <a:chExt cx="9066240" cy="8965080"/>
            </a:xfrm>
          </p:grpSpPr>
          <p:grpSp>
            <p:nvGrpSpPr>
              <p:cNvPr id="58" name=""/>
              <p:cNvGrpSpPr/>
              <p:nvPr/>
            </p:nvGrpSpPr>
            <p:grpSpPr>
              <a:xfrm>
                <a:off x="-1404360" y="-609120"/>
                <a:ext cx="9066240" cy="8965080"/>
                <a:chOff x="-1404360" y="-609120"/>
                <a:chExt cx="9066240" cy="8965080"/>
              </a:xfrm>
            </p:grpSpPr>
            <p:sp>
              <p:nvSpPr>
                <p:cNvPr id="59" name=""/>
                <p:cNvSpPr/>
                <p:nvPr/>
              </p:nvSpPr>
              <p:spPr>
                <a:xfrm rot="12360000">
                  <a:off x="-297000" y="556920"/>
                  <a:ext cx="6851880" cy="663264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00354e"/>
                    </a:gs>
                    <a:gs pos="100000">
                      <a:srgbClr val="006699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 rot="12360000">
                  <a:off x="1099080" y="1909800"/>
                  <a:ext cx="4058280" cy="3927600"/>
                </a:xfrm>
                <a:prstGeom prst="diamond">
                  <a:avLst/>
                </a:prstGeom>
                <a:blipFill rotWithShape="0">
                  <a:blip r:embed="rId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 rot="12360000">
                  <a:off x="3568680" y="3966840"/>
                  <a:ext cx="1030320" cy="444600"/>
                </a:xfrm>
                <a:prstGeom prst="rect">
                  <a:avLst/>
                </a:pr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 rot="12360000">
                  <a:off x="2049120" y="4074840"/>
                  <a:ext cx="905040" cy="838080"/>
                </a:xfrm>
                <a:prstGeom prst="ellipse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 rot="12360000">
                  <a:off x="3764880" y="3249000"/>
                  <a:ext cx="708120" cy="1285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 rot="12360000">
                  <a:off x="3057120" y="4875120"/>
                  <a:ext cx="706320" cy="130320"/>
                </a:xfrm>
                <a:prstGeom prst="rect">
                  <a:avLst/>
                </a:prstGeom>
                <a:solidFill>
                  <a:srgbClr val="006699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 rot="10485000">
                  <a:off x="2053440" y="3555000"/>
                  <a:ext cx="1149840" cy="24602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41" y="9671"/>
                      </a:moveTo>
                      <a:arcTo wR="10800" hR="10800" stAng="-360000" swAng="1086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41" y="9671"/>
                      </a:moveTo>
                      <a:arcTo wR="10800" hR="10800" stAng="-360000" swAng="10860000"/>
                    </a:path>
                  </a:pathLst>
                </a:custGeom>
                <a:solidFill>
                  <a:srgbClr val="5e6fd4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062080" y="2181240"/>
                  <a:ext cx="1643040" cy="3186000"/>
                </a:xfrm>
                <a:custGeom>
                  <a:avLst/>
                  <a:gdLst/>
                  <a:ahLst/>
                  <a:rect l="l" t="t" r="r" b="b"/>
                  <a:pathLst>
                    <a:path w="1035" h="2007">
                      <a:moveTo>
                        <a:pt x="56" y="2006"/>
                      </a:moveTo>
                      <a:lnTo>
                        <a:pt x="0" y="1843"/>
                      </a:lnTo>
                      <a:lnTo>
                        <a:pt x="871" y="56"/>
                      </a:lnTo>
                      <a:lnTo>
                        <a:pt x="1034" y="0"/>
                      </a:lnTo>
                      <a:lnTo>
                        <a:pt x="56" y="2006"/>
                      </a:lnTo>
                    </a:path>
                  </a:pathLst>
                </a:custGeom>
                <a:solidFill>
                  <a:srgbClr val="cccc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" name=""/>
              <p:cNvSpPr/>
              <p:nvPr/>
            </p:nvSpPr>
            <p:spPr>
              <a:xfrm>
                <a:off x="3884760" y="2873520"/>
                <a:ext cx="514440" cy="366480"/>
              </a:xfrm>
              <a:custGeom>
                <a:avLst/>
                <a:gdLst/>
                <a:ahLst/>
                <a:rect l="l" t="t" r="r" b="b"/>
                <a:pathLst>
                  <a:path w="324" h="231">
                    <a:moveTo>
                      <a:pt x="321" y="226"/>
                    </a:moveTo>
                    <a:lnTo>
                      <a:pt x="287" y="123"/>
                    </a:lnTo>
                    <a:lnTo>
                      <a:pt x="53" y="9"/>
                    </a:lnTo>
                    <a:lnTo>
                      <a:pt x="35" y="0"/>
                    </a:lnTo>
                    <a:lnTo>
                      <a:pt x="0" y="72"/>
                    </a:lnTo>
                    <a:lnTo>
                      <a:pt x="323" y="230"/>
                    </a:lnTo>
                  </a:path>
                </a:pathLst>
              </a:custGeom>
              <a:solidFill>
                <a:srgbClr val="00669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217520" y="1143000"/>
              <a:ext cx="7924680" cy="1295280"/>
            </a:xfrm>
            <a:prstGeom prst="rect">
              <a:avLst/>
            </a:prstGeom>
            <a:solidFill>
              <a:srgbClr val="6699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52280" y="5867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1BF-F57A-4A74-A3B0-502F031AADEA}" type="datetime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124080" y="5867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162560" y="58672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7545-D617-44D0-A155-206D77415233}" type="slidenum">
              <a:rPr b="0" lang="nl-NL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162920" y="5867280"/>
            <a:ext cx="295416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ccccff"/>
                </a:solidFill>
                <a:latin typeface="Times New Roman"/>
              </a:rPr>
              <a:t>jan1.verhoeven@wxs.nl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7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724280" y="281952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BackEdi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Mulit-purpos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2895480"/>
            <a:ext cx="2057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eaeaea"/>
                </a:solidFill>
                <a:latin typeface="Arial"/>
              </a:rPr>
              <a:t>JanSof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1629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72600" y="0"/>
            <a:ext cx="3733920" cy="68580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Bedrijfslogo invoegen op deze 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Figuur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Zoek het bestand met uw log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Formaat van het logo wijzi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ergens in het logo. De vierkantjes die rondom het logo verschijnen worden “formaatgrepen” genoem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bruik deze grepen om het formaat van het object te wijzigen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s u SHIFT ingedrukt houdt terwijl u de formaatgrepen gebruikt, wordt het formaat van het object proportioneel gewijzig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16DBC99-5A32-4FEE-8C3C-9EBDDA232D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rne vac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83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 zoe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531324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catu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257800" y="5302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6292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noem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9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93" name="Wd95" descr=""/>
          <p:cNvPicPr/>
          <p:nvPr/>
        </p:nvPicPr>
        <p:blipFill>
          <a:blip r:embed="rId4"/>
          <a:stretch/>
        </p:blipFill>
        <p:spPr>
          <a:xfrm>
            <a:off x="3886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296280" y="152280"/>
            <a:ext cx="358164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FC5F7-FCE8-4EC6-B116-99E89308EC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Verlof en arbeidsongeschiktheid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0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281448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-schap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05320" y="532908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wangerschap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329080"/>
            <a:ext cx="1676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51360" y="53290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korte tij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angdurig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rbeids-ongeschikthei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912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kan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97760" y="53290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 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464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betaald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lof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1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17" name="Wd95" descr=""/>
          <p:cNvPicPr/>
          <p:nvPr/>
        </p:nvPicPr>
        <p:blipFill>
          <a:blip r:embed="rId5"/>
          <a:stretch/>
        </p:blipFill>
        <p:spPr>
          <a:xfrm>
            <a:off x="350532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8" name="Wd95" descr=""/>
          <p:cNvPicPr/>
          <p:nvPr/>
        </p:nvPicPr>
        <p:blipFill>
          <a:blip r:embed="rId6"/>
          <a:stretch/>
        </p:blipFill>
        <p:spPr>
          <a:xfrm>
            <a:off x="4629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19" name="Wd95" descr=""/>
          <p:cNvPicPr/>
          <p:nvPr/>
        </p:nvPicPr>
        <p:blipFill>
          <a:blip r:embed="rId7"/>
          <a:stretch/>
        </p:blipFill>
        <p:spPr>
          <a:xfrm>
            <a:off x="691524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0" name="Wd95" descr=""/>
          <p:cNvPicPr/>
          <p:nvPr/>
        </p:nvPicPr>
        <p:blipFill>
          <a:blip r:embed="rId8"/>
          <a:stretch/>
        </p:blipFill>
        <p:spPr>
          <a:xfrm>
            <a:off x="80010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321" name="Wd95" descr=""/>
          <p:cNvPicPr/>
          <p:nvPr/>
        </p:nvPicPr>
        <p:blipFill>
          <a:blip r:embed="rId9"/>
          <a:stretch/>
        </p:blipFill>
        <p:spPr>
          <a:xfrm>
            <a:off x="5829480" y="190512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60F2D2-FBD8-4862-8C09-C906A03A69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Compensatie en uitkeringen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505320" y="32558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niveau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181480" y="3263760"/>
            <a:ext cx="1828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oonschal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n bonusbedra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162920" y="327168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andelen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05320" y="516096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Ziekt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4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nsion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62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dere uitker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35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6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7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8" name="Wd95" descr=""/>
          <p:cNvPicPr/>
          <p:nvPr/>
        </p:nvPicPr>
        <p:blipFill>
          <a:blip r:embed="rId4"/>
          <a:stretch/>
        </p:blipFill>
        <p:spPr>
          <a:xfrm>
            <a:off x="38098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39" name="Wd95" descr=""/>
          <p:cNvPicPr/>
          <p:nvPr/>
        </p:nvPicPr>
        <p:blipFill>
          <a:blip r:embed="rId5"/>
          <a:stretch/>
        </p:blipFill>
        <p:spPr>
          <a:xfrm>
            <a:off x="5638680" y="22096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340" name="Wd95" descr=""/>
          <p:cNvPicPr/>
          <p:nvPr/>
        </p:nvPicPr>
        <p:blipFill>
          <a:blip r:embed="rId6"/>
          <a:stretch/>
        </p:blipFill>
        <p:spPr>
          <a:xfrm>
            <a:off x="7467480" y="2209680"/>
            <a:ext cx="838440" cy="8384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previous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A9E011-0EA2-438A-BD10-F82FF92382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120" y="6400800"/>
            <a:ext cx="8380440" cy="45576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BackEdit Feature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7920" y="167652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niversal Syntax highl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Internet Explor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grated XML Edi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Scriptable from VBScript and HTM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Directory wide operation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58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User Too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474920"/>
            <a:ext cx="8380440" cy="12528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71600" y="175248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71600" y="2438280"/>
            <a:ext cx="914400" cy="381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371600" y="317196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87972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4589640"/>
            <a:ext cx="914400" cy="380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371600" y="5299200"/>
            <a:ext cx="914400" cy="380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900D3-941E-456A-BE06-F9805745FAE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yntax highlight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1896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ursuss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schrijvinge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Rooster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657600" y="28144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769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eam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wikke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ment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trai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0120" y="517680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Roost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ardigheid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les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249200" y="6477120"/>
            <a:ext cx="1570320" cy="380880"/>
            <a:chOff x="1249200" y="6477120"/>
            <a:chExt cx="1570320" cy="380880"/>
          </a:xfrm>
        </p:grpSpPr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1249200" y="6477120"/>
              <a:ext cx="1570320" cy="35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371600" y="6491160"/>
              <a:ext cx="1447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Inschrijving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9497880" y="76320"/>
            <a:ext cx="358164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7" name="Pp95" descr=""/>
          <p:cNvPicPr/>
          <p:nvPr/>
        </p:nvPicPr>
        <p:blipFill>
          <a:blip r:embed="rId2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48" name="Wd95" descr=""/>
          <p:cNvPicPr/>
          <p:nvPr/>
        </p:nvPicPr>
        <p:blipFill>
          <a:blip r:embed="rId3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49" name="Wd95" descr=""/>
          <p:cNvPicPr/>
          <p:nvPr/>
        </p:nvPicPr>
        <p:blipFill>
          <a:blip r:embed="rId4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50" name="Wd95" descr=""/>
          <p:cNvPicPr/>
          <p:nvPr/>
        </p:nvPicPr>
        <p:blipFill>
          <a:blip r:embed="rId5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1" name="Wd95" descr=""/>
          <p:cNvPicPr/>
          <p:nvPr/>
        </p:nvPicPr>
        <p:blipFill>
          <a:blip r:embed="rId6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52" name="Pp95" descr=""/>
          <p:cNvPicPr/>
          <p:nvPr/>
        </p:nvPicPr>
        <p:blipFill>
          <a:blip r:embed="rId7"/>
          <a:stretch/>
        </p:blipFill>
        <p:spPr>
          <a:xfrm>
            <a:off x="515628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153" name="Pp95" descr=""/>
          <p:cNvPicPr/>
          <p:nvPr/>
        </p:nvPicPr>
        <p:blipFill>
          <a:blip r:embed="rId8"/>
          <a:stretch/>
        </p:blipFill>
        <p:spPr>
          <a:xfrm>
            <a:off x="650232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54" name="Pp95" descr=""/>
          <p:cNvPicPr/>
          <p:nvPr/>
        </p:nvPicPr>
        <p:blipFill>
          <a:blip r:embed="rId9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1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9C4E14-A18F-4C2F-B1D7-61480FFC3C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Integrated IE browse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oordelings-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Schema's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instruct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05320" y="281448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7242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Manag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5880" y="281448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agiai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Niet-vrijgesteld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knem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oordel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chem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485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struct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ragen 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ntwoord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1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2" name="Wd95" descr=""/>
          <p:cNvPicPr/>
          <p:nvPr/>
        </p:nvPicPr>
        <p:blipFill>
          <a:blip r:embed="rId2"/>
          <a:stretch/>
        </p:blipFill>
        <p:spPr>
          <a:xfrm>
            <a:off x="513072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3" name="Wd95" descr=""/>
          <p:cNvPicPr/>
          <p:nvPr/>
        </p:nvPicPr>
        <p:blipFill>
          <a:blip r:embed="rId3"/>
          <a:stretch/>
        </p:blipFill>
        <p:spPr>
          <a:xfrm>
            <a:off x="645156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4" name="Wd95" descr=""/>
          <p:cNvPicPr/>
          <p:nvPr/>
        </p:nvPicPr>
        <p:blipFill>
          <a:blip r:embed="rId4"/>
          <a:stretch/>
        </p:blipFill>
        <p:spPr>
          <a:xfrm>
            <a:off x="77724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5" name="Wd95" descr=""/>
          <p:cNvPicPr/>
          <p:nvPr/>
        </p:nvPicPr>
        <p:blipFill>
          <a:blip r:embed="rId5"/>
          <a:stretch/>
        </p:blipFill>
        <p:spPr>
          <a:xfrm>
            <a:off x="6629400" y="4191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76" name="Wd95" descr=""/>
          <p:cNvPicPr/>
          <p:nvPr/>
        </p:nvPicPr>
        <p:blipFill>
          <a:blip r:embed="rId6"/>
          <a:stretch/>
        </p:blipFill>
        <p:spPr>
          <a:xfrm>
            <a:off x="79246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7" name="Pp95" descr=""/>
          <p:cNvPicPr/>
          <p:nvPr/>
        </p:nvPicPr>
        <p:blipFill>
          <a:blip r:embed="rId7"/>
          <a:stretch/>
        </p:blipFill>
        <p:spPr>
          <a:xfrm>
            <a:off x="5181480" y="4191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Pp95" descr=""/>
          <p:cNvPicPr/>
          <p:nvPr/>
        </p:nvPicPr>
        <p:blipFill>
          <a:blip r:embed="rId8"/>
          <a:stretch/>
        </p:blipFill>
        <p:spPr>
          <a:xfrm>
            <a:off x="3809880" y="4191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372600" y="76320"/>
            <a:ext cx="3581280" cy="6553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4700E-EBD2-48F3-8777-614CE60531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XML Editor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18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81280" y="2814480"/>
            <a:ext cx="1295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lan voor verbet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52680" y="5176800"/>
            <a:ext cx="16002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restatie-verbeteringspla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769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Doelstellin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verander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5176800"/>
            <a:ext cx="1447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4" name="Wd95" descr=""/>
          <p:cNvPicPr/>
          <p:nvPr/>
        </p:nvPicPr>
        <p:blipFill>
          <a:blip r:embed="rId2"/>
          <a:stretch/>
        </p:blipFill>
        <p:spPr>
          <a:xfrm>
            <a:off x="5181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5" name="Wd95" descr=""/>
          <p:cNvPicPr/>
          <p:nvPr/>
        </p:nvPicPr>
        <p:blipFill>
          <a:blip r:embed="rId3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6" name="Wd95" descr=""/>
          <p:cNvPicPr/>
          <p:nvPr/>
        </p:nvPicPr>
        <p:blipFill>
          <a:blip r:embed="rId4"/>
          <a:stretch/>
        </p:blipFill>
        <p:spPr>
          <a:xfrm>
            <a:off x="7924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197" name="Wd95" descr=""/>
          <p:cNvPicPr/>
          <p:nvPr/>
        </p:nvPicPr>
        <p:blipFill>
          <a:blip r:embed="rId5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41EDE1-D0C3-45A1-8BA6-A2E08BA34A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Scriptable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3048120" y="2133720"/>
            <a:ext cx="4267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97160" y="2279520"/>
            <a:ext cx="914400" cy="381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97160" y="2967120"/>
            <a:ext cx="914400" cy="380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97160" y="3676680"/>
            <a:ext cx="914400" cy="380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97160" y="4406760"/>
            <a:ext cx="914400" cy="3812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  <a:effectLst>
            <a:outerShdw dist="113502" dir="1593903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04960" y="2177640"/>
            <a:ext cx="434340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VBScript fil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From HTML pag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Opzegg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eaeaea"/>
                </a:solidFill>
                <a:latin typeface="Arial"/>
              </a:rPr>
              <a:t>Interne vacatur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nextslide"/>
          </p:cNvPr>
          <p:cNvSpPr/>
          <p:nvPr/>
        </p:nvSpPr>
        <p:spPr>
          <a:xfrm>
            <a:off x="46483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40384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ECBD2E-2E41-42CB-8510-075D34BEFD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Directory operation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15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2814480"/>
            <a:ext cx="11430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onde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student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24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58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053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schrij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769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unctie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is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2485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ureau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0120" y="517680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Interne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werv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6" name="Wd95" descr=""/>
          <p:cNvPicPr/>
          <p:nvPr/>
        </p:nvPicPr>
        <p:blipFill>
          <a:blip r:embed="rId1"/>
          <a:stretch/>
        </p:blipFill>
        <p:spPr>
          <a:xfrm>
            <a:off x="38098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7" name="Wd95" descr=""/>
          <p:cNvPicPr/>
          <p:nvPr/>
        </p:nvPicPr>
        <p:blipFill>
          <a:blip r:embed="rId2"/>
          <a:stretch/>
        </p:blipFill>
        <p:spPr>
          <a:xfrm>
            <a:off x="51814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8" name="Wd95" descr=""/>
          <p:cNvPicPr/>
          <p:nvPr/>
        </p:nvPicPr>
        <p:blipFill>
          <a:blip r:embed="rId3"/>
          <a:stretch/>
        </p:blipFill>
        <p:spPr>
          <a:xfrm>
            <a:off x="65530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29" name="Wd95" descr=""/>
          <p:cNvPicPr/>
          <p:nvPr/>
        </p:nvPicPr>
        <p:blipFill>
          <a:blip r:embed="rId4"/>
          <a:stretch/>
        </p:blipFill>
        <p:spPr>
          <a:xfrm>
            <a:off x="7924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30" name="Wd95" descr=""/>
          <p:cNvPicPr/>
          <p:nvPr/>
        </p:nvPicPr>
        <p:blipFill>
          <a:blip r:embed="rId5"/>
          <a:stretch/>
        </p:blipFill>
        <p:spPr>
          <a:xfrm>
            <a:off x="37339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1" name="Wd95" descr=""/>
          <p:cNvPicPr/>
          <p:nvPr/>
        </p:nvPicPr>
        <p:blipFill>
          <a:blip r:embed="rId6"/>
          <a:stretch/>
        </p:blipFill>
        <p:spPr>
          <a:xfrm>
            <a:off x="5105520" y="4267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32" name="Wd95" descr=""/>
          <p:cNvPicPr/>
          <p:nvPr/>
        </p:nvPicPr>
        <p:blipFill>
          <a:blip r:embed="rId7"/>
          <a:stretch/>
        </p:blipFill>
        <p:spPr>
          <a:xfrm>
            <a:off x="65530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33" name="Wd95" descr=""/>
          <p:cNvPicPr/>
          <p:nvPr/>
        </p:nvPicPr>
        <p:blipFill>
          <a:blip r:embed="rId8"/>
          <a:stretch/>
        </p:blipFill>
        <p:spPr>
          <a:xfrm>
            <a:off x="7848720" y="4267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91B83-578B-41DA-8CF3-D57E390C53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User Tools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05320" y="281448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verplaatsing va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Elders vestig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an personee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053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rzoek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m overplaats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5313240"/>
            <a:ext cx="14475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 voor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estiging elder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086600" y="53132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9" name="Wd95" descr=""/>
          <p:cNvPicPr/>
          <p:nvPr/>
        </p:nvPicPr>
        <p:blipFill>
          <a:blip r:embed="rId1"/>
          <a:stretch/>
        </p:blipFill>
        <p:spPr>
          <a:xfrm>
            <a:off x="3886200" y="19051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250" name="Wd95" descr=""/>
          <p:cNvPicPr/>
          <p:nvPr/>
        </p:nvPicPr>
        <p:blipFill>
          <a:blip r:embed="rId2"/>
          <a:stretch/>
        </p:blipFill>
        <p:spPr>
          <a:xfrm>
            <a:off x="5638680" y="19051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1" name="Wd95" descr=""/>
          <p:cNvPicPr/>
          <p:nvPr/>
        </p:nvPicPr>
        <p:blipFill>
          <a:blip r:embed="rId3"/>
          <a:stretch/>
        </p:blipFill>
        <p:spPr>
          <a:xfrm>
            <a:off x="380988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2" name="Wd95" descr=""/>
          <p:cNvPicPr/>
          <p:nvPr/>
        </p:nvPicPr>
        <p:blipFill>
          <a:blip r:embed="rId4"/>
          <a:stretch/>
        </p:blipFill>
        <p:spPr>
          <a:xfrm>
            <a:off x="5676840" y="434340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253" name="Wd95" descr=""/>
          <p:cNvPicPr/>
          <p:nvPr/>
        </p:nvPicPr>
        <p:blipFill>
          <a:blip r:embed="rId5"/>
          <a:stretch/>
        </p:blipFill>
        <p:spPr>
          <a:xfrm>
            <a:off x="7543800" y="43434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372600" y="152280"/>
            <a:ext cx="3581280" cy="65534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FE4CDF-9DB9-462E-96D1-86BB75EEFA0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ccecff"/>
                </a:solidFill>
                <a:latin typeface="Arial Black"/>
              </a:rPr>
              <a:t>Opzegging</a:t>
            </a:r>
            <a:endParaRPr b="0" lang="en-US" sz="4400" spc="-1" strike="noStrike">
              <a:solidFill>
                <a:srgbClr val="ccecff"/>
              </a:solidFill>
              <a:latin typeface="Arial Black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3836880"/>
            <a:ext cx="8380440" cy="125640"/>
          </a:xfrm>
          <a:prstGeom prst="rect">
            <a:avLst/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219320" y="2209680"/>
            <a:ext cx="28191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Beleid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procedu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4648320"/>
            <a:ext cx="2286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Contact-personen en</a:t>
            </a:r>
            <a:br>
              <a:rPr sz="2400"/>
            </a:br>
            <a:r>
              <a:rPr b="0" lang="nl-NL" sz="2400" spc="-1" strike="noStrike">
                <a:solidFill>
                  <a:srgbClr val="eaeaea"/>
                </a:solidFill>
                <a:latin typeface="Arial Black"/>
              </a:rPr>
              <a:t>formulier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2814480"/>
            <a:ext cx="1447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mpensatie-plann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29596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beleid en regel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053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ntslag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5165640"/>
            <a:ext cx="1447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Opzeggings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formulie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086600" y="5165640"/>
            <a:ext cx="1600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HR-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contactperson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010280" y="2814480"/>
            <a:ext cx="144792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Alternatieven</a:t>
            </a:r>
            <a:br>
              <a:rPr sz="1800"/>
            </a:br>
            <a:r>
              <a:rPr b="0" lang="nl-NL" sz="1800" spc="-1" strike="noStrike">
                <a:solidFill>
                  <a:srgbClr val="eaeaea"/>
                </a:solidFill>
                <a:latin typeface="Arial Narrow"/>
              </a:rPr>
              <a:t>voor opzegg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70" name="Wd95" descr=""/>
          <p:cNvPicPr/>
          <p:nvPr/>
        </p:nvPicPr>
        <p:blipFill>
          <a:blip r:embed="rId1"/>
          <a:stretch/>
        </p:blipFill>
        <p:spPr>
          <a:xfrm>
            <a:off x="38098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1" name="Wd95" descr=""/>
          <p:cNvPicPr/>
          <p:nvPr/>
        </p:nvPicPr>
        <p:blipFill>
          <a:blip r:embed="rId2"/>
          <a:stretch/>
        </p:blipFill>
        <p:spPr>
          <a:xfrm>
            <a:off x="56386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2" name="Wd95" descr=""/>
          <p:cNvPicPr/>
          <p:nvPr/>
        </p:nvPicPr>
        <p:blipFill>
          <a:blip r:embed="rId3"/>
          <a:stretch/>
        </p:blipFill>
        <p:spPr>
          <a:xfrm>
            <a:off x="7467480" y="4267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3" name="Wd95" descr=""/>
          <p:cNvPicPr/>
          <p:nvPr/>
        </p:nvPicPr>
        <p:blipFill>
          <a:blip r:embed="rId4"/>
          <a:stretch/>
        </p:blipFill>
        <p:spPr>
          <a:xfrm>
            <a:off x="3809880" y="1981080"/>
            <a:ext cx="838440" cy="838440"/>
          </a:xfrm>
          <a:prstGeom prst="rect">
            <a:avLst/>
          </a:prstGeom>
          <a:ln w="0">
            <a:noFill/>
          </a:ln>
        </p:spPr>
      </p:pic>
      <p:pic>
        <p:nvPicPr>
          <p:cNvPr id="274" name="Wd95" descr=""/>
          <p:cNvPicPr/>
          <p:nvPr/>
        </p:nvPicPr>
        <p:blipFill>
          <a:blip r:embed="rId5"/>
          <a:stretch/>
        </p:blipFill>
        <p:spPr>
          <a:xfrm>
            <a:off x="5562720" y="1981080"/>
            <a:ext cx="838080" cy="838440"/>
          </a:xfrm>
          <a:prstGeom prst="rect">
            <a:avLst/>
          </a:prstGeom>
          <a:ln w="0">
            <a:noFill/>
          </a:ln>
        </p:spPr>
      </p:pic>
      <p:pic>
        <p:nvPicPr>
          <p:cNvPr id="275" name="Wd95" descr=""/>
          <p:cNvPicPr/>
          <p:nvPr/>
        </p:nvPicPr>
        <p:blipFill>
          <a:blip r:embed="rId6"/>
          <a:stretch/>
        </p:blipFill>
        <p:spPr>
          <a:xfrm>
            <a:off x="7315200" y="1981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9372600" y="152280"/>
            <a:ext cx="3581280" cy="66294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ervang als volgt de pictogrammen</a:t>
            </a:r>
            <a:br>
              <a:rPr sz="1800"/>
            </a:b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an de voorbeeld-documenten door pictogrammen van bestaande documente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bject in het menu Invoeg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Bestand gebrui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eef de juiste bestandsnaam weer in het vak Bestan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chakel het vakje Als pictogram weergeven i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een pictogra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Selecteer Actie-instellingen in het menu Diavoorstelling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Actie bij object en selecteer Bewerke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lik op O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">
            <a:hlinkClick r:id="" action="ppaction://hlinkshowjump?jump=endshow"/>
          </p:cNvPr>
          <p:cNvSpPr/>
          <p:nvPr/>
        </p:nvSpPr>
        <p:spPr>
          <a:xfrm>
            <a:off x="7772400" y="6477120"/>
            <a:ext cx="129528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AFSLUITEN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578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HOOFDMENU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">
            <a:hlinkClick r:id="" action="ppaction://hlinkshowjump?jump=nextslide"/>
          </p:cNvPr>
          <p:cNvSpPr/>
          <p:nvPr/>
        </p:nvSpPr>
        <p:spPr>
          <a:xfrm>
            <a:off x="213372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previousslide"/>
          </p:cNvPr>
          <p:cNvSpPr/>
          <p:nvPr/>
        </p:nvSpPr>
        <p:spPr>
          <a:xfrm>
            <a:off x="1523880" y="6477120"/>
            <a:ext cx="45720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&lt;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3200" y="6477120"/>
            <a:ext cx="2362320" cy="304560"/>
          </a:xfrm>
          <a:prstGeom prst="roundRect">
            <a:avLst>
              <a:gd name="adj" fmla="val 49745"/>
            </a:avLst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path path="rect">
              <a:fillToRect l="50000" t="50000" r="50000" b="50000"/>
            </a:path>
          </a:gradFill>
          <a:ln cap="sq" w="12600">
            <a:solidFill>
              <a:srgbClr val="00354e"/>
            </a:solidFill>
            <a:miter/>
          </a:ln>
          <a:effectLst>
            <a:outerShdw dist="17819" dir="2700000" blurRad="0" rotWithShape="0">
              <a:srgbClr val="000b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ccecff"/>
                </a:solidFill>
                <a:latin typeface="Arial"/>
              </a:rPr>
              <a:t>MENU PERSONE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JanSof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ED710-5E01-477B-A656-0340E0F80E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5T15:39:54Z</dcterms:created>
  <dc:creator>Jan Verhoeven</dc:creator>
  <dc:description/>
  <dc:language>en-US</dc:language>
  <cp:lastModifiedBy>Jan Verhoeven</cp:lastModifiedBy>
  <cp:lastPrinted>1995-12-08T18:02:18Z</cp:lastPrinted>
  <dcterms:modified xsi:type="dcterms:W3CDTF">2001-07-15T15:58:12Z</dcterms:modified>
  <cp:revision>5</cp:revision>
  <dc:subject/>
  <dc:title>&lt;XYZ N.V.&gt;</dc:title>
</cp:coreProperties>
</file>