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6858000" cy="92948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75">
                <a:moveTo>
                  <a:pt x="5" y="0"/>
                </a:moveTo>
                <a:arcTo wR="5" hR="5" stAng="16200000" swAng="-5400000"/>
                <a:lnTo>
                  <a:pt x="0" y="29270"/>
                </a:lnTo>
                <a:arcTo wR="5" hR="5" stAng="10800000" swAng="-5400000"/>
                <a:lnTo>
                  <a:pt x="21595" y="2927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6856560" cy="9294840"/>
          </a:xfrm>
          <a:custGeom>
            <a:avLst/>
            <a:gdLst>
              <a:gd name="textAreaLeft" fmla="*/ 360 w 6856560"/>
              <a:gd name="textAreaRight" fmla="*/ 6856200 w 685656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9281">
                <a:moveTo>
                  <a:pt x="5" y="0"/>
                </a:moveTo>
                <a:arcTo wR="5" hR="5" stAng="16200000" swAng="-5400000"/>
                <a:lnTo>
                  <a:pt x="0" y="29276"/>
                </a:lnTo>
                <a:arcTo wR="5" hR="5" stAng="10800000" swAng="-5400000"/>
                <a:lnTo>
                  <a:pt x="21595" y="292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6854760" cy="9293400"/>
          </a:xfrm>
          <a:custGeom>
            <a:avLst/>
            <a:gdLst>
              <a:gd name="textAreaLeft" fmla="*/ 360 w 6854760"/>
              <a:gd name="textAreaRight" fmla="*/ 6854400 w 6854760"/>
              <a:gd name="textAreaTop" fmla="*/ 360 h 9293400"/>
              <a:gd name="textAreaBottom" fmla="*/ 9293040 h 9293400"/>
            </a:gdLst>
            <a:ahLst/>
            <a:rect l="textAreaLeft" t="textAreaTop" r="textAreaRight" b="textAreaBottom"/>
            <a:pathLst>
              <a:path w="21600" h="29284">
                <a:moveTo>
                  <a:pt x="5" y="0"/>
                </a:moveTo>
                <a:arcTo wR="5" hR="5" stAng="16200000" swAng="-5400000"/>
                <a:lnTo>
                  <a:pt x="0" y="29279"/>
                </a:lnTo>
                <a:arcTo wR="5" hR="5" stAng="10800000" swAng="-5400000"/>
                <a:lnTo>
                  <a:pt x="21595" y="2928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03400" y="696960"/>
            <a:ext cx="4647960" cy="34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ldImg"/>
          </p:nvPr>
        </p:nvSpPr>
        <p:spPr>
          <a:xfrm>
            <a:off x="-360" y="-8703000"/>
            <a:ext cx="360" cy="188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rt tree custom widget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-12541320" y="-8702640"/>
            <a:ext cx="25082640" cy="188118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1480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06640" y="696960"/>
            <a:ext cx="464472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914040" y="4411440"/>
            <a:ext cx="5016600" cy="419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104840" y="69696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914040" y="4416120"/>
            <a:ext cx="50166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88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069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42160" y="190656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7140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069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42160" y="4703400"/>
            <a:ext cx="25095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7947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88000"/>
              </a:lnSpc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600" y="470340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714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600" y="1906560"/>
            <a:ext cx="380376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1400" y="4703400"/>
            <a:ext cx="7794720" cy="25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88000"/>
              </a:lnSpc>
              <a:spcBef>
                <a:spcPts val="68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680" y="6078600"/>
            <a:ext cx="9131400" cy="776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65240" y="6400800"/>
            <a:ext cx="51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Tcl Conference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36760" y="6253200"/>
            <a:ext cx="41450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B7EDF46-4518-4B75-8EB3-3EE35DB86F1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143000"/>
            <a:ext cx="7754760" cy="544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79472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1400" y="1906560"/>
            <a:ext cx="77947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marL="263520" indent="-26352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7520" indent="-21708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80000"/>
              <a:buFont typeface="StarBats" charset="2"/>
              <a:buChar char="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92556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600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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666440" indent="-185040">
              <a:lnSpc>
                <a:spcPct val="188000"/>
              </a:lnSpc>
              <a:spcBef>
                <a:spcPts val="689"/>
              </a:spcBef>
              <a:buClr>
                <a:srgbClr val="0033cc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666440" indent="-185040">
              <a:lnSpc>
                <a:spcPct val="188000"/>
              </a:lnSpc>
              <a:spcBef>
                <a:spcPts val="689"/>
              </a:spcBef>
              <a:buClr>
                <a:srgbClr val="000000"/>
              </a:buClr>
              <a:buSzPct val="65000"/>
              <a:buFont typeface="StarBats" charset="2"/>
              <a:buChar char="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152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8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520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53080" indent="-2530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0880" indent="-20880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192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84000" indent="-175680">
              <a:lnSpc>
                <a:spcPct val="188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IN" sz="3200" spc="-1" strike="noStrike">
                <a:solidFill>
                  <a:srgbClr val="ffffff"/>
                </a:solidFill>
                <a:latin typeface="Arial Black"/>
              </a:rPr>
              <a:t>Tcl/Tk guidelines for improved automated regressions - a case-study</a:t>
            </a:r>
            <a:endParaRPr b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1840" y="4335480"/>
            <a:ext cx="365436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Saurabh Khait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Madhur Bhat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 Black"/>
              </a:rPr>
              <a:t>Tushar Gup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2057400"/>
            <a:ext cx="6502320" cy="6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17'th Annual Tcl/Tk Conference (Tcl'201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2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IN" sz="2200" spc="-1" strike="noStrike">
                <a:solidFill>
                  <a:srgbClr val="ffffff"/>
                </a:solidFill>
                <a:latin typeface="Times New Roman"/>
              </a:rPr>
              <a:t>October 11 - October 15, 2010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18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920" y="2971440"/>
            <a:ext cx="861084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# Verification Point 'newfile'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ompare</a:t>
            </a: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 [property get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[findObject ":vsim.dockbar.tbf0.standard.tb.button_0"] state] "normal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5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Times New Roman"/>
              </a:rPr>
              <a:t>test compare [property get [findObject ":vsim.dockbar.tbf0.standard.tb.button_0"] image] "__new_icon"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19040"/>
            <a:ext cx="9144000" cy="15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Checks Inserted in the code to verify the state of th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test compare [property get $widget $prop_name] $expected_value</a:t>
            </a:r>
            <a:r>
              <a:rPr b="0" lang="en-I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601"/>
              </a:spcBef>
              <a:spcAft>
                <a:spcPts val="201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4724280"/>
            <a:ext cx="350496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hecking the state and the im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of the button widget using compare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124080"/>
            <a:ext cx="1981440" cy="4572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Name of the V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352320" y="3352680"/>
            <a:ext cx="2971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71240" y="51055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3716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17524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2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80880" y="4114800"/>
            <a:ext cx="84582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" "File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 ":vsim.#mBar.#mBar#file" "New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" "New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aitForObject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880" indent="-30888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 activateItem ":vsim.#mBar.#mBar#file.#mBar#file#new" "Project..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8520" y="380880"/>
            <a:ext cx="8745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5000"/>
              </a:lnSpc>
              <a:spcAft>
                <a:spcPts val="187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3333cc"/>
                </a:solidFill>
                <a:latin typeface="Arial"/>
              </a:rPr>
              <a:t>Synchronization poi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295280"/>
            <a:ext cx="8991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What is 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Times New Roman"/>
              </a:rPr>
              <a:t>Types of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 Synchroniz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 Synchron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IN" sz="2400" spc="-1" strike="noStrike">
                <a:solidFill>
                  <a:srgbClr val="000000"/>
                </a:solidFill>
                <a:latin typeface="Times New Roman"/>
              </a:rPr>
              <a:t>waitForObjectItem $objectname  $item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4495680"/>
            <a:ext cx="304812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ynchronization Points inser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before every cli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79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4724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1447560" y="4724280"/>
            <a:ext cx="464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4479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Use of global procedure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-76680" y="106668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proc main {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nooze 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sourcing all global script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ean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analyz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ource [findFile scripts "close.tcl"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– clean_all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ean_al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 global procedure - 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nalyz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#global procedure – 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lose_pro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9880" indent="0">
              <a:lnSpc>
                <a:spcPct val="70000"/>
              </a:lnSpc>
              <a:spcBef>
                <a:spcPts val="6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2720" y="2743200"/>
            <a:ext cx="2590560" cy="6094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ourcing global 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191120"/>
            <a:ext cx="25909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ll to different 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1371600" y="4191120"/>
            <a:ext cx="4038480" cy="3045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1142640" y="4724280"/>
            <a:ext cx="426708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1447920" y="4952880"/>
            <a:ext cx="3962160" cy="38124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5146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4114800" y="3048120"/>
            <a:ext cx="144792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7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Limitations and Workaround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g and Drop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se of black box GUI testing tools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st using conventional analog tool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upport for custom widgets from automation tool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vas widge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creenshot Verification Points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85000"/>
              </a:lnSpc>
              <a:spcBef>
                <a:spcPts val="638"/>
              </a:spcBef>
              <a:spcAft>
                <a:spcPts val="187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extual dump of graphical display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Screenshot Verification Poin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467840" cy="45147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57400" y="3124080"/>
            <a:ext cx="914400" cy="304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2590920"/>
            <a:ext cx="91440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200400"/>
            <a:ext cx="762120" cy="228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4724280"/>
            <a:ext cx="182880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nvas widg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Hierarchical n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03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2057400"/>
            <a:ext cx="1523880" cy="5335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creenshot ma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486400" y="2362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191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2362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3623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800"/>
                            </p:stCondLst>
                            <p:childTnLst>
                              <p:par>
                                <p:cTn id="376" nodeType="after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Result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d and stable GUI testing regress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d testing tim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test coverag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product Quality – Customer reported bugs reduced significantly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238120" cy="19717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2210040" cy="2057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657600" y="5334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2" presetSubtype="4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5520" y="2514240"/>
            <a:ext cx="898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Thank You</a:t>
            </a:r>
            <a:endParaRPr b="1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676520"/>
            <a:ext cx="8912160" cy="16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9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1520"/>
            <a:ext cx="8759880" cy="10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33cc"/>
                </a:solidFill>
                <a:latin typeface="Arial"/>
              </a:rPr>
              <a:t>Agenda</a:t>
            </a:r>
            <a:endParaRPr b="1" lang="en-US" sz="3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Need for automated GUI regression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utomated GUI testing tool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Guidelines for develop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esting strategies for QA engineer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imitations and workarounds 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sults</a:t>
            </a: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Need for Automated GUI regression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ing complexity of GU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essive permutation and combinations of sequence of steps to test manually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 out “human error” in test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time-to-marke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iminates repeated testing effor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Automated GUI testing tool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alog tools 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-ordinate based to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ols –&gt; T-Plan Robot, Auto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imitations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ject based tool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ks on internal objects/widgets of the GU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ools -&gt;Squish,  TKRepl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0033cc"/>
                </a:solidFill>
                <a:latin typeface="Arial"/>
              </a:rPr>
              <a:t>Guidelines for developers</a:t>
            </a:r>
            <a:endParaRPr b="1" lang="en-US" sz="4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 use of internal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array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environment variabl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algorithmic func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700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 representation of graphical displ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Internal functions and global array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reateAnnotationFileW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AIn[1:0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BI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w1[9:6]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Y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ddNetToAnnotationWin top.ZOu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selection set 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$annotationWin(fileTypeCB) invok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85000"/>
              </a:lnSpc>
              <a:spcBef>
                <a:spcPts val="689"/>
              </a:spcBef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aveAnnotationFil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990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reate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7240" y="1371600"/>
            <a:ext cx="297180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629400" y="2133720"/>
            <a:ext cx="228600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d net to annotation wind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53080" y="4038480"/>
            <a:ext cx="22860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ernal Function call 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ave annotation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200400"/>
            <a:ext cx="2286000" cy="6858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ll to global arr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040" y="2666880"/>
            <a:ext cx="3429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209320" y="3657600"/>
            <a:ext cx="43434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3048120" y="4495680"/>
            <a:ext cx="3504960" cy="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200400" y="243792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09680" y="342864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7454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Use of algorithmic functions and environment variable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 findpath {fullpath separator tree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sanity check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tree search algorith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tree update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…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# code for regression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[info exists ::env(MED_REGRESSIONS)]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{$found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msg “path not found”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ho $msg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0">
              <a:lnSpc>
                <a:spcPct val="50000"/>
              </a:lnSpc>
              <a:spcBef>
                <a:spcPts val="700"/>
              </a:spcBef>
              <a:spcAft>
                <a:spcPts val="2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3733920"/>
            <a:ext cx="304920" cy="2286000"/>
          </a:xfrm>
          <a:custGeom>
            <a:avLst/>
            <a:gdLst>
              <a:gd name="textAreaLeft" fmla="*/ 0 w 304920"/>
              <a:gd name="textAreaRight" fmla="*/ 110160 w 3049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267080"/>
            <a:ext cx="259092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is part of code is enab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nder an environment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4419360" y="47242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1219320"/>
            <a:ext cx="2819520" cy="76176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gorithmic function call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findpath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o perform complex GUI 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1676520"/>
            <a:ext cx="46479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1219320" y="1447560"/>
            <a:ext cx="0" cy="22860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2133720"/>
            <a:ext cx="2819520" cy="83808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function performs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9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ike tree search and tree 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905120" y="2514600"/>
            <a:ext cx="3962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xt representation of Graphical display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3733920" cy="48006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838760" y="1143000"/>
            <a:ext cx="4076640" cy="48769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962520" y="3429000"/>
            <a:ext cx="914400" cy="0"/>
          </a:xfrm>
          <a:prstGeom prst="line">
            <a:avLst/>
          </a:prstGeom>
          <a:ln w="7632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ts val="477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74548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5000"/>
              </a:lnSpc>
              <a:spcAft>
                <a:spcPts val="187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0033cc"/>
                </a:solidFill>
                <a:latin typeface="Arial"/>
              </a:rPr>
              <a:t>Testing strategies for QA engineers</a:t>
            </a:r>
            <a:endParaRPr b="1" lang="en-US" sz="3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77547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ific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ation point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of global procedur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440" indent="-325440">
              <a:lnSpc>
                <a:spcPct val="120000"/>
              </a:lnSpc>
              <a:spcBef>
                <a:spcPts val="689"/>
              </a:spcBef>
              <a:spcAft>
                <a:spcPts val="201"/>
              </a:spcAft>
              <a:buClr>
                <a:srgbClr val="0033cc"/>
              </a:buClr>
              <a:buSzPct val="65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line debu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5400" indent="-268200">
              <a:lnSpc>
                <a:spcPct val="120000"/>
              </a:lnSpc>
              <a:spcBef>
                <a:spcPts val="638"/>
              </a:spcBef>
              <a:spcAft>
                <a:spcPts val="201"/>
              </a:spcAft>
              <a:buClr>
                <a:srgbClr val="0033cc"/>
              </a:buClr>
              <a:buSzPct val="80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imes New Roman"/>
              </a:rPr>
              <a:t>Enable debugging screenshots</a:t>
            </a:r>
            <a:endParaRPr b="1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urabh</dc:creator>
  <dc:description/>
  <dc:language>en-US</dc:language>
  <cp:lastModifiedBy>Sk</cp:lastModifiedBy>
  <dcterms:modified xsi:type="dcterms:W3CDTF">2010-10-15T13:10:09Z</dcterms:modified>
  <cp:revision>638</cp:revision>
  <dc:subject/>
  <dc:title>Tcl'20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