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0EC2B-5802-48D5-B376-BFAC18555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DBACC-799E-435E-A292-26B186FBA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FB99C-2A77-4C08-A632-607B26AAE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ED4C-07F0-484B-8AB5-F701979F62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379C7-1D43-4EC8-BD67-8F3F282C91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9BC00-833E-462D-A07A-5AE948CFCE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2DB5-1255-4FF5-B9CC-B222992EC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BF7C-7CEC-4C28-8C27-2171EABC4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A3C0C-295E-4BCD-A238-A8C1B7981A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DE7EA-6E49-4F8B-A9D5-86CBB48FD1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4DC7-7DDA-4464-BD27-3C150900D2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23D0-1D99-4C2E-9447-255594CBC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a2565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700360" y="6549840"/>
            <a:ext cx="4176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430840" y="6289200"/>
            <a:ext cx="51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800" spc="-1" strike="noStrike">
                <a:solidFill>
                  <a:srgbClr val="0a256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F5D8-097D-45F3-92CA-777A91D6459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F2C9-D521-465E-B308-0DB100DCB49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28464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800" spc="-1" strike="noStrike">
                <a:solidFill>
                  <a:srgbClr val="0a2565"/>
                </a:solidFill>
                <a:latin typeface="Arial"/>
              </a:rPr>
              <a:t>Cook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a2565"/>
                </a:solidFill>
                <a:latin typeface="Arial"/>
              </a:rPr>
              <a:t>Wojciech Kocjan, 2010-10-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4ACB-2744-4F67-9624-71C6B301B8A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Keeps structure of an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stores a tree of all files and dire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tains information such as mtime for all e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ll information read when VFS is mounted and kept entirely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events illegal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Not possible to create a file/directory as child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eration such as changing a file to a directory are also blocked by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942F-E77F-447A-826C-556F5E2AA6C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index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Stores mapping of pages to fil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formation on each file has references to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list of pages – page number, offset in page and data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files can reuse same page(s) if their contents is the same – automatically detected by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290F-A17C-44A7-BB84-3137A1A06A1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pages and index to provide complete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handlers for VFS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index used for file information operations such asl isting files, getting and setting file 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rovides channels for reading mechanis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ndles seek and read operations – data retrieved directly from pages, not read entirely to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n creat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han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or channe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43C84-8AA9-4636-B07A-D9B5130BB9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VFS layer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es memchan for writing to cookfs arch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itiated as empty or containing previous content of a file, depending on how file was op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en memchan is closed closed, its contents is added to archive or queued for add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Files above specified size are added right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mall files added in batches and grouped by file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VFS layer is currently implemented in Tcl; uses </a:t>
            </a:r>
            <a:r>
              <a:rPr b="0" lang="pl-PL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tclvfs</a:t>
            </a: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 package for providing Tcl virtual file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B73-DD77-402C-83AF-EB7F04300BB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E6F3-803D-4E3D-88DB-330D1B09ECF8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Mk4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offers multiple compress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bzip2 also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LZMA support planned for future rele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E7CB-3342-4A7D-9C04-383E8FB6357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k4 VFS – continu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k4 VFS and cookfs implemented in C+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 VFS uses Mk4tcl for underlying sto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k4tcl written in C++ - requires additional libraries (libstdc++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uses C code for storage; pure Tcl version work in progress – C version will provide better perform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Both technologies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E3C-696F-4345-9B7B-ADD50A2A755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ZIP V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oth ZIP VFS and cookfs use zlib com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ZIP VFS compresses each file individu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s compresses smaller files in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okfs provides other compressiona algorith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ZIP VFS uses a known standard for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tools for managing ZIP archives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be created from various tools such a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CAD1-7697-4EA5-93F3-450CFC1ABCB0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with existing technologi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ther related projects and/or alterna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ro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ure C solution for single file archives; designed for Tcl modules in mi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, simply concatenates file contents and metadata on stored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depend on tcl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ar V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tar archive format for storing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oes not use compression by defau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6E07-FED2-42E5-A1BC-77CA4EAA8D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31EF-89C5-4236-91B9-6B12EB431C7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1A06-4A24-478F-9D61-EEBF761AE6F9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related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httpd 3.5.1 – embedded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tively small packag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, often used in Tcl app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460k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llib 1.11.1 – set of commonly used Tcl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12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ctiveTcl 8.4 – sample of Tcl binaries and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stallation of ActiveTcl 8.4.19.0 for Linu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71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7" descr="D:\My Dropbox\TclConf2010\Images\sample_activetcl84_linux_1.png"/>
          <p:cNvPicPr/>
          <p:nvPr/>
        </p:nvPicPr>
        <p:blipFill>
          <a:blip r:embed="rId1"/>
          <a:stretch/>
        </p:blipFill>
        <p:spPr>
          <a:xfrm>
            <a:off x="6100920" y="4508640"/>
            <a:ext cx="2863800" cy="162072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D1D2-EA4C-4419-B16F-2C66373CFFB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02" name="Picture 3" descr="D:\My Dropbox\TclConf2010\Images\sample_tcllib_size.png"/>
          <p:cNvPicPr/>
          <p:nvPr/>
        </p:nvPicPr>
        <p:blipFill>
          <a:blip r:embed="rId2"/>
          <a:stretch/>
        </p:blipFill>
        <p:spPr>
          <a:xfrm>
            <a:off x="233280" y="27813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D:\My Dropbox\TclConf2010\Images\sample_tclhttpd_size.png"/>
          <p:cNvPicPr/>
          <p:nvPr/>
        </p:nvPicPr>
        <p:blipFill>
          <a:blip r:embed="rId3"/>
          <a:stretch/>
        </p:blipFill>
        <p:spPr>
          <a:xfrm>
            <a:off x="233280" y="1052640"/>
            <a:ext cx="5684760" cy="1620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D:\My Dropbox\TclConf2010\Images\sample_tcllib_linux_1.png"/>
          <p:cNvPicPr/>
          <p:nvPr/>
        </p:nvPicPr>
        <p:blipFill>
          <a:blip r:embed="rId4"/>
          <a:stretch/>
        </p:blipFill>
        <p:spPr>
          <a:xfrm>
            <a:off x="6100920" y="2781360"/>
            <a:ext cx="2863800" cy="1619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My Dropbox\TclConf2010\Images\sample_tclhttpd_linux_1.png"/>
          <p:cNvPicPr/>
          <p:nvPr/>
        </p:nvPicPr>
        <p:blipFill>
          <a:blip r:embed="rId5"/>
          <a:stretch/>
        </p:blipFill>
        <p:spPr>
          <a:xfrm>
            <a:off x="6100920" y="1052640"/>
            <a:ext cx="2863800" cy="1620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My Dropbox\TclConf2010\Images\sample_activetcl84_size.png"/>
          <p:cNvPicPr/>
          <p:nvPr/>
        </p:nvPicPr>
        <p:blipFill>
          <a:blip r:embed="rId6"/>
          <a:stretch/>
        </p:blipFill>
        <p:spPr>
          <a:xfrm>
            <a:off x="233280" y="4508640"/>
            <a:ext cx="56847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5E77-4F92-4AB3-A506-2F48667FF18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Non-tcl s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Joomla and LAMP – BitNami Joomla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of packaging non-Tcl content into an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omla stack  for Linux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ache, MySQL and 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224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ckaging Redmine – BitNami Redmine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dmine application with Ruby and all other artif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ncompressed size: 535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1074-A177-45F7-99AD-E17F0E2D9D5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mparison – sample archive cont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pic>
        <p:nvPicPr>
          <p:cNvPr id="112" name="Picture 2" descr="D:\My Dropbox\TclConf2010\Images\sample_joomla_lamp_size.png"/>
          <p:cNvPicPr/>
          <p:nvPr/>
        </p:nvPicPr>
        <p:blipFill>
          <a:blip r:embed="rId1"/>
          <a:stretch/>
        </p:blipFill>
        <p:spPr>
          <a:xfrm>
            <a:off x="233280" y="187956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D:\My Dropbox\TclConf2010\Images\sample_joomla_lamp_linux_1.png"/>
          <p:cNvPicPr/>
          <p:nvPr/>
        </p:nvPicPr>
        <p:blipFill>
          <a:blip r:embed="rId2"/>
          <a:stretch/>
        </p:blipFill>
        <p:spPr>
          <a:xfrm>
            <a:off x="6102360" y="1879560"/>
            <a:ext cx="2862360" cy="161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D:\My Dropbox\TclConf2010\Images\sample_redmine_rubystack_size.png"/>
          <p:cNvPicPr/>
          <p:nvPr/>
        </p:nvPicPr>
        <p:blipFill>
          <a:blip r:embed="rId3"/>
          <a:stretch/>
        </p:blipFill>
        <p:spPr>
          <a:xfrm>
            <a:off x="233280" y="3610080"/>
            <a:ext cx="568476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D:\My Dropbox\TclConf2010\Images\sample_redmine_rubystack_linux_1.png"/>
          <p:cNvPicPr/>
          <p:nvPr/>
        </p:nvPicPr>
        <p:blipFill>
          <a:blip r:embed="rId4"/>
          <a:stretch/>
        </p:blipFill>
        <p:spPr>
          <a:xfrm>
            <a:off x="6102360" y="3610080"/>
            <a:ext cx="286236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B59A-2933-4045-8B6A-70443038098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3A74-93BF-4201-B7CF-A8A677041FD2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is a tclkit-like binary that has Tcl, core libraries and VFS included in a singl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cludes Tcl (optionally Tk) and cookfs linked 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an be used in same ways as tclki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running other scripts – Tcl scripts, cookfs and zip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r building standalone applications – by adding files to cookfs archive, including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s interactive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shell in a singl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A899-EFDA-4D94-B848-79709EAC6ED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and Tcl 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Main()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as custom application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ads initialization Tcl code from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Initializes tclvfs and Tcl libraries after mounting cook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pl-P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.tcl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file is present in cookfs archive, cookit source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Works as standalone ap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ther packages can be placed in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b/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directory; they can be loaded using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 comma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07B4-7C09-4B3E-8937-6EC2A8CDC6B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it build sys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ngine for building packages and linking 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s logic to handle dependencies, comparing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ultiple commands to build entire cookit or just pa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Has definitions for cookit parts – i.e. tcl, tk, vfs,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Each part defines how it is configured and bui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isting files to add to cookit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reate additional scripts for cooki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 adding static packages to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_AppInit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04B19-F589-444F-8303-DAEF0379C457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Building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ownload cookit build system from SourceForge:</a:t>
            </a:r>
            <a:br>
              <a:rPr sz="2400"/>
            </a:br>
            <a:r>
              <a:rPr b="0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http://sourceforge.net/projects/cookit/files/cooki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trieve Tcl, Tk, tclvfs and cookfs sources:</a:t>
            </a:r>
            <a:r>
              <a:rPr b="0" lang="pl-P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retrievesource tcl tk vfs cook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ing default cookit (without Tk)</a:t>
            </a:r>
            <a:br>
              <a:rPr sz="20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ild with Tk embedded statically (i.e. for MS Windows)</a:t>
            </a:r>
            <a:r>
              <a:rPr b="0" lang="pl-PL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br>
              <a:rPr sz="2600"/>
            </a:b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sh build.tcl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–tk latest build-cook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009E-1779-47A2-9FA4-312927DE72E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ookit – standalone Tcl/Tk binary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cook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uns in command prom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a2565"/>
              </a:buClr>
              <a:buSzPct val="95000"/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okit-ui.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cludes Tk and only provides UI mo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tforms currently bui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X x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latforms can be built from source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438E5-2185-4793-841A-6B5746FA3D0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Tcl one of first languages to ship applications as single execut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wrap – first Tcl solution for putting multiple files in single executable; uses ZIP based arch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eeWrap – one of first freely available solutions; uses 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clKit – one of most popular solutions for bundling applications; uses Mk4-based VFS and uses Tcl 8.4 VF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F672-DDEC-4FD0-B004-F0E5A0D49C6C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7F7F-4DED-4AB5-BD49-7FFC8C6028A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f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e format stabilized – will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lementation partially C and T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clvfs to provide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-only implementation – remove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ure Tcl version for easier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grouping and duplication detection – currently not detected well for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E8B2-23CE-43AE-9D93-503C8C957E7B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 – cookit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zed build system, support for multiple platforms (tested on 4 platforms, regularly built on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aries work fine – no major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hreaded Tcl not yet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ture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platforms builds to be performed period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for building and managing 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0A68-B9E4-4D66-8A67-8432D7365C4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Current status and plan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ant to help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e docum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tter test suite and/or add more test cover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with implementing new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k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support – build and submit bin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mit bugs/problems on less common platfor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8AE4-89CC-4BD6-B422-E7E089FDD96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FC92-BBBA-4F01-A108-18F6118CCFB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itRock, especially Daniel Lopez and Juan José Medina Godoy – for providing feedback to cookfs and paper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iotr Beltowski – for reviews and comments on cookfs, cookit and documents for this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a2565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6C7F4-4F1A-4542-95B2-DF090B7A8885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pl-P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CEFC-FA32-42DC-9F61-59E3C083169D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A061-49D4-4CF4-90D3-162F27B68576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Why cookf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ptimized for Tcl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Groups small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ptimized for Tcl files such as pkgIndex.t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ultiple com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urrently zlib, bz2 – plans for including LZMA as o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an use multiple compressions in one arch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Designed for shipping all types of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Handles large number of small files and very large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Provides efficient memory management – VFS operations consume very little mem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69F4-6E03-40F0-B0C5-9D25F4FD9B4F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Using cook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taining and building cook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Available from SourceForge - source code on SVN; cookfs source and cookit binaries as file downloa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ing TEA; uses standard configure &amp; make appro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ing cookfs from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imilar to any VFS –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cookfs::Mount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fs::unm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Commands (i.e. </a:t>
            </a:r>
            <a:r>
              <a:rPr b="0" lang="pl-P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) work same as for any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Direct write command for faster addition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A1E8-8067-47EA-ABD8-63401B3BEE9E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Introdu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verview and desig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with existing technolog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mparison – sample archive cont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ookit – standalone Tcl/Tk bin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7f7f7f"/>
                </a:solidFill>
                <a:latin typeface="Arial"/>
              </a:rPr>
              <a:t>Current status and pl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853-4708-4CE8-BCA7-DC8A4EFE0A6A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Cookfs major e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Storage of parts of files, entire files or group of 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eferenced by integer indexes, starting from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ndex and direct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Keeps information on files and directories in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Maps hierarchy to cookfs p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okfs VFS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Uses pages and index elements to provide VF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Offers access to archive from Tcl and Tcl C AP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517-3E5E-4170-8A9B-D183E3689AE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Generic solution for storing content of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Each page can store arbitrary amount of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referenced by integer indexes, starting a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Pages can only be added and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s are immutable – update or delete not allow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reading uses LRU cache; this speeds up retrieval of small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age cache is configurable – faster reads at a cost of larger memory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4"/>
          <p:cNvSpPr/>
          <p:nvPr/>
        </p:nvSpPr>
        <p:spPr>
          <a:xfrm>
            <a:off x="8431200" y="6289560"/>
            <a:ext cx="514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520A-88AF-4AD4-834A-26037120DD73}" type="slidenum">
              <a:rPr b="1" lang="es-ES" sz="1800" spc="-1" strike="noStrike">
                <a:solidFill>
                  <a:srgbClr val="0a2565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a2565"/>
                </a:solidFill>
                <a:latin typeface="Arial"/>
              </a:rPr>
              <a:t>Overview and design – pages</a:t>
            </a:r>
            <a:endParaRPr b="0" lang="en-US" sz="3200" spc="-1" strike="noStrike">
              <a:solidFill>
                <a:srgbClr val="0a256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Metadata keeps track of page siz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Keeps information on all pages’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rovides space for storing cookfs ind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a256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0000"/>
                </a:solidFill>
                <a:latin typeface="Arial"/>
              </a:rPr>
              <a:t>Offer write-aside fea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ring changes to cookfs archive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Useful for read-only media (CD, DVD) or for storing updates to application in a separat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a2565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urrently written in C; work on pure Tcl implementation currently i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07:34:50Z</dcterms:created>
  <dc:creator>Bitrock SL</dc:creator>
  <dc:description/>
  <dc:language>en-US</dc:language>
  <cp:lastModifiedBy> </cp:lastModifiedBy>
  <dcterms:modified xsi:type="dcterms:W3CDTF">2010-10-13T17:45:02Z</dcterms:modified>
  <cp:revision>56</cp:revision>
  <dc:subject/>
  <dc:title>Diapositiva 1</dc:title>
</cp:coreProperties>
</file>