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23A6-8EF9-4EDC-8119-F4F02159A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513E-4201-4411-A4CA-0C9F2E8D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393F-1D81-41E8-8517-98B5FC311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5344-63DA-40BC-A550-7AD07CE5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56CA-0B1F-4369-8232-6CF52755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01DD-D9C2-4A02-9AD7-2B357E0F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CBD2-8D54-4439-B301-B596AB3C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DE36-CE8A-49E7-8514-C53307C1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7BEB-5233-4D4D-8170-0219D848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DBA5-FA97-4BF5-82AF-C73B71E1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7771-3C05-4815-8AF5-C2593369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6ED0-5B9C-4BB3-89BB-45686751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47FC-CD74-448F-873B-7A82DDBACA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eagle.to/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Maturation and Ev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7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till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T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rgument expansion syntax (i.e. {*}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namespace support (except the global namespac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binary], [fblocked], [fileevent], [format], [glob], [history], [memory], [scan], or [trac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open], command pipelines and serial port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[exec], Unix-style input/output redirection and command pipelines are not suppor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Safe B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[registry] or [dde] comma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namespac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makes command and variable resolution far more comple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ut, I really need namespac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teps have already been take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for custom resolvers has already been added via the “default resolver” and the managed resolver AP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no compiler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 enough time in the original schedu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aw performance was not a primary consider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ng dynamic and correct is more important than being fa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ng running scripts can be evaluated (and canceled as necessary) in secondary threa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LR just-in-time compiler is already pretty goo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formance Proble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much slower than native Tcl, even for the simplest oper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 time, targeted optimizations have been added for all critical code pa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slow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sing strings into lis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ilding lists from str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ression evaluation, primarily string-to-type con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other performance issues are insignificant compared to these thre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wo years ago, at a conference far far away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was presented and there was much rejoic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ever, it was not all double-rainbows and flying unico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ext Placeholder 2" descr=""/>
          <p:cNvPicPr/>
          <p:nvPr/>
        </p:nvPicPr>
        <p:blipFill>
          <a:blip r:embed="rId2"/>
          <a:stretch/>
        </p:blipFill>
        <p:spPr>
          <a:xfrm>
            <a:off x="169920" y="165240"/>
            <a:ext cx="8804160" cy="65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1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terpreter class is far too lar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eak into multiple fi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entity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shared state and its management to a new compon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ve all “helper” functionality to other classes unless they need access to interpreter intern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teractive loop code is too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jor Compon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Text Placeholder 2" descr=""/>
          <p:cNvPicPr/>
          <p:nvPr/>
        </p:nvPicPr>
        <p:blipFill>
          <a:blip r:embed="rId2"/>
          <a:stretch/>
        </p:blipFill>
        <p:spPr>
          <a:xfrm>
            <a:off x="693720" y="1076400"/>
            <a:ext cx="783288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rchitectural Problems, Part 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gine is too recursiv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would potentially be a lot of benefits from something like NR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omponents are too tightly coupled and have some circular dependenc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Mono Sag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o support was added prior to the conference last ye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has never been perfect because of serious bugs in the Mono platfor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should build and run correctly on recent versions of Mono (e.g. 2.6.7 and 2.8) for Windows and Unix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can I help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st in your environments and report any issues you fin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ribute to the documentation and/or the test sui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feedback, suggest features, or fl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s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, real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iginally designed for the purpose of providing a first-class library for scripting applications written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other considerations were secondary, including performance and full Tcl compatibili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Eagle is no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based on the Microsoft Dynamic Language Runtime (DL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intended for stand-alone application develop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likely to ever have a compil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a replacement for Tcl or Jac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hate Microsoft, .NET, C#, etc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k, but you like Tcl; otherwise, you wouldn’t be 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good for the Tcl community because it exposes Tcl to an audience that would otherwise have little or no exposure to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f 100% Tcl compatibility is require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ncluded wrapper can be used to access native Tcl from managed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lly discussed in the Eagle 2009 presentation, available for downlo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the innovatio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application is always right” attitud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IHost interface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interpreter, multiple threads, saf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universal option parser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mless integration with CLR objec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upport for overload resolution, properties, methods, fields, and ev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built-in debugging suppor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mple development / deployment model (i.e. the “add a reference and go experience”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atibility, performance, and m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still several major Tcl 8.4 features miss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verall performance is still several orders of magnitude slower than Tc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’m still the only person working on the proje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10-10-14T18:34:37Z</dcterms:modified>
  <cp:revision>582</cp:revision>
  <dc:subject>Eagle</dc:subject>
  <dc:title>Eagle: Maturation and Evolution</dc:title>
</cp:coreProperties>
</file>