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09421-8B75-4BA6-BACA-6BB5E742C5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0DCF7-002F-4E41-AA42-CB5233CA5F8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836F74-8E8C-43D0-B6E0-1F265342293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EB286B-851B-4543-B06E-2F59893C389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3FE508-2BFD-4E72-B49A-6175C0D2CA7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C2490B-C6FF-477C-9DA1-F3056696C03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34B44B-89D2-420D-97F1-336C0775A26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04BB92-2F7C-43DC-B047-2B589133A48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194F67-68A8-4595-86F3-775A42B8A98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84A587-010F-482D-A4A9-988DD81EC77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A17205-8EBA-41E8-B558-D7BDF906554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013230-55DF-4F36-ABDF-3F75DBDBA3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8B0B1-87A9-4AB8-BDA1-81967BB53D7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1FB4AF-B5A5-49BD-B7BB-F6DBED44C90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A46268-9067-47E4-9495-A85D0A9B01B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A608F8-EFA3-4C48-938F-A6249DD71A9C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013CBB-03D6-4D14-876A-18998CC948C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FDC766-F1BD-44FB-9EF0-161008595AA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F195B9-34CD-4F35-9604-AF176810B2B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543158-D691-448E-8083-6AAB254086B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8E1982-BA76-477A-96B3-609C482197D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6D951A-0098-42A1-AB2C-5CC878EF2DE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B3155A-667D-4C34-9FDA-E5CB25B0FA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36461-9571-4B04-B403-486892677B8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6A5657-D90D-42AC-B3B1-6D0DA73D4C5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214EB2-DA55-4DEB-BEC5-EB738CB52CA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363A0-D34C-45FA-9246-D7C6E587DF8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71EC4-5DC5-4CA4-B034-C079ED5B590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400C8-A170-4B63-920A-1F38AA75BCB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3807F-E4BE-4663-B166-073CB72D0DA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0DACD-2B82-4FEC-A417-2B2E26931EF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890CD-2C1B-4BCC-9269-7CE95FB3E81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C404A-00DC-4CF8-9153-C49785B5056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7E80C-11ED-4A4D-B8AC-54B01132B6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F40EAB-5056-47DB-B80F-8151B8A866E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6E3D7-0E9A-4426-A745-2F34495A322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6FEF1-B491-4728-A905-7CA873062FF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9CDAA-706D-47E0-8D91-39A4F9510A8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10FC05-8179-4168-88AB-A00A67C5FC5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21890F-FCB2-4769-B119-1F708DD8811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910C43-76B1-4B28-B137-1FE06A6BAEF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977016-F11C-437E-91E6-4925548C6AF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6A84D1-79DA-4892-A3D8-07A7269F6C8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2DABDD-98D1-454B-BE62-D135DB1D6A4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25F8FC-5D5E-4B31-B08D-C17C9C1927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2722F-A3DC-4484-ACF3-4CE1E2B22D2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43762F-EAA7-4558-B305-03154699DB8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ABAA57-056C-4BEA-8936-1C77ADAE68B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CB7CC6-3263-4F8C-B271-B8C8A99750B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28689A-9D59-4DD0-AA0F-87CF3FDE12D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57ED26-0273-4DB9-A9AB-CDEEA1EB770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0C1643-37CD-47BF-8EC7-BFD7CB4BB5CB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C1F4EB-0807-48F9-873D-1073761D0982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7687E1-ABBE-4A22-839E-C8774490477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26B09B-4E7A-40ED-89E5-BBDAE46FD4C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4B260F-B377-4044-811E-8BFA884D65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DC5D3D-5B68-43D6-9428-F1E6504AA231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FCB211-C253-45E1-9EE1-F63146EBECA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C28005-4028-46B8-A7D9-A5856870D6C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FE23B9-08EB-44E3-8926-03258AF5332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277A56-B821-47FB-842E-A6E63EFB9EF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034E2E-D31D-4C69-AA7A-DE2AD3E72FA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8BDC50-FE98-4A0F-BD63-B82AA44901C2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C82F98-D9D0-4C5D-ABDB-21C10D55D3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69C383-780E-48EE-9F4A-7D94C3F4B2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E2B1F4-790B-4DCB-A364-3CAFF96FCF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4EED5-133A-4477-9DB3-F631DB62DD8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AF4AC-0537-4194-847D-3C6BE79AD3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C371C-40F8-4A29-8197-DC12B449C1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FE9B6-0743-43D2-8AEB-9B7B1A5090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DF6D2-FADC-4A28-8305-7A62A9E6BC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550D1-48A0-4A0D-843B-7A52860E7F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FD2CDF-8311-4D10-A705-303FC1FBA7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7FBD2-30BC-4F44-A1F4-689E6EE4D3E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4FDD-51B9-4D86-B16A-021841586B3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171FA-A4FB-4648-B896-A44CF1C6202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179F2-52FA-46BC-8EC0-1A0CFC48DEF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7D02-FCD0-4AE7-BDDA-A1B724E635E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04639-5FD5-4ED3-827C-EA5228ACA6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98F05-483A-434C-931E-FFCDAC359A5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8E1C-76CD-4029-ABED-107A83668F4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BB103-1F8D-4595-9EF8-F01B2D08454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EFC7-61A2-4B22-972E-8B3675D26FE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9BD4-6FBB-4322-84F7-2E2B3326A64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3F3E9-F5F9-4A0F-BD67-4F6B9E6624A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68F9-6652-4EE6-9C32-90CFF2861FE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B01E-43C2-4288-AE83-48943841E77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82AF22-B27E-48B5-98EC-5A47B5C5432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CEBE7B-D7B2-4966-83FC-DF153309DE5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D0E47D-3F15-46EC-993A-21C3E49013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F3F71-CE0F-49DF-B9C8-A62499E38F7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BDC5F9-D36D-4BB8-85E6-75CD618BA82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919AF8-F54D-4E62-A54B-0BBE32C63A0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E5C8CF-EF86-4BFF-B757-8D9C2A18C7E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D761FB-2D0E-4D8B-8158-60BCAD81292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E238EC-D64B-47FB-8870-F12E2E9B56F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FD4C8D-6440-4790-82F3-B96F735BAF2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570A33-A720-4EE2-B6B0-523AB72271D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1062FB-6DF9-40A2-BD59-E1217100016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26162E-8923-4C7A-B789-8FC9D9ACB71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F91F2-326B-42E5-ACB3-6CF332F99CC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82BDA-0C97-47C8-8CFB-5DB48AF8258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E9289-063B-45D5-9D5A-5BBE890B0AC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07F106-3431-4DAA-B350-45A8FE80B1A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4A54E4-B04A-48E2-BA83-B71880C3D0C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BFBBB3-8B34-4A4D-8202-CC39CEEDE7FC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F1FCEA-DCF6-42D4-8239-AB22CB56EA7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62D225-FB10-4E3D-807C-D6103A32A6F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008D8A-6710-4E58-9D54-63669161AC4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10C54A-C3F9-4CAB-BBA7-581E153C16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85EF3-46CB-4970-BF2B-21695A4EACB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55BAA0-57C2-4AE7-B791-00E17F7CEC2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1F4230-1A52-4978-B4FB-9CDE92ECA71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041A63-0EC4-4924-A43D-579C7664AD8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EE57DD-B051-434C-B2BB-33C3EAED2AC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500C8B-4B1D-422A-A7F3-2D0A6450361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74134-123D-4E66-9302-862D6FFAD60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02FF9-49E2-420F-A311-532CFF61F66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1FF1B-F1EA-458E-B9E8-44696A0DD66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A5986-CCC2-4641-8857-FBF95FB3C5D3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256BA-4D4E-4140-B8F3-777FDD57E8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CF4A3-5446-4172-99D5-727E6859E07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5A1C2-47A4-4362-9C3B-AFF4583A119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45C7A-D895-414A-886A-98BA8FCB441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F16F4-3013-415D-A0D6-ED9C9C90D9C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EDBD7-A923-473C-9BDF-A9CA079737C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0" y="3964680"/>
            <a:ext cx="91440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28699-7FA7-4106-AC3A-0E3A3B65F28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5760" y="131616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5760" y="3964680"/>
            <a:ext cx="446220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33A89-45C8-4BAF-9C7C-8349713605A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9168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183360" y="131616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09168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183360" y="3964680"/>
            <a:ext cx="2944080" cy="24184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39B3B-8AB5-4044-BB6D-C101FFA456E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CE37A1-490B-40C6-8B7B-6810704F5D7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D03297-CB52-4343-88B9-C7EFBDFC372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44D19F-1081-4420-ABA1-8A736D37DD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BKG-12x-Rul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0"/>
          <p:cNvGrpSpPr/>
          <p:nvPr/>
        </p:nvGrpSpPr>
        <p:grpSpPr>
          <a:xfrm>
            <a:off x="5648400" y="6510240"/>
            <a:ext cx="2419200" cy="323640"/>
            <a:chOff x="5648400" y="6510240"/>
            <a:chExt cx="2419200" cy="323640"/>
          </a:xfrm>
        </p:grpSpPr>
        <p:sp>
          <p:nvSpPr>
            <p:cNvPr id="2" name="Text Box 24"/>
            <p:cNvSpPr/>
            <p:nvPr/>
          </p:nvSpPr>
          <p:spPr>
            <a:xfrm>
              <a:off x="5648400" y="6510240"/>
              <a:ext cx="2419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333333"/>
                  </a:solidFill>
                  <a:latin typeface="Tahoma"/>
                </a:rPr>
                <a:t>© 2010 Mentor Graphics Corp. Company Confidential</a:t>
              </a:r>
              <a:endParaRPr b="0" lang="en-US" sz="7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3" name="Text Box 22"/>
            <p:cNvSpPr/>
            <p:nvPr/>
          </p:nvSpPr>
          <p:spPr>
            <a:xfrm>
              <a:off x="5653080" y="6619680"/>
              <a:ext cx="14479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2286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3333"/>
                  </a:solidFill>
                  <a:latin typeface="Tahoma"/>
                </a:rPr>
                <a:t>www.mentor.com</a:t>
              </a:r>
              <a:endParaRPr b="0" lang="en-US" sz="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BC7CC-9EF3-44F2-BC83-A4981BDD9BE4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E55B-7A05-4B5E-8E97-200C14804ECB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17"/>
          </p:nvPr>
        </p:nvSpPr>
        <p:spPr>
          <a:xfrm>
            <a:off x="41904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1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E2520-F182-40EA-8D3C-DAA8040EA361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1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3CF3-16F1-4462-A188-B0878B7420D7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ftr" idx="2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1C02-993A-4520-BFC2-CFBD837C9680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4"/>
          </p:nvPr>
        </p:nvSpPr>
        <p:spPr>
          <a:xfrm>
            <a:off x="-360" y="6629040"/>
            <a:ext cx="384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E47E-7B63-4E3F-B429-8BAC943A5DE0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5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522B-1FB1-4961-BF01-2EB85F3C0317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ftr" idx="7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8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7776-A731-43B9-963F-B6DEA8CDAB07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10" descr="C:\Documents and Settings\lseigneu\Desktop\PPT MAIN DEV\TESTING FILE SIZES\SET PS bkgs in PP saved as JPGs then used for template\A\_B AS POSTED w C bkgs dropped in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lseigneu\Desktop\PPT MAIN DEV\TESTING FILE SIZES\SET PS bkgs in PP saved as JPGs then used for template\A\_B AS POSTED w C bkgs dropped in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0" y="1066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9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0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E7AC-0668-4FD0-A2CE-91A4D52DC832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C:\Documents and Settings\lseigneu\Desktop\template 032110 home\lite clos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11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Your Initials, Presentation Title, Month Year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2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4418-4995-4807-A1CA-B13A27D71877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body"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spcBef>
                <a:spcPts val="901"/>
              </a:spcBef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9376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3" marL="1600200" indent="-228600">
              <a:spcBef>
                <a:spcPts val="901"/>
              </a:spcBef>
              <a:buClr>
                <a:srgbClr val="5f5f5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4" marL="2057400" indent="-228600">
              <a:spcBef>
                <a:spcPts val="9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5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6" marL="2057400" indent="-228600">
              <a:spcBef>
                <a:spcPts val="9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ftr" idx="13"/>
          </p:nvPr>
        </p:nvSpPr>
        <p:spPr>
          <a:xfrm>
            <a:off x="380880" y="6626160"/>
            <a:ext cx="288936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Mentor Emulation Division – Internal Distribution Onl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14"/>
          </p:nvPr>
        </p:nvSpPr>
        <p:spPr>
          <a:xfrm>
            <a:off x="0" y="662580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5676-F4AD-4C71-8555-36C06BA51047}" type="slidenum"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6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nhanced Tcl/Tk Widgets for EDA Applications</a:t>
            </a:r>
            <a:br>
              <a:rPr sz="3200"/>
            </a:br>
            <a:br>
              <a:rPr sz="32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 Bansal, Roshni Lalwani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gaurav_bansal@mentor.com, roshni_lalwani@mentor.com </a:t>
            </a:r>
            <a:endParaRPr b="1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5" name="TextBox 3"/>
          <p:cNvSpPr/>
          <p:nvPr/>
        </p:nvSpPr>
        <p:spPr>
          <a:xfrm>
            <a:off x="3774240" y="5464080"/>
            <a:ext cx="4289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Gaurav Bansal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17'th Annual </a:t>
            </a:r>
            <a:r>
              <a:rPr b="1" i="1" lang="en-IN" sz="1600" spc="-1" strike="noStrike">
                <a:solidFill>
                  <a:srgbClr val="ffffff"/>
                </a:solidFill>
                <a:latin typeface="Tahoma"/>
              </a:rPr>
              <a:t>Tcl/Tk</a:t>
            </a: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 Conference (Tcl'2010)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ffffff"/>
                </a:solidFill>
                <a:latin typeface="Tahoma"/>
              </a:rPr>
              <a:t>October 11 - October 15, 2010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rowser Window – MtiHierarchy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96920" y="4888080"/>
            <a:ext cx="894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Format used to pass information to MtiHierarchy widget for each row i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&lt;name&gt; &lt;app data&gt;   &lt;label&gt; &lt;tag&gt; &lt;icon&gt;   &lt;label&gt; &lt;tag&gt; &lt;icon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9" name=""/>
          <p:cNvSpPr/>
          <p:nvPr/>
        </p:nvSpPr>
        <p:spPr>
          <a:xfrm>
            <a:off x="1268280" y="2354400"/>
            <a:ext cx="6337440" cy="1842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1308240" y="1816200"/>
            <a:ext cx="6337080" cy="2682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1" name=""/>
          <p:cNvSpPr/>
          <p:nvPr/>
        </p:nvSpPr>
        <p:spPr>
          <a:xfrm>
            <a:off x="1308240" y="2084400"/>
            <a:ext cx="6297480" cy="27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89" name=""/>
          <p:cNvCxnSpPr>
            <a:stCxn id="585" idx="2"/>
            <a:endCxn id="58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6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99" name=""/>
          <p:cNvCxnSpPr>
            <a:stCxn id="594" idx="2"/>
            <a:endCxn id="59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00" name=""/>
          <p:cNvCxnSpPr>
            <a:stCxn id="595" idx="2"/>
            <a:endCxn id="59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04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10" name=""/>
          <p:cNvCxnSpPr>
            <a:stCxn id="605" idx="2"/>
            <a:endCxn id="608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11" name=""/>
          <p:cNvCxnSpPr>
            <a:stCxn id="606" idx="2"/>
            <a:endCxn id="609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12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23" name=""/>
          <p:cNvCxnSpPr>
            <a:endCxn id="621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24" name=""/>
          <p:cNvCxnSpPr>
            <a:endCxn id="622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36" name=""/>
          <p:cNvCxnSpPr>
            <a:stCxn id="628" idx="2"/>
            <a:endCxn id="63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37" name=""/>
          <p:cNvCxnSpPr>
            <a:stCxn id="629" idx="2"/>
            <a:endCxn id="63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3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4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5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4" name=""/>
          <p:cNvCxnSpPr>
            <a:stCxn id="656" idx="2"/>
            <a:endCxn id="66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65" name=""/>
          <p:cNvCxnSpPr>
            <a:stCxn id="657" idx="2"/>
            <a:endCxn id="66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67" name=""/>
          <p:cNvCxnSpPr>
            <a:stCxn id="660" idx="2"/>
            <a:endCxn id="66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68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69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0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4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7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8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6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7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8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89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4" name=""/>
          <p:cNvCxnSpPr>
            <a:stCxn id="686" idx="2"/>
            <a:endCxn id="690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5" name=""/>
          <p:cNvCxnSpPr>
            <a:stCxn id="687" idx="2"/>
            <a:endCxn id="691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696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698" name=""/>
          <p:cNvCxnSpPr>
            <a:stCxn id="690" idx="2"/>
            <a:endCxn id="696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699" name=""/>
          <p:cNvCxnSpPr>
            <a:stCxn id="691" idx="2"/>
            <a:endCxn id="697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00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26" name=""/>
          <p:cNvCxnSpPr>
            <a:stCxn id="718" idx="2"/>
            <a:endCxn id="722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27" name=""/>
          <p:cNvCxnSpPr>
            <a:stCxn id="719" idx="2"/>
            <a:endCxn id="723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28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30" name=""/>
          <p:cNvCxnSpPr>
            <a:stCxn id="722" idx="2"/>
            <a:endCxn id="728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31" name=""/>
          <p:cNvCxnSpPr>
            <a:stCxn id="723" idx="2"/>
            <a:endCxn id="729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32" name=""/>
          <p:cNvSpPr/>
          <p:nvPr/>
        </p:nvSpPr>
        <p:spPr>
          <a:xfrm rot="16200000">
            <a:off x="5957640" y="3566520"/>
            <a:ext cx="304920" cy="3990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4040 h 3990960"/>
              <a:gd name="textAreaBottom" fmla="*/ 3886920 h 3990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508788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7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39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0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4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47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  <p:sp>
        <p:nvSpPr>
          <p:cNvPr id="751" name=""/>
          <p:cNvSpPr/>
          <p:nvPr/>
        </p:nvSpPr>
        <p:spPr>
          <a:xfrm>
            <a:off x="457200" y="2819520"/>
            <a:ext cx="8381880" cy="358128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2" name=""/>
          <p:cNvSpPr/>
          <p:nvPr/>
        </p:nvSpPr>
        <p:spPr>
          <a:xfrm>
            <a:off x="609480" y="297180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0xAAAAAA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3" name=""/>
          <p:cNvSpPr/>
          <p:nvPr/>
        </p:nvSpPr>
        <p:spPr>
          <a:xfrm>
            <a:off x="2133720" y="297180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{HINST IN 4 -1}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4" name=""/>
          <p:cNvSpPr/>
          <p:nvPr/>
        </p:nvSpPr>
        <p:spPr>
          <a:xfrm>
            <a:off x="3962520" y="2971800"/>
            <a:ext cx="236196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TOP branch vlog_inst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5" name=""/>
          <p:cNvSpPr/>
          <p:nvPr/>
        </p:nvSpPr>
        <p:spPr>
          <a:xfrm>
            <a:off x="6400800" y="2971800"/>
            <a:ext cx="12952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Root  {} 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6" name=""/>
          <p:cNvSpPr/>
          <p:nvPr/>
        </p:nvSpPr>
        <p:spPr>
          <a:xfrm>
            <a:off x="7772400" y="2971800"/>
            <a:ext cx="914400" cy="45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35 {} {}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7" name=""/>
          <p:cNvSpPr/>
          <p:nvPr/>
        </p:nvSpPr>
        <p:spPr>
          <a:xfrm>
            <a:off x="838080" y="3886200"/>
            <a:ext cx="99072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name&gt; 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8" name=""/>
          <p:cNvSpPr/>
          <p:nvPr/>
        </p:nvSpPr>
        <p:spPr>
          <a:xfrm>
            <a:off x="2514600" y="3886200"/>
            <a:ext cx="990720" cy="304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app data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59" name=""/>
          <p:cNvSpPr/>
          <p:nvPr/>
        </p:nvSpPr>
        <p:spPr>
          <a:xfrm>
            <a:off x="4114800" y="4572000"/>
            <a:ext cx="20574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1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st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0" name=""/>
          <p:cNvSpPr/>
          <p:nvPr/>
        </p:nvSpPr>
        <p:spPr>
          <a:xfrm>
            <a:off x="6248520" y="4572000"/>
            <a:ext cx="1828800" cy="6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Display data for 2</a:t>
            </a:r>
            <a:r>
              <a:rPr b="0" lang="en-US" sz="2000" spc="-1" strike="noStrike" baseline="30000">
                <a:solidFill>
                  <a:srgbClr val="080808"/>
                </a:solidFill>
                <a:latin typeface="Times New Roman"/>
                <a:ea typeface="Arial"/>
              </a:rPr>
              <a:t>nd</a:t>
            </a: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 column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1" name=""/>
          <p:cNvCxnSpPr>
            <a:stCxn id="752" idx="2"/>
            <a:endCxn id="757" idx="0"/>
          </p:cNvCxnSpPr>
          <p:nvPr/>
        </p:nvCxnSpPr>
        <p:spPr>
          <a:xfrm flipV="1" rot="10800000">
            <a:off x="133272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2" name=""/>
          <p:cNvCxnSpPr>
            <a:stCxn id="753" idx="2"/>
            <a:endCxn id="758" idx="0"/>
          </p:cNvCxnSpPr>
          <p:nvPr/>
        </p:nvCxnSpPr>
        <p:spPr>
          <a:xfrm flipV="1" rot="10800000">
            <a:off x="3009240" y="3428640"/>
            <a:ext cx="1080" cy="457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3" name=""/>
          <p:cNvSpPr/>
          <p:nvPr/>
        </p:nvSpPr>
        <p:spPr>
          <a:xfrm>
            <a:off x="609480" y="5791320"/>
            <a:ext cx="144792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name 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4" name=""/>
          <p:cNvSpPr/>
          <p:nvPr/>
        </p:nvSpPr>
        <p:spPr>
          <a:xfrm>
            <a:off x="2133720" y="5791320"/>
            <a:ext cx="17524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app 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765" name=""/>
          <p:cNvCxnSpPr>
            <a:stCxn id="757" idx="2"/>
            <a:endCxn id="763" idx="0"/>
          </p:cNvCxnSpPr>
          <p:nvPr/>
        </p:nvCxnSpPr>
        <p:spPr>
          <a:xfrm flipV="1" rot="10800000">
            <a:off x="1332720" y="4187520"/>
            <a:ext cx="1080" cy="160416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cxnSp>
        <p:nvCxnSpPr>
          <p:cNvPr id="766" name=""/>
          <p:cNvCxnSpPr>
            <a:stCxn id="758" idx="2"/>
            <a:endCxn id="764" idx="0"/>
          </p:cNvCxnSpPr>
          <p:nvPr/>
        </p:nvCxnSpPr>
        <p:spPr>
          <a:xfrm flipV="1" rot="10800000">
            <a:off x="3009240" y="4190760"/>
            <a:ext cx="1080" cy="1600920"/>
          </a:xfrm>
          <a:prstGeom prst="bentConnector2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</p:cxnSp>
      <p:sp>
        <p:nvSpPr>
          <p:cNvPr id="767" name=""/>
          <p:cNvSpPr/>
          <p:nvPr/>
        </p:nvSpPr>
        <p:spPr>
          <a:xfrm rot="16200000">
            <a:off x="6286320" y="3237840"/>
            <a:ext cx="304920" cy="4648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8" name=""/>
          <p:cNvSpPr/>
          <p:nvPr/>
        </p:nvSpPr>
        <p:spPr>
          <a:xfrm>
            <a:off x="5432400" y="5791320"/>
            <a:ext cx="1981080" cy="45720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imes New Roman"/>
                <a:ea typeface="Arial"/>
              </a:rPr>
              <a:t>item -&gt;data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69" name=""/>
          <p:cNvSpPr/>
          <p:nvPr/>
        </p:nvSpPr>
        <p:spPr>
          <a:xfrm>
            <a:off x="4419720" y="335268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0" name=""/>
          <p:cNvSpPr/>
          <p:nvPr/>
        </p:nvSpPr>
        <p:spPr>
          <a:xfrm>
            <a:off x="411480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5138640" y="335268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483408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3" name=""/>
          <p:cNvSpPr/>
          <p:nvPr/>
        </p:nvSpPr>
        <p:spPr>
          <a:xfrm>
            <a:off x="5867280" y="335268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5562720" y="388620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 rot="16200000">
            <a:off x="5067000" y="3314520"/>
            <a:ext cx="152640" cy="2057400"/>
          </a:xfrm>
          <a:custGeom>
            <a:avLst/>
            <a:gdLst>
              <a:gd name="textAreaLeft" fmla="*/ 97560 w 152640"/>
              <a:gd name="textAreaRight" fmla="*/ 153000 w 152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 rot="16200000">
            <a:off x="7048440" y="3467160"/>
            <a:ext cx="152640" cy="175248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7" name=""/>
          <p:cNvSpPr/>
          <p:nvPr/>
        </p:nvSpPr>
        <p:spPr>
          <a:xfrm>
            <a:off x="6629400" y="3355920"/>
            <a:ext cx="0" cy="53352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8" name=""/>
          <p:cNvSpPr/>
          <p:nvPr/>
        </p:nvSpPr>
        <p:spPr>
          <a:xfrm>
            <a:off x="624852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label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79" name=""/>
          <p:cNvSpPr/>
          <p:nvPr/>
        </p:nvSpPr>
        <p:spPr>
          <a:xfrm>
            <a:off x="7142040" y="3355920"/>
            <a:ext cx="0" cy="52884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0" name=""/>
          <p:cNvSpPr/>
          <p:nvPr/>
        </p:nvSpPr>
        <p:spPr>
          <a:xfrm>
            <a:off x="6878520" y="3889440"/>
            <a:ext cx="51300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tag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1" name=""/>
          <p:cNvSpPr/>
          <p:nvPr/>
        </p:nvSpPr>
        <p:spPr>
          <a:xfrm>
            <a:off x="7543800" y="3355920"/>
            <a:ext cx="0" cy="530280"/>
          </a:xfrm>
          <a:prstGeom prst="line">
            <a:avLst/>
          </a:prstGeom>
          <a:ln w="15840">
            <a:solidFill>
              <a:srgbClr val="3333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7412040" y="3889440"/>
            <a:ext cx="609480" cy="301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&lt;icon&gt;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3" name=""/>
          <p:cNvSpPr/>
          <p:nvPr/>
        </p:nvSpPr>
        <p:spPr>
          <a:xfrm>
            <a:off x="8077320" y="3886200"/>
            <a:ext cx="609480" cy="301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4" name=""/>
          <p:cNvSpPr/>
          <p:nvPr/>
        </p:nvSpPr>
        <p:spPr>
          <a:xfrm>
            <a:off x="8153280" y="4572000"/>
            <a:ext cx="60984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Times New Roman"/>
                <a:ea typeface="Arial"/>
              </a:rPr>
              <a:t>. . .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297080" y="1827360"/>
            <a:ext cx="6297480" cy="507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88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4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7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0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0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1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2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3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5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6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MtiHierarchy Widget – Callback Suppor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8" name=""/>
          <p:cNvSpPr/>
          <p:nvPr/>
        </p:nvSpPr>
        <p:spPr>
          <a:xfrm>
            <a:off x="0" y="1652760"/>
            <a:ext cx="929628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006720"/>
            <a:ext cx="261288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stores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0" name=""/>
          <p:cNvSpPr/>
          <p:nvPr/>
        </p:nvSpPr>
        <p:spPr>
          <a:xfrm>
            <a:off x="2689200" y="3044880"/>
            <a:ext cx="6454800" cy="35337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get gets from application at runtime 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154080" y="1469880"/>
            <a:ext cx="929628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Changes like addition/deletion of a column does not require any iterations by the widget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75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Arial"/>
              </a:rPr>
              <a:t>Display data is provided by the application - takes fraction of a second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2649600" y="4686480"/>
            <a:ext cx="6494400" cy="188244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4686480"/>
            <a:ext cx="2612880" cy="188244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46767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879720"/>
            <a:ext cx="2457360" cy="61452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6" name=""/>
          <p:cNvSpPr/>
          <p:nvPr/>
        </p:nvSpPr>
        <p:spPr>
          <a:xfrm>
            <a:off x="2690640" y="39178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27" name=""/>
          <p:cNvSpPr/>
          <p:nvPr/>
        </p:nvSpPr>
        <p:spPr>
          <a:xfrm>
            <a:off x="2651040" y="39178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0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2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3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4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36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37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8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39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0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1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2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3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4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5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46" name=""/>
          <p:cNvSpPr/>
          <p:nvPr/>
        </p:nvSpPr>
        <p:spPr>
          <a:xfrm>
            <a:off x="2651040" y="4186080"/>
            <a:ext cx="6492960" cy="2660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1"/>
          <a:stretch/>
        </p:blipFill>
        <p:spPr>
          <a:xfrm>
            <a:off x="2678040" y="1444680"/>
            <a:ext cx="6299280" cy="2374920"/>
          </a:xfrm>
          <a:prstGeom prst="rect">
            <a:avLst/>
          </a:prstGeom>
          <a:ln w="0">
            <a:noFill/>
          </a:ln>
        </p:spPr>
      </p:pic>
      <p:sp>
        <p:nvSpPr>
          <p:cNvPr id="849" name=""/>
          <p:cNvSpPr/>
          <p:nvPr/>
        </p:nvSpPr>
        <p:spPr>
          <a:xfrm>
            <a:off x="6799320" y="1469880"/>
            <a:ext cx="1305000" cy="2343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0" name=""/>
          <p:cNvSpPr/>
          <p:nvPr/>
        </p:nvSpPr>
        <p:spPr>
          <a:xfrm>
            <a:off x="2651040" y="1432080"/>
            <a:ext cx="41482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1" name=""/>
          <p:cNvSpPr/>
          <p:nvPr/>
        </p:nvSpPr>
        <p:spPr>
          <a:xfrm>
            <a:off x="8105760" y="1432080"/>
            <a:ext cx="920880" cy="23810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2" name=""/>
          <p:cNvSpPr/>
          <p:nvPr/>
        </p:nvSpPr>
        <p:spPr>
          <a:xfrm>
            <a:off x="1803240" y="1662120"/>
            <a:ext cx="802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3" name=""/>
          <p:cNvSpPr/>
          <p:nvPr/>
        </p:nvSpPr>
        <p:spPr>
          <a:xfrm>
            <a:off x="2649600" y="4954680"/>
            <a:ext cx="6494400" cy="1882800"/>
          </a:xfrm>
          <a:prstGeom prst="rect">
            <a:avLst/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4954680"/>
            <a:ext cx="2612880" cy="1882800"/>
          </a:xfrm>
          <a:prstGeom prst="rect">
            <a:avLst/>
          </a:prstGeom>
          <a:solidFill>
            <a:srgbClr val="3398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4944960"/>
            <a:ext cx="9296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&lt;app data1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11&gt; &lt;tag11&gt; &lt;icon11&gt;   &lt;label12&gt; &lt;tag12&gt; &lt;icon1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 &lt;app data2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21&gt; &lt;tag21&gt; &lt;icon21&gt;   &lt;label22&gt; &lt;tag22&gt; &lt;icon2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 &lt;app dataN&gt;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ea0000"/>
                </a:solidFill>
                <a:latin typeface="Arial"/>
                <a:ea typeface="Arial"/>
              </a:rPr>
              <a:t>&lt;labelN1&gt; &lt;tagN1&gt; &lt;iconN1&gt;   &lt;labelN2&gt; &lt;tagN2&gt; &lt;iconN2&gt;…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4148280"/>
            <a:ext cx="2457360" cy="614160"/>
          </a:xfrm>
          <a:prstGeom prst="ellipse">
            <a:avLst/>
          </a:prstGeom>
          <a:solidFill>
            <a:srgbClr val="3398ff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ahoma"/>
              </a:rPr>
              <a:t>Stat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7" name=""/>
          <p:cNvSpPr/>
          <p:nvPr/>
        </p:nvSpPr>
        <p:spPr>
          <a:xfrm>
            <a:off x="2690640" y="4186080"/>
            <a:ext cx="645336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Dynamic Data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8" name=""/>
          <p:cNvSpPr/>
          <p:nvPr/>
        </p:nvSpPr>
        <p:spPr>
          <a:xfrm>
            <a:off x="1192320" y="4927680"/>
            <a:ext cx="7951680" cy="1919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4927680"/>
            <a:ext cx="1192320" cy="1930320"/>
          </a:xfrm>
          <a:prstGeom prst="rect">
            <a:avLst/>
          </a:prstGeom>
          <a:noFill/>
          <a:ln w="28440">
            <a:solidFill>
              <a:srgbClr val="e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4159080"/>
            <a:ext cx="9144000" cy="8067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sign and Wave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5532480" y="2200320"/>
            <a:ext cx="2495520" cy="257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5494320" y="4773600"/>
            <a:ext cx="2573280" cy="20844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>
            <a:off x="5494320" y="1316160"/>
            <a:ext cx="257328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2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6" name=""/>
          <p:cNvSpPr/>
          <p:nvPr/>
        </p:nvSpPr>
        <p:spPr>
          <a:xfrm>
            <a:off x="4721400" y="1662120"/>
            <a:ext cx="1041120" cy="3111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1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2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emN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7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de Effects – Sort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69" name=""/>
          <p:cNvSpPr/>
          <p:nvPr/>
        </p:nvSpPr>
        <p:spPr>
          <a:xfrm>
            <a:off x="1154160" y="1677960"/>
            <a:ext cx="1346040" cy="3111480"/>
          </a:xfrm>
          <a:prstGeom prst="rect">
            <a:avLst/>
          </a:prstGeom>
          <a:solidFill>
            <a:srgbClr val="339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1&gt; 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2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  <a:ea typeface="Arial"/>
              </a:rPr>
              <a:t>&lt;nameN&gt;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0" name=""/>
          <p:cNvSpPr/>
          <p:nvPr/>
        </p:nvSpPr>
        <p:spPr>
          <a:xfrm>
            <a:off x="0" y="4888080"/>
            <a:ext cx="929628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noAutofit/>
          </a:bodyPr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Application gives us sorted list of “&lt;name&gt;” (item-&gt;name pointers)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We need the list of sorted “item” pointers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1033560" indent="106200">
              <a:lnSpc>
                <a:spcPct val="10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"/>
              </a:rPr>
              <a:t>So we create a hash table for item-&gt;name and item pointer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grpSp>
        <p:nvGrpSpPr>
          <p:cNvPr id="871" name=""/>
          <p:cNvGrpSpPr/>
          <p:nvPr/>
        </p:nvGrpSpPr>
        <p:grpSpPr>
          <a:xfrm>
            <a:off x="4721400" y="1662120"/>
            <a:ext cx="2692080" cy="3111480"/>
            <a:chOff x="4721400" y="1662120"/>
            <a:chExt cx="2692080" cy="3111480"/>
          </a:xfrm>
        </p:grpSpPr>
        <p:sp>
          <p:nvSpPr>
            <p:cNvPr id="872" name=""/>
            <p:cNvSpPr/>
            <p:nvPr/>
          </p:nvSpPr>
          <p:spPr>
            <a:xfrm>
              <a:off x="4721400" y="1662120"/>
              <a:ext cx="2692080" cy="3111480"/>
            </a:xfrm>
            <a:prstGeom prst="rect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1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 -&gt;name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2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 -&gt;nam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temN</a:t>
              </a:r>
              <a:endParaRPr b="0" lang="en-US" sz="1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453360" y="1662120"/>
              <a:ext cx="0" cy="2305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26080" y="200808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26080" y="22766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26080" y="3659040"/>
              <a:ext cx="26874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333333"/>
                </a:solidFill>
                <a:latin typeface="Tahoma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76200" y="2392200"/>
            <a:ext cx="8458200" cy="3463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1"/>
          <a:stretch/>
        </p:blipFill>
        <p:spPr>
          <a:xfrm>
            <a:off x="938160" y="328464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w the fault distribution of instances in various categories and sub-categorie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tegories and sub-categories should be displayed as in-place expandable/collapsible column.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86" name="" descr=""/>
          <p:cNvPicPr/>
          <p:nvPr/>
        </p:nvPicPr>
        <p:blipFill>
          <a:blip r:embed="rId1"/>
          <a:stretch/>
        </p:blipFill>
        <p:spPr>
          <a:xfrm>
            <a:off x="938160" y="3236760"/>
            <a:ext cx="5477040" cy="2333880"/>
          </a:xfrm>
          <a:prstGeom prst="rect">
            <a:avLst/>
          </a:prstGeom>
          <a:ln w="0">
            <a:noFill/>
          </a:ln>
        </p:spPr>
      </p:pic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3035160" y="4235400"/>
            <a:ext cx="5486400" cy="23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verview of changes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hanced MtiHeirarchy widget protocol to support the sub-column labels as a list of labels instead of column label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2" marL="1193760" indent="0">
              <a:lnSpc>
                <a:spcPct val="8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&lt;name&gt; &lt;appdata&gt; &lt;sub-label1 sub-label2 sub-label3&gt; &lt;tag&gt; &lt;icon&gt;</a:t>
            </a:r>
            <a:endParaRPr b="0" lang="en-US" sz="1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vide APIs for sub-column operations like add, delete, configure, move, etc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lnSpc>
                <a:spcPct val="80000"/>
              </a:lnSpc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pandable/ collapsible we need to provide a clickable icon </a:t>
            </a: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6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Debug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532480" y="4811760"/>
            <a:ext cx="2495520" cy="2035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54160" y="1278000"/>
            <a:ext cx="4340160" cy="558000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5494320" y="1316160"/>
            <a:ext cx="2573280" cy="34574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0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ub-columns – Approach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-344880" y="1469880"/>
            <a:ext cx="9488520" cy="20750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3" name="" descr=""/>
          <p:cNvPicPr/>
          <p:nvPr/>
        </p:nvPicPr>
        <p:blipFill>
          <a:blip r:embed="rId1"/>
          <a:stretch/>
        </p:blipFill>
        <p:spPr>
          <a:xfrm>
            <a:off x="1744560" y="2556000"/>
            <a:ext cx="5477040" cy="2333520"/>
          </a:xfrm>
          <a:prstGeom prst="rect">
            <a:avLst/>
          </a:prstGeom>
          <a:ln w="0">
            <a:noFill/>
          </a:ln>
        </p:spPr>
      </p:pic>
      <p:sp>
        <p:nvSpPr>
          <p:cNvPr id="904" name=""/>
          <p:cNvSpPr/>
          <p:nvPr/>
        </p:nvSpPr>
        <p:spPr>
          <a:xfrm>
            <a:off x="4764240" y="2738520"/>
            <a:ext cx="1766880" cy="191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5" name=""/>
          <p:cNvSpPr/>
          <p:nvPr/>
        </p:nvSpPr>
        <p:spPr>
          <a:xfrm>
            <a:off x="4764240" y="2546280"/>
            <a:ext cx="1766880" cy="384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6200" y="304488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7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543880" cy="3625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4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7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18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1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2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pper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anvas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Sfchildsite (a frame) 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Column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6" name=""/>
          <p:cNvSpPr/>
          <p:nvPr/>
        </p:nvSpPr>
        <p:spPr>
          <a:xfrm>
            <a:off x="693720" y="2122560"/>
            <a:ext cx="7488360" cy="392904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7" name=""/>
          <p:cNvSpPr/>
          <p:nvPr/>
        </p:nvSpPr>
        <p:spPr>
          <a:xfrm>
            <a:off x="808200" y="2228760"/>
            <a:ext cx="7259400" cy="3735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8" name=""/>
          <p:cNvSpPr/>
          <p:nvPr/>
        </p:nvSpPr>
        <p:spPr>
          <a:xfrm>
            <a:off x="1077840" y="2430360"/>
            <a:ext cx="6720120" cy="334188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29" name=""/>
          <p:cNvSpPr/>
          <p:nvPr/>
        </p:nvSpPr>
        <p:spPr>
          <a:xfrm>
            <a:off x="115416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0" name=""/>
          <p:cNvSpPr/>
          <p:nvPr/>
        </p:nvSpPr>
        <p:spPr>
          <a:xfrm>
            <a:off x="280512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1" name=""/>
          <p:cNvSpPr/>
          <p:nvPr/>
        </p:nvSpPr>
        <p:spPr>
          <a:xfrm>
            <a:off x="4456080" y="2468520"/>
            <a:ext cx="157500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2" name=""/>
          <p:cNvSpPr/>
          <p:nvPr/>
        </p:nvSpPr>
        <p:spPr>
          <a:xfrm>
            <a:off x="6108840" y="2468520"/>
            <a:ext cx="1574640" cy="326556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4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5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6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 two canvases and grid them inside the clipper as column 0 and column 1 of row 0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rozen Tree Column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693720" y="3198960"/>
            <a:ext cx="7488360" cy="3609720"/>
          </a:xfrm>
          <a:prstGeom prst="rect">
            <a:avLst/>
          </a:prstGeom>
          <a:solidFill>
            <a:srgbClr val="ccffff">
              <a:alpha val="6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0" name=""/>
          <p:cNvSpPr/>
          <p:nvPr/>
        </p:nvSpPr>
        <p:spPr>
          <a:xfrm>
            <a:off x="2768760" y="3241800"/>
            <a:ext cx="529884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1" name=""/>
          <p:cNvSpPr/>
          <p:nvPr/>
        </p:nvSpPr>
        <p:spPr>
          <a:xfrm>
            <a:off x="2882880" y="3390840"/>
            <a:ext cx="506736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2" name=""/>
          <p:cNvSpPr/>
          <p:nvPr/>
        </p:nvSpPr>
        <p:spPr>
          <a:xfrm>
            <a:off x="2960640" y="341640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3" name=""/>
          <p:cNvSpPr/>
          <p:nvPr/>
        </p:nvSpPr>
        <p:spPr>
          <a:xfrm>
            <a:off x="4611600" y="3417840"/>
            <a:ext cx="157500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4" name=""/>
          <p:cNvSpPr/>
          <p:nvPr/>
        </p:nvSpPr>
        <p:spPr>
          <a:xfrm>
            <a:off x="6264360" y="341784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5" name=""/>
          <p:cNvSpPr/>
          <p:nvPr/>
        </p:nvSpPr>
        <p:spPr>
          <a:xfrm>
            <a:off x="771480" y="3249720"/>
            <a:ext cx="1919160" cy="3222360"/>
          </a:xfrm>
          <a:prstGeom prst="rect">
            <a:avLst/>
          </a:prstGeom>
          <a:solidFill>
            <a:srgbClr val="00ffff">
              <a:alpha val="8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6" name=""/>
          <p:cNvSpPr/>
          <p:nvPr/>
        </p:nvSpPr>
        <p:spPr>
          <a:xfrm>
            <a:off x="847800" y="3398760"/>
            <a:ext cx="1728720" cy="2881440"/>
          </a:xfrm>
          <a:prstGeom prst="rect">
            <a:avLst/>
          </a:prstGeom>
          <a:solidFill>
            <a:srgbClr val="008080">
              <a:alpha val="90000"/>
            </a:srgbClr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47" name=""/>
          <p:cNvSpPr/>
          <p:nvPr/>
        </p:nvSpPr>
        <p:spPr>
          <a:xfrm>
            <a:off x="925560" y="3424320"/>
            <a:ext cx="1574640" cy="2816280"/>
          </a:xfrm>
          <a:prstGeom prst="rect">
            <a:avLst/>
          </a:prstGeom>
          <a:solidFill>
            <a:srgbClr val="ffff99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771480" y="6513480"/>
            <a:ext cx="1959120" cy="19692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2690640" y="6519960"/>
            <a:ext cx="5337360" cy="196920"/>
          </a:xfrm>
          <a:prstGeom prst="rect">
            <a:avLst/>
          </a:prstGeom>
          <a:ln w="0">
            <a:noFill/>
          </a:ln>
        </p:spPr>
      </p:pic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st scrollbar alters the xview of the column 0 such that it scrolls the instance names of the tree column and not the column itself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nd scrollbar alters the xview of the 2nd canvas so that the rest of the columns scroll past the tree column.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Browser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154160" y="2238480"/>
            <a:ext cx="4340160" cy="2496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154160" y="4735440"/>
            <a:ext cx="4340160" cy="21225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1154160" y="1316160"/>
            <a:ext cx="4340160" cy="88416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380880" y="3916440"/>
            <a:ext cx="8458200" cy="14335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xt Highlighting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 highlighting helps to point out the issues easily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yperlinks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t to the relevant file or information in other windows of the tool to debug the issues very quickly. 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57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925040" cy="479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"/>
          <p:cNvSpPr/>
          <p:nvPr/>
        </p:nvSpPr>
        <p:spPr>
          <a:xfrm>
            <a:off x="5724360" y="4197240"/>
            <a:ext cx="92088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Yes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59" name=""/>
          <p:cNvSpPr/>
          <p:nvPr/>
        </p:nvSpPr>
        <p:spPr>
          <a:xfrm>
            <a:off x="6821640" y="6002280"/>
            <a:ext cx="1974600" cy="365040"/>
          </a:xfrm>
          <a:prstGeom prst="flowChartTerminator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Exit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0" name=""/>
          <p:cNvSpPr/>
          <p:nvPr/>
        </p:nvSpPr>
        <p:spPr>
          <a:xfrm>
            <a:off x="3471840" y="5286240"/>
            <a:ext cx="5238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No</a:t>
            </a:r>
            <a:endParaRPr b="0" lang="en-US" sz="16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1" name=""/>
          <p:cNvSpPr/>
          <p:nvPr/>
        </p:nvSpPr>
        <p:spPr>
          <a:xfrm>
            <a:off x="1844640" y="1432080"/>
            <a:ext cx="4095720" cy="68580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Load file in to the text widget (read &amp; write in chuck size =256k)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1576440" y="2557440"/>
            <a:ext cx="4646520" cy="70344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Calculate the boundary of visible area of text widget. 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Start line = B1 and last line = B2.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3" name=""/>
          <p:cNvSpPr/>
          <p:nvPr/>
        </p:nvSpPr>
        <p:spPr>
          <a:xfrm>
            <a:off x="1536840" y="5848200"/>
            <a:ext cx="4762440" cy="692280"/>
          </a:xfrm>
          <a:prstGeom prst="rect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Highlight the lines as per their category an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Parse each word and mark it as hyperlink if the word is filename or instance name or DRC i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64" name=""/>
          <p:cNvSpPr/>
          <p:nvPr/>
        </p:nvSpPr>
        <p:spPr>
          <a:xfrm>
            <a:off x="2228760" y="3746520"/>
            <a:ext cx="3341880" cy="1487520"/>
          </a:xfrm>
          <a:prstGeom prst="flowChartDecision">
            <a:avLst/>
          </a:prstGeom>
          <a:solidFill>
            <a:srgbClr val="92cd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Courier New"/>
              </a:rPr>
              <a:t>If the text between (B1, B2) has already been parsed</a:t>
            </a:r>
            <a:endParaRPr b="0" lang="en-US" sz="12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965" name=""/>
          <p:cNvCxnSpPr>
            <a:stCxn id="961" idx="2"/>
            <a:endCxn id="962" idx="0"/>
          </p:cNvCxnSpPr>
          <p:nvPr/>
        </p:nvCxnSpPr>
        <p:spPr>
          <a:xfrm>
            <a:off x="3892680" y="2117520"/>
            <a:ext cx="8640" cy="4402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6" name=""/>
          <p:cNvCxnSpPr>
            <a:stCxn id="962" idx="2"/>
            <a:endCxn id="964" idx="0"/>
          </p:cNvCxnSpPr>
          <p:nvPr/>
        </p:nvCxnSpPr>
        <p:spPr>
          <a:xfrm flipV="1" rot="10800000">
            <a:off x="3899880" y="3260520"/>
            <a:ext cx="1080" cy="48636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7" name=""/>
          <p:cNvCxnSpPr>
            <a:stCxn id="964" idx="2"/>
            <a:endCxn id="963" idx="0"/>
          </p:cNvCxnSpPr>
          <p:nvPr/>
        </p:nvCxnSpPr>
        <p:spPr>
          <a:xfrm>
            <a:off x="3900600" y="5234040"/>
            <a:ext cx="18000" cy="614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8" name=""/>
          <p:cNvCxnSpPr>
            <a:stCxn id="963" idx="3"/>
            <a:endCxn id="959" idx="1"/>
          </p:cNvCxnSpPr>
          <p:nvPr/>
        </p:nvCxnSpPr>
        <p:spPr>
          <a:xfrm flipV="1">
            <a:off x="6298920" y="6184080"/>
            <a:ext cx="523080" cy="1044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69" name=""/>
          <p:cNvCxnSpPr>
            <a:stCxn id="964" idx="3"/>
            <a:endCxn id="959" idx="0"/>
          </p:cNvCxnSpPr>
          <p:nvPr/>
        </p:nvCxnSpPr>
        <p:spPr>
          <a:xfrm>
            <a:off x="5570280" y="4491000"/>
            <a:ext cx="2238840" cy="1512000"/>
          </a:xfrm>
          <a:prstGeom prst="bentConnector2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nhanced Text Widget – Incremental Parsing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0" y="1828440"/>
            <a:ext cx="9144000" cy="2832120"/>
          </a:xfrm>
          <a:prstGeom prst="rect">
            <a:avLst/>
          </a:prstGeom>
          <a:noFill/>
          <a:ln w="0">
            <a:noFill/>
          </a:ln>
        </p:spPr>
        <p:txBody>
          <a:bodyPr lIns="457200" rIns="4572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hank you.</a:t>
            </a:r>
            <a:endParaRPr b="1" lang="en-US" sz="32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972" name="Slide Number Placeholder 2"/>
          <p:cNvSpPr/>
          <p:nvPr/>
        </p:nvSpPr>
        <p:spPr>
          <a:xfrm>
            <a:off x="0" y="662616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3191-9436-4F63-83E1-2A7D6875D5C7}" type="slidenum">
              <a:rPr b="0" lang="en-US" sz="8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– Transcript Window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154160" y="4735440"/>
            <a:ext cx="4340160" cy="211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>
            <a:off x="1154160" y="1355760"/>
            <a:ext cx="4340160" cy="337968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FTVisualizer 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143000" y="1314360"/>
            <a:ext cx="6934320" cy="554364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1154160" y="4965840"/>
            <a:ext cx="4340160" cy="1689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1154160" y="1355760"/>
            <a:ext cx="4340160" cy="88272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5494320" y="1316160"/>
            <a:ext cx="2573280" cy="5541840"/>
          </a:xfrm>
          <a:prstGeom prst="rect">
            <a:avLst/>
          </a:prstGeom>
          <a:solidFill>
            <a:srgbClr val="5f5f5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1154160" y="2392200"/>
            <a:ext cx="4340160" cy="2111400"/>
          </a:xfrm>
          <a:prstGeom prst="rect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347760" y="1201680"/>
            <a:ext cx="2457360" cy="614520"/>
          </a:xfrm>
          <a:prstGeom prst="ellipse">
            <a:avLst/>
          </a:prstGeom>
          <a:solidFill>
            <a:srgbClr val="33cccc"/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tiHierarchy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>
            <a:off x="5992920" y="4735440"/>
            <a:ext cx="1500120" cy="614520"/>
          </a:xfrm>
          <a:prstGeom prst="ellipse">
            <a:avLst/>
          </a:prstGeom>
          <a:solidFill>
            <a:srgbClr val="ffcc99"/>
          </a:solidFill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0000"/>
                </a:solidFill>
                <a:latin typeface="Tahoma"/>
              </a:rPr>
              <a:t>Text Widgets</a:t>
            </a:r>
            <a:endParaRPr b="0" lang="en-US" sz="1800" spc="-1" strike="noStrike">
              <a:solidFill>
                <a:srgbClr val="333333"/>
              </a:solidFill>
              <a:latin typeface="Tahoma"/>
            </a:endParaRPr>
          </a:p>
        </p:txBody>
      </p:sp>
      <p:cxnSp>
        <p:nvCxnSpPr>
          <p:cNvPr id="563" name=""/>
          <p:cNvCxnSpPr>
            <a:stCxn id="561" idx="4"/>
            <a:endCxn id="560" idx="0"/>
          </p:cNvCxnSpPr>
          <p:nvPr/>
        </p:nvCxnSpPr>
        <p:spPr>
          <a:xfrm flipH="1" rot="16200000">
            <a:off x="2172240" y="1226880"/>
            <a:ext cx="554760" cy="1748520"/>
          </a:xfrm>
          <a:prstGeom prst="bentConnector3">
            <a:avLst>
              <a:gd name="adj1" fmla="val 50389"/>
            </a:avLst>
          </a:prstGeom>
          <a:ln w="2844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4"/>
            <a:endCxn id="557" idx="3"/>
          </p:cNvCxnSpPr>
          <p:nvPr/>
        </p:nvCxnSpPr>
        <p:spPr>
          <a:xfrm rot="5400000">
            <a:off x="5899320" y="4966200"/>
            <a:ext cx="453240" cy="12358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1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376200" y="1816200"/>
            <a:ext cx="8458200" cy="34596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1316160"/>
            <a:ext cx="8458200" cy="423720"/>
          </a:xfrm>
          <a:prstGeom prst="rect">
            <a:avLst/>
          </a:prstGeom>
          <a:gradFill rotWithShape="0">
            <a:gsLst>
              <a:gs pos="0">
                <a:srgbClr val="00a8a8"/>
              </a:gs>
              <a:gs pos="50000">
                <a:srgbClr val="00ffff"/>
              </a:gs>
              <a:gs pos="100000">
                <a:srgbClr val="00a8a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1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0" y="1316160"/>
            <a:ext cx="9144000" cy="5070240"/>
          </a:xfrm>
          <a:prstGeom prst="rect">
            <a:avLst/>
          </a:prstGeom>
          <a:noFill/>
          <a:ln w="0">
            <a:noFill/>
          </a:ln>
        </p:spPr>
        <p:txBody>
          <a:bodyPr lIns="457200" rIns="4572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nhancement in MtiHierarchy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allback support for improved performance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Sub column support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Making tree column frozen in place (non-scrollable)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428c8a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ahoma"/>
              </a:rPr>
              <a:t>Enhancement in Text widget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Hyperlinks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  <a:p>
            <a:pPr lvl="1" marL="803160" indent="-345960">
              <a:buClr>
                <a:srgbClr val="5f5f5f"/>
              </a:buClr>
              <a:buFont typeface="Tahom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Tahoma"/>
              </a:rPr>
              <a:t>Incremental Parsing</a:t>
            </a:r>
            <a:endParaRPr b="0" lang="en-US" sz="2000" spc="-1" strike="noStrike">
              <a:solidFill>
                <a:srgbClr val="5f5f5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9:50:02Z</dcterms:created>
  <dc:creator>Prashant Thakre</dc:creator>
  <dc:description/>
  <dc:language>en-US</dc:language>
  <cp:lastModifiedBy>gbansal</cp:lastModifiedBy>
  <dcterms:modified xsi:type="dcterms:W3CDTF">2010-10-15T00:34:53Z</dcterms:modified>
  <cp:revision>1315</cp:revision>
  <dc:subject/>
  <dc:title>Slide 1</dc:title>
</cp:coreProperties>
</file>