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  <p:sldId id="309" r:id="rId67"/>
    <p:sldId id="310" r:id="rId68"/>
    <p:sldId id="311" r:id="rId69"/>
    <p:sldId id="312" r:id="rId70"/>
    <p:sldId id="313" r:id="rId71"/>
    <p:sldId id="314" r:id="rId72"/>
    <p:sldId id="315" r:id="rId73"/>
    <p:sldId id="316" r:id="rId74"/>
    <p:sldId id="317" r:id="rId75"/>
    <p:sldId id="318" r:id="rId76"/>
    <p:sldId id="31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slide" Target="slides/slide54.xml"/><Relationship Id="rId68" Type="http://schemas.openxmlformats.org/officeDocument/2006/relationships/slide" Target="slides/slide55.xml"/><Relationship Id="rId69" Type="http://schemas.openxmlformats.org/officeDocument/2006/relationships/slide" Target="slides/slide56.xml"/><Relationship Id="rId70" Type="http://schemas.openxmlformats.org/officeDocument/2006/relationships/slide" Target="slides/slide57.xml"/><Relationship Id="rId71" Type="http://schemas.openxmlformats.org/officeDocument/2006/relationships/slide" Target="slides/slide58.xml"/><Relationship Id="rId72" Type="http://schemas.openxmlformats.org/officeDocument/2006/relationships/slide" Target="slides/slide59.xml"/><Relationship Id="rId73" Type="http://schemas.openxmlformats.org/officeDocument/2006/relationships/slide" Target="slides/slide60.xml"/><Relationship Id="rId74" Type="http://schemas.openxmlformats.org/officeDocument/2006/relationships/slide" Target="slides/slide61.xml"/><Relationship Id="rId75" Type="http://schemas.openxmlformats.org/officeDocument/2006/relationships/slide" Target="slides/slide62.xml"/><Relationship Id="rId76" Type="http://schemas.openxmlformats.org/officeDocument/2006/relationships/slide" Target="slides/slide63.xml"/><Relationship Id="rId77" Type="http://schemas.openxmlformats.org/officeDocument/2006/relationships/slide" Target="slides/slide6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dt" idx="3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ftr" idx="3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 type="sldNum" idx="3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56A7-1A9C-4A95-AB6F-9A136C571A9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4762-2FB8-4D30-9B3C-1D21ACEB2B76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20A8-151E-4AA0-BB60-E09753064D0A}" type="slidenum">
              <a:rPr b="0" lang="el-GR" sz="1200" spc="-1" strike="noStrike">
                <a:solidFill>
                  <a:srgbClr val="00009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6BD9-BD63-4409-A533-6074E825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BBAA-F43B-4B1A-B2F3-7F346CDB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D9A46-2D55-48CD-BBC6-4BC6C61A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3DBD67-218F-4B0A-AB0E-9BE205F1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77C7C1-2691-4C70-8EFE-ABCD704B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F0B06E-9DD9-4DC1-8982-456C222B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3A582B-D49F-4C42-B698-AC309A87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6E82AE-A771-4898-A573-64CE3094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652C44-1197-4D40-8BA9-B74D921E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79B43-B2C8-4D5A-9ABD-8B1A96E3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D96E9-CC84-461B-B2CC-12657E00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1D50D9-A81A-463A-A36A-3D74076E8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3FD0-255D-4FC3-8411-B6D8DFC41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B72DA-9061-4552-94F3-1C9B2940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48133E-E12F-46E8-AA9B-7844E65B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784AAF-D13A-40C9-AF70-594E9C53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17F9C-53AE-45F0-B07E-3662AEF4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0D3BFD-DEA2-4309-B4FA-970E753F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C09B87E-3832-45D9-BFA0-646F5049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81C74F-6189-47EB-AB36-ED2C8F8D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2F797-9263-4818-A2C6-140B36E7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584224-118B-4DCA-976C-5A503215E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614FA4-AABF-47AE-9030-80A266B1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D420-A1C2-47B0-9F0F-89EC11C67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E50842-F36A-4B6C-A704-9DA48A8F3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31BE87-776B-4FE1-A47E-2B8008A11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8C0189-27A3-4543-B531-67B0BB60D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3D19F5-B852-49A5-8304-56AAB13CF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ADC91B-DB0C-45EE-8AD5-7074408C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49DB8C-ADDB-4AF8-8D36-66540347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1E8D31-2773-4841-80D0-D86FF3DA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2560247-28D6-4481-93C8-5A0FE8C8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0A8D2B8-0FF7-42E7-9387-84D3A903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3FC697E-6D45-4404-AB35-D8D78BC9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4B7FD-3599-47FE-A105-AD75A76C1F5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CE6A7E-E527-4A9D-BE09-0F049B16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652B20-F96B-4FC6-806E-1977713C7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DF0A7EF-B02F-4DB9-89A7-E6E4081F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C89BE-C659-41CD-8851-09F0342DF5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0687C-1FD2-4865-B176-DCAB39D5E5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42B63-964D-4BC2-B747-44FF9C59DB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CEAD3D-37D7-4E86-8A1C-EEEC79300CD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6C7D43-D7C1-47A7-93E4-CD198AFE8E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5E3C4-EB9F-4B47-9534-F70B15F03C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D4CC-D52F-4B16-8D11-8E0E22FB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1A116-F777-4264-8FA8-823773EA1A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FFF004-F484-41BD-938F-09DC5A2627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DE3717-9010-4F09-A715-A781873758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54336-F721-4D93-B798-1EF118558E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12EB0-3F64-42FF-AE5A-E2DE4478436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F8ADDB-0088-483D-8C20-706EE49A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BB66DC-D02A-4A6A-8B3A-6C9A4448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0959AA-5AFF-47D5-A8B1-8EE58776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2AF8E-B09E-47B5-B16E-EEF77320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7C83E9-52E9-40E5-9FD5-E902310EA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636D-0AA6-4D2B-94CA-6D1FA9A8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551E80-5C3E-4965-B3D7-DB436B52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CD1252-F234-4F48-B3A8-AB6403DA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B929D0-FBC4-4A91-BCB6-172AB964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6F5C6E-7195-4D44-BCA3-311CB91C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0BCBE-14AA-45BB-9BDB-37D0F259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199B81-03F1-4A17-8C21-487DD893C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05E02-E386-4ED4-927A-12465454E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58FC55-6E7E-4823-9920-D2758906C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D05CC9-46BD-41AA-9A54-00A19252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9430E5-95BE-4F46-83DE-9191F968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C7E-E3FB-421E-9D2C-0A2AF3BC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ADC68F-7EC4-42E5-A647-ED980EC59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72D378-5BC5-42B8-BBB5-EBFB3D81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7FCBAD-9B0E-48AE-ACE3-92AA0D039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CE474E-62F1-44A6-9F8C-77186A4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61F16A-B3EE-4AB7-9F9D-B57BA356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949A16-9068-4D49-BED5-45061443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C3443D-3030-4E2F-BCD2-6CB69D16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E7F08E-3E32-4046-BDB6-59A6BB52A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8BED2E-CE00-4451-AB82-3C5FB862E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C50211-6801-42D0-9C5C-BC6425D9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27EF-EBD4-4926-99E2-20DEE63C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2BB657-C305-4D2C-92B3-5C6219EC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EDC33B-F6F9-433D-BB21-011E2621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CABBB0-DC1A-4808-917A-0EC7AAB52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D1ADF6-3A82-47C2-8389-5145EAF9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6E951E-56F7-4A4A-AF52-07DDAC71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70099F-EC97-49BE-B77F-E09AAF3F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9EDD93-90DC-4D39-9F99-35E96A558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FEA22D-674F-4A8B-947B-61D10060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DB5EFF-CA34-4EEC-829B-ACFC5837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F206E4-405C-447F-9F8B-4C609D82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F767-786D-41D0-9935-E10460C4D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CF3762-CE4B-4BD5-9315-CE5F8746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EDC851-2D8F-462E-8D6D-FA570EEE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594C3A-C842-4E91-9008-6DAF29E5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A86ADA3-631F-4217-8A84-3B20456B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3BD0B5-B333-47E1-9B34-24BF366F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BDA615-1EB4-4D0F-8632-635EF3D1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A0BFC0-7523-4520-B1ED-4D0A07A1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951155-8315-4C96-8E04-35C3B284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318B84-77B0-4BD5-8C9C-0498C497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C69D26-818E-48D1-896F-46F2A2B3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949-BB04-4E9F-829E-CDAEEFD1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1A41C4-0629-43D0-9360-2709C67D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B08054-71EA-4BC0-AA14-17CBD561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DD6D6A-43E0-4968-918C-E13687CF3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DE017D-5CF7-4A34-B551-17AE231A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403704-E518-4207-A48D-E040E3E4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7B8859-D8D6-4823-98BA-5DDB0C9A9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F99B20-0505-4F16-95C7-3F52D50A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8244FE-A896-4A77-9241-E38E23B3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5DBD68-8696-47F9-9CEE-0658690B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6621A6-5E87-4F99-B220-3B415BE4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DF3E-B779-43E3-9DAB-40F824EA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9E610C-80F9-407F-A6E3-3F588DC6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6A3B5D-BEE2-45E7-99D6-4ACC2CCC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C847B-AEED-45CC-A160-64D7CA11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FCDFD6-9FC6-4ECC-8441-8048A3472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1D3849-E262-4BD0-8B92-DE89F6E7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F5102D-1CD9-4405-8763-0953ACFC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46829B-21BC-4E80-82D3-DB263508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3C0E6E-C4A1-46D2-9E1D-14FE6252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3297D7-B4FA-4770-A151-254D4BCF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330045-DA03-4F89-A2C6-F3E83516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E881-1E09-4756-B9C9-0B578D6B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26920" y="76320"/>
            <a:ext cx="81648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C6B706-641E-42C2-92C2-3A933F05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B039436-45F4-4751-9C16-CB919B99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BB1059-C18D-4335-B01A-B4AFAFF0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9757FB-11DE-4A77-A094-861B91FE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6E1F55-CCAB-4D1F-A073-1198CF2B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D39F72-463A-4189-8E42-2B61E0C99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BC05C2-231B-4AC5-8F5A-19D4A848F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A6E65B-4773-4813-8AFE-3AAB1D05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17B27E-5592-4CD1-A264-B1435A64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DD302-9ACE-4C99-8C42-E51D36C5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l-GR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946C-A578-4DC5-B935-E3D8C88F966D}" type="slidenum">
              <a:rPr b="0" i="1" lang="el-GR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0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6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7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28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0B80-D733-4064-801C-4AE745717A9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9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0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1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D4B0B-587D-47D7-A1C5-72BC1D87D72B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" name="Rectangle 49"/>
          <p:cNvSpPr/>
          <p:nvPr/>
        </p:nvSpPr>
        <p:spPr>
          <a:xfrm>
            <a:off x="0" y="548640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" name="Text Box 51"/>
          <p:cNvSpPr/>
          <p:nvPr/>
        </p:nvSpPr>
        <p:spPr>
          <a:xfrm>
            <a:off x="2152800" y="5516640"/>
            <a:ext cx="551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nstitute of Informatic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&amp;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Telecommunications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–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NCSR</a:t>
            </a:r>
            <a:r>
              <a:rPr b="0" i="1" lang="el-GR" sz="14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“Demokritos”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0" name="Picture 54" descr=""/>
          <p:cNvPicPr/>
          <p:nvPr/>
        </p:nvPicPr>
        <p:blipFill>
          <a:blip r:embed="rId2"/>
          <a:stretch/>
        </p:blipFill>
        <p:spPr>
          <a:xfrm>
            <a:off x="250920" y="5084640"/>
            <a:ext cx="1025280" cy="1024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8305560" y="6248160"/>
            <a:ext cx="685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66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E764-D6FD-4E15-8A4A-BA4FFC3D734C}" type="slidenum">
              <a:rPr b="0" i="1" lang="en-US" sz="1400" spc="-1" strike="noStrike">
                <a:solidFill>
                  <a:srgbClr val="66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5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6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7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8BC4-DBA7-412F-901D-817F235E02D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8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9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0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24EC-3B93-4CBB-809B-421B10B25428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8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1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2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3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95E2-BCD2-4DB9-8161-E51E7C57593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2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4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5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6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63235-0EAB-4A2A-BA2D-2D38B6BC6F90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7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7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8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9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3D8B-9B0B-4FF1-B350-0A11060AA691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6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18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0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1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2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CEAC-BB99-4E61-8C73-C321B633CEA9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46"/>
          <p:cNvSpPr/>
          <p:nvPr/>
        </p:nvSpPr>
        <p:spPr>
          <a:xfrm>
            <a:off x="0" y="629604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1" name="Rectangle 45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Line 32"/>
          <p:cNvSpPr/>
          <p:nvPr/>
        </p:nvSpPr>
        <p:spPr>
          <a:xfrm flipH="1">
            <a:off x="75960" y="838080"/>
            <a:ext cx="891540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63" name="Picture 51" descr=""/>
          <p:cNvPicPr/>
          <p:nvPr/>
        </p:nvPicPr>
        <p:blipFill>
          <a:blip r:embed="rId2"/>
          <a:stretch/>
        </p:blipFill>
        <p:spPr>
          <a:xfrm>
            <a:off x="71280" y="81000"/>
            <a:ext cx="648000" cy="6462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3"/>
          </p:nvPr>
        </p:nvSpPr>
        <p:spPr>
          <a:xfrm>
            <a:off x="7086240" y="6308280"/>
            <a:ext cx="1328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13 Oct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4"/>
          </p:nvPr>
        </p:nvSpPr>
        <p:spPr>
          <a:xfrm>
            <a:off x="358560" y="6308280"/>
            <a:ext cx="689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iTcl &amp; TclOO: From the perspective of a simple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5"/>
          </p:nvPr>
        </p:nvSpPr>
        <p:spPr>
          <a:xfrm>
            <a:off x="8534520" y="630036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8584-4F44-41CF-9410-D19168278E6F}" type="slidenum">
              <a:rPr b="0" i="1" lang="en-US" sz="14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15.png"/><Relationship Id="rId28" Type="http://schemas.openxmlformats.org/officeDocument/2006/relationships/image" Target="../media/image16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0.png"/><Relationship Id="rId36" Type="http://schemas.openxmlformats.org/officeDocument/2006/relationships/image" Target="../media/image34.png"/><Relationship Id="rId37" Type="http://schemas.openxmlformats.org/officeDocument/2006/relationships/image" Target="../media/image35.png"/><Relationship Id="rId38" Type="http://schemas.openxmlformats.org/officeDocument/2006/relationships/image" Target="../media/image30.png"/><Relationship Id="rId39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6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6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iki.tcl.tk/21595#pagetoce30e53a1" TargetMode="Externa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llogon.org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4000" y="990720"/>
            <a:ext cx="80787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iTcl and TclOO</a:t>
            </a:r>
            <a:br>
              <a:rPr sz="24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From the perspective of a simple user</a:t>
            </a:r>
            <a:br>
              <a:rPr sz="2000"/>
            </a:b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266720" y="2437920"/>
            <a:ext cx="4876920" cy="266724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Georgios Petasi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Software and Knowledge Engineering Laboratory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Institute of Informatics and Telecommunications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National Centre for Scientific Research “Demokritos”,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Athens, Greece</a:t>
            </a:r>
            <a:br>
              <a:rPr sz="1400"/>
            </a:br>
            <a:r>
              <a:rPr b="0" lang="en-GB" sz="1400" spc="-1" strike="noStrike">
                <a:solidFill>
                  <a:srgbClr val="000099"/>
                </a:solidFill>
                <a:latin typeface="Verdana"/>
              </a:rPr>
              <a:t>petasis@iit.demokritos.g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argely a manual (and time consuming) effor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helper Tcl script to perform “easy” substitution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everal months were need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, a few portions could not be por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clOO has some limitation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3" marL="1568160" indent="-223920">
              <a:spcBef>
                <a:spcPts val="499"/>
              </a:spcBef>
              <a:buClr>
                <a:srgbClr val="0000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Or do I have a bad programming style? </a:t>
            </a:r>
            <a:r>
              <a:rPr b="0" lang="en-US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ask is now largely finish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nd the helper Tcl script got quite complex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d what about other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about turning the conversion script into a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iTcl emulator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0049-6BD8-4661-9627-CB432AB09D0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distance of a script that reformats code from an emulator is a simple “eval” </a:t>
            </a:r>
            <a:r>
              <a:rPr b="0" lang="en-US" sz="2400" spc="-1" strike="noStrike">
                <a:solidFill>
                  <a:srgbClr val="000099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 have created a small package that emulat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630 lines of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gnores less essential features (like protection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goal is to get my applications runnin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765B-AE65-4836-A66C-1956648A74D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5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58" name="Picture 2" descr="C:\Users\George\Pictures\Editor-myItcl.png"/>
          <p:cNvPicPr/>
          <p:nvPr/>
        </p:nvPicPr>
        <p:blipFill>
          <a:blip r:embed="rId1"/>
          <a:stretch/>
        </p:blipFill>
        <p:spPr>
          <a:xfrm>
            <a:off x="457200" y="914400"/>
            <a:ext cx="82962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quick and simple approach actu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est application executes further than latest iTcl 4.0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3.x object variable references (“@itcl …”) are converted to TclOO equival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t all code substitutions are performe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dding the “my” keyword to existing code is tricky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4 regular expressions are not enough to handle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 package that “parses” Tcl is not availabl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inally I gave up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regular expressions for some cas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2CD4-1870-4F2B-92DE-5571F8A1BA2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nfigure/cget on TclO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common variables across objects of the same clas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“static” class methods (methods that do not require an object to be called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erent semantics for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specific method in the classes hierarchy of an object cannot be called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requires the keyword “my” while calling methods from inside of a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3DAB-1553-46AC-BDFA-9BC48E1A993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7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68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Differenc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st notable differences between the two extension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automatically exports methods that start with a lowercase lette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 facility for “local” to procedures objects (like itcl::local)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2EEF-FAEF-48A0-8328-E078AE6C5FA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: Similariti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1981080" y="1295280"/>
          <a:ext cx="5181840" cy="259560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Tc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clO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metho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$thi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[self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chain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nex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sco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my varname 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nheri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super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itcl::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oo::define bod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576" name="Content Placeholder 2"/>
          <p:cNvSpPr/>
          <p:nvPr/>
        </p:nvSpPr>
        <p:spPr>
          <a:xfrm>
            <a:off x="380880" y="4038480"/>
            <a:ext cx="83822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teresting features of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verything subclasses 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oo::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mixin”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unknown” on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Verdana"/>
              </a:rPr>
              <a:t>The “my” keywor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7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5887-9236-4CC2-99B4-EF1C3DEB2B1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7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3B1B-1824-452C-A42B-874DC505E76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ase study: the Ellogon NLP platform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llogon is an infrastructure for natural language processing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ag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manually annotating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vides facilities for loading processing components, and apply them on corpor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velopment started in 1998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think with Tcl/Tk 8.1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500.000 lines of C/C++/Tcl cod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lot of legacy code, especially in the GUI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widespread use of tile/ttk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No OO (i.e. iTcl) in most parts of the code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E86A-B938-44B5-B90C-C06EFEF9CC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8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Architect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576360" y="1143000"/>
            <a:ext cx="7958160" cy="3995640"/>
            <a:chOff x="576360" y="1143000"/>
            <a:chExt cx="7958160" cy="3995640"/>
          </a:xfrm>
        </p:grpSpPr>
        <p:sp>
          <p:nvSpPr>
            <p:cNvPr id="592" name="AutoShape 4"/>
            <p:cNvSpPr/>
            <p:nvPr/>
          </p:nvSpPr>
          <p:spPr>
            <a:xfrm>
              <a:off x="576360" y="1143000"/>
              <a:ext cx="7958160" cy="399564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3" name="AutoShape 5"/>
            <p:cNvSpPr/>
            <p:nvPr/>
          </p:nvSpPr>
          <p:spPr>
            <a:xfrm>
              <a:off x="576360" y="1143000"/>
              <a:ext cx="7958160" cy="2872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76360" y="1430280"/>
              <a:ext cx="7958160" cy="180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595" name="Group 7"/>
          <p:cNvGrpSpPr/>
          <p:nvPr/>
        </p:nvGrpSpPr>
        <p:grpSpPr>
          <a:xfrm>
            <a:off x="614520" y="1467000"/>
            <a:ext cx="2700360" cy="1763640"/>
            <a:chOff x="614520" y="1467000"/>
            <a:chExt cx="2700360" cy="1763640"/>
          </a:xfrm>
        </p:grpSpPr>
        <p:sp>
          <p:nvSpPr>
            <p:cNvPr id="596" name="AutoShape 8"/>
            <p:cNvSpPr/>
            <p:nvPr/>
          </p:nvSpPr>
          <p:spPr>
            <a:xfrm>
              <a:off x="671760" y="1509840"/>
              <a:ext cx="2460600" cy="164952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3f2f7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7" name="AutoShape 9"/>
            <p:cNvSpPr/>
            <p:nvPr/>
          </p:nvSpPr>
          <p:spPr>
            <a:xfrm>
              <a:off x="671760" y="1509840"/>
              <a:ext cx="2460600" cy="59868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671760" y="2113200"/>
              <a:ext cx="246060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599" name="Text Box 11"/>
            <p:cNvSpPr/>
            <p:nvPr/>
          </p:nvSpPr>
          <p:spPr>
            <a:xfrm>
              <a:off x="671760" y="1467000"/>
              <a:ext cx="2643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Language Processing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00" name="Picture 12" descr="execRed"/>
            <p:cNvPicPr/>
            <p:nvPr/>
          </p:nvPicPr>
          <p:blipFill>
            <a:blip r:embed="rId1"/>
            <a:stretch/>
          </p:blipFill>
          <p:spPr>
            <a:xfrm>
              <a:off x="614520" y="2009880"/>
              <a:ext cx="1220760" cy="122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exec"/>
            <p:cNvPicPr/>
            <p:nvPr/>
          </p:nvPicPr>
          <p:blipFill>
            <a:blip r:embed="rId2"/>
            <a:stretch/>
          </p:blipFill>
          <p:spPr>
            <a:xfrm>
              <a:off x="1044720" y="2011680"/>
              <a:ext cx="121932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14" descr="execOrange"/>
            <p:cNvPicPr/>
            <p:nvPr/>
          </p:nvPicPr>
          <p:blipFill>
            <a:blip r:embed="rId3"/>
            <a:stretch/>
          </p:blipFill>
          <p:spPr>
            <a:xfrm>
              <a:off x="1511280" y="2005200"/>
              <a:ext cx="1225800" cy="12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3" name="Picture 15" descr="execGreen"/>
            <p:cNvPicPr/>
            <p:nvPr/>
          </p:nvPicPr>
          <p:blipFill>
            <a:blip r:embed="rId4"/>
            <a:stretch/>
          </p:blipFill>
          <p:spPr>
            <a:xfrm>
              <a:off x="1982880" y="2006640"/>
              <a:ext cx="1220760" cy="122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4" name="Group 16"/>
          <p:cNvGrpSpPr/>
          <p:nvPr/>
        </p:nvGrpSpPr>
        <p:grpSpPr>
          <a:xfrm>
            <a:off x="3768840" y="1467000"/>
            <a:ext cx="3000240" cy="1691640"/>
            <a:chOff x="3768840" y="1467000"/>
            <a:chExt cx="3000240" cy="1691640"/>
          </a:xfrm>
        </p:grpSpPr>
        <p:grpSp>
          <p:nvGrpSpPr>
            <p:cNvPr id="605" name="Group 17"/>
            <p:cNvGrpSpPr/>
            <p:nvPr/>
          </p:nvGrpSpPr>
          <p:grpSpPr>
            <a:xfrm>
              <a:off x="3768840" y="1467000"/>
              <a:ext cx="3000240" cy="1691640"/>
              <a:chOff x="3768840" y="1467000"/>
              <a:chExt cx="3000240" cy="1691640"/>
            </a:xfrm>
          </p:grpSpPr>
          <p:grpSp>
            <p:nvGrpSpPr>
              <p:cNvPr id="606" name="Group 18"/>
              <p:cNvGrpSpPr/>
              <p:nvPr/>
            </p:nvGrpSpPr>
            <p:grpSpPr>
              <a:xfrm>
                <a:off x="3768840" y="1467000"/>
                <a:ext cx="3000240" cy="1691640"/>
                <a:chOff x="3768840" y="1467000"/>
                <a:chExt cx="3000240" cy="1691640"/>
              </a:xfrm>
            </p:grpSpPr>
            <p:sp>
              <p:nvSpPr>
                <p:cNvPr id="607" name="AutoShape 19"/>
                <p:cNvSpPr/>
                <p:nvPr/>
              </p:nvSpPr>
              <p:spPr>
                <a:xfrm>
                  <a:off x="3768840" y="1509480"/>
                  <a:ext cx="3000240" cy="164916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3f2f7"/>
                    </a:gs>
                    <a:gs pos="100000">
                      <a:srgbClr val="fdfdfb">
                        <a:alpha val="0"/>
                      </a:srgbClr>
                    </a:gs>
                  </a:gsLst>
                  <a:lin ang="0"/>
                </a:gradFill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8" name="AutoShape 20"/>
                <p:cNvSpPr/>
                <p:nvPr/>
              </p:nvSpPr>
              <p:spPr>
                <a:xfrm>
                  <a:off x="3768840" y="1509480"/>
                  <a:ext cx="3000240" cy="286920"/>
                </a:xfrm>
                <a:prstGeom prst="roundRect">
                  <a:avLst>
                    <a:gd name="adj" fmla="val 1755"/>
                  </a:avLst>
                </a:prstGeom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e8e6e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09" name="Line 21"/>
                <p:cNvSpPr/>
                <p:nvPr/>
              </p:nvSpPr>
              <p:spPr>
                <a:xfrm>
                  <a:off x="3768840" y="1796760"/>
                  <a:ext cx="3000240" cy="1440"/>
                </a:xfrm>
                <a:prstGeom prst="line">
                  <a:avLst/>
                </a:prstGeom>
                <a:ln w="6480">
                  <a:solidFill>
                    <a:srgbClr val="94929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  <p:sp>
              <p:nvSpPr>
                <p:cNvPr id="610" name="Text Box 22"/>
                <p:cNvSpPr/>
                <p:nvPr/>
              </p:nvSpPr>
              <p:spPr>
                <a:xfrm>
                  <a:off x="3779640" y="1467000"/>
                  <a:ext cx="26143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76889c"/>
                      </a:solidFill>
                      <a:latin typeface="Arial"/>
                    </a:rPr>
                    <a:t>Graphical Interface</a:t>
                  </a:r>
                  <a:endParaRPr b="0" lang="en-US" sz="1800" spc="-1" strike="noStrike">
                    <a:solidFill>
                      <a:srgbClr val="000099"/>
                    </a:solidFill>
                    <a:latin typeface="Verdana"/>
                  </a:endParaRPr>
                </a:p>
              </p:txBody>
            </p:sp>
          </p:grpSp>
          <p:pic>
            <p:nvPicPr>
              <p:cNvPr id="611" name="Picture 23" descr="EllogonMainWindows"/>
              <p:cNvPicPr/>
              <p:nvPr/>
            </p:nvPicPr>
            <p:blipFill>
              <a:blip r:embed="rId5"/>
              <a:stretch/>
            </p:blipFill>
            <p:spPr>
              <a:xfrm>
                <a:off x="3852720" y="1836720"/>
                <a:ext cx="1533240" cy="1118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2" name="Picture 24" descr="Ion2"/>
              <p:cNvPicPr/>
              <p:nvPr/>
            </p:nvPicPr>
            <p:blipFill>
              <a:blip r:embed="rId6"/>
              <a:stretch/>
            </p:blipFill>
            <p:spPr>
              <a:xfrm>
                <a:off x="4968720" y="1938240"/>
                <a:ext cx="1723680" cy="11109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13" name="Picture 25" descr="kappfinder"/>
            <p:cNvPicPr/>
            <p:nvPr/>
          </p:nvPicPr>
          <p:blipFill>
            <a:blip r:embed="rId7"/>
            <a:stretch/>
          </p:blipFill>
          <p:spPr>
            <a:xfrm>
              <a:off x="6200640" y="1477800"/>
              <a:ext cx="568080" cy="568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4" name="Group 26"/>
          <p:cNvGrpSpPr/>
          <p:nvPr/>
        </p:nvGrpSpPr>
        <p:grpSpPr>
          <a:xfrm>
            <a:off x="1300320" y="3209760"/>
            <a:ext cx="1040760" cy="489240"/>
            <a:chOff x="1300320" y="3209760"/>
            <a:chExt cx="1040760" cy="489240"/>
          </a:xfrm>
        </p:grpSpPr>
        <p:pic>
          <p:nvPicPr>
            <p:cNvPr id="615" name="Picture 27" descr="ArrowDown"/>
            <p:cNvPicPr/>
            <p:nvPr/>
          </p:nvPicPr>
          <p:blipFill>
            <a:blip r:embed="rId8"/>
            <a:stretch/>
          </p:blipFill>
          <p:spPr>
            <a:xfrm>
              <a:off x="130032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28" descr="ArrowDown"/>
            <p:cNvPicPr/>
            <p:nvPr/>
          </p:nvPicPr>
          <p:blipFill>
            <a:blip r:embed="rId9"/>
            <a:stretch/>
          </p:blipFill>
          <p:spPr>
            <a:xfrm>
              <a:off x="182376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9"/>
          <p:cNvGrpSpPr/>
          <p:nvPr/>
        </p:nvGrpSpPr>
        <p:grpSpPr>
          <a:xfrm>
            <a:off x="4645080" y="3209760"/>
            <a:ext cx="1038240" cy="489240"/>
            <a:chOff x="4645080" y="3209760"/>
            <a:chExt cx="1038240" cy="489240"/>
          </a:xfrm>
        </p:grpSpPr>
        <p:pic>
          <p:nvPicPr>
            <p:cNvPr id="618" name="Picture 30" descr="ArrowDown"/>
            <p:cNvPicPr/>
            <p:nvPr/>
          </p:nvPicPr>
          <p:blipFill>
            <a:blip r:embed="rId10"/>
            <a:stretch/>
          </p:blipFill>
          <p:spPr>
            <a:xfrm>
              <a:off x="5166000" y="320976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9" name="Picture 31" descr="ArrowDown"/>
            <p:cNvPicPr/>
            <p:nvPr/>
          </p:nvPicPr>
          <p:blipFill>
            <a:blip r:embed="rId11"/>
            <a:stretch/>
          </p:blipFill>
          <p:spPr>
            <a:xfrm>
              <a:off x="4645080" y="3209760"/>
              <a:ext cx="51768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0" name="Group 32"/>
          <p:cNvGrpSpPr/>
          <p:nvPr/>
        </p:nvGrpSpPr>
        <p:grpSpPr>
          <a:xfrm>
            <a:off x="3200400" y="1790640"/>
            <a:ext cx="509760" cy="1057320"/>
            <a:chOff x="3200400" y="1790640"/>
            <a:chExt cx="509760" cy="1057320"/>
          </a:xfrm>
        </p:grpSpPr>
        <p:pic>
          <p:nvPicPr>
            <p:cNvPr id="621" name="Picture 33" descr="ArrowDown"/>
            <p:cNvPicPr/>
            <p:nvPr/>
          </p:nvPicPr>
          <p:blipFill>
            <a:blip r:embed="rId12"/>
            <a:stretch/>
          </p:blipFill>
          <p:spPr>
            <a:xfrm>
              <a:off x="3221280" y="1790640"/>
              <a:ext cx="4888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icture 34" descr="ArrowDown"/>
            <p:cNvPicPr/>
            <p:nvPr/>
          </p:nvPicPr>
          <p:blipFill>
            <a:blip r:embed="rId13"/>
            <a:stretch/>
          </p:blipFill>
          <p:spPr>
            <a:xfrm>
              <a:off x="3200400" y="2330280"/>
              <a:ext cx="489240" cy="5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3" name="Group 44"/>
          <p:cNvGrpSpPr/>
          <p:nvPr/>
        </p:nvGrpSpPr>
        <p:grpSpPr>
          <a:xfrm>
            <a:off x="6769080" y="1509840"/>
            <a:ext cx="1657080" cy="3522600"/>
            <a:chOff x="6769080" y="1509840"/>
            <a:chExt cx="1657080" cy="3522600"/>
          </a:xfrm>
        </p:grpSpPr>
        <p:sp>
          <p:nvSpPr>
            <p:cNvPr id="624" name="AutoShape 45"/>
            <p:cNvSpPr/>
            <p:nvPr/>
          </p:nvSpPr>
          <p:spPr>
            <a:xfrm>
              <a:off x="6987960" y="1509840"/>
              <a:ext cx="1438200" cy="3522600"/>
            </a:xfrm>
            <a:custGeom>
              <a:avLst/>
              <a:gdLst>
                <a:gd name="textAreaLeft" fmla="*/ 7200 w 1438200"/>
                <a:gd name="textAreaRight" fmla="*/ 1431000 w 1438200"/>
                <a:gd name="textAreaTop" fmla="*/ 7200 h 3522600"/>
                <a:gd name="textAreaBottom" fmla="*/ 3515400 h 3522600"/>
              </a:gdLst>
              <a:ahLst/>
              <a:rect l="textAreaLeft" t="textAreaTop" r="textAreaRight" b="textAreaBottom"/>
              <a:pathLst>
                <a:path w="21600" h="52897">
                  <a:moveTo>
                    <a:pt x="379" y="0"/>
                  </a:moveTo>
                  <a:arcTo wR="379" hR="379" stAng="16200000" swAng="-5400000"/>
                  <a:lnTo>
                    <a:pt x="0" y="52518"/>
                  </a:lnTo>
                  <a:arcTo wR="379" hR="379" stAng="10800000" swAng="-5400000"/>
                  <a:lnTo>
                    <a:pt x="21221" y="52897"/>
                  </a:lnTo>
                  <a:arcTo wR="379" hR="379" stAng="5400000" swAng="-5400000"/>
                  <a:lnTo>
                    <a:pt x="21600" y="379"/>
                  </a:lnTo>
                  <a:arcTo wR="379" hR="379" stAng="0" swAng="-5400000"/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5" name="AutoShape 46"/>
            <p:cNvSpPr/>
            <p:nvPr/>
          </p:nvSpPr>
          <p:spPr>
            <a:xfrm>
              <a:off x="6991200" y="1514520"/>
              <a:ext cx="282600" cy="3516120"/>
            </a:xfrm>
            <a:custGeom>
              <a:avLst/>
              <a:gdLst>
                <a:gd name="textAreaLeft" fmla="*/ 8280 w 282600"/>
                <a:gd name="textAreaRight" fmla="*/ 274320 w 282600"/>
                <a:gd name="textAreaTop" fmla="*/ 8280 h 3516120"/>
                <a:gd name="textAreaBottom" fmla="*/ 3507840 h 3516120"/>
              </a:gdLst>
              <a:ahLst/>
              <a:rect l="textAreaLeft" t="textAreaTop" r="textAreaRight" b="textAreaBottom"/>
              <a:pathLst>
                <a:path w="21600" h="268434">
                  <a:moveTo>
                    <a:pt x="2184" y="0"/>
                  </a:moveTo>
                  <a:arcTo wR="2184" hR="2184" stAng="16200000" swAng="-5400000"/>
                  <a:lnTo>
                    <a:pt x="0" y="266250"/>
                  </a:lnTo>
                  <a:arcTo wR="2184" hR="2184" stAng="10800000" swAng="-5400000"/>
                  <a:lnTo>
                    <a:pt x="19416" y="268434"/>
                  </a:lnTo>
                  <a:arcTo wR="2184" hR="2184" stAng="5400000" swAng="-5400000"/>
                  <a:lnTo>
                    <a:pt x="21600" y="2184"/>
                  </a:lnTo>
                  <a:arcTo wR="2184" hR="2184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6" name="Text Box 47"/>
            <p:cNvSpPr/>
            <p:nvPr/>
          </p:nvSpPr>
          <p:spPr>
            <a:xfrm flipV="1">
              <a:off x="6876720" y="2633760"/>
              <a:ext cx="454680" cy="22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27" name="Text Box 48"/>
            <p:cNvSpPr/>
            <p:nvPr/>
          </p:nvSpPr>
          <p:spPr>
            <a:xfrm>
              <a:off x="7273800" y="1509840"/>
              <a:ext cx="1152360" cy="33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00"/>
                  </a:solidFill>
                  <a:latin typeface="Arial"/>
                </a:rPr>
                <a:t>Internet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9900"/>
                  </a:solidFill>
                  <a:latin typeface="Arial"/>
                </a:rPr>
                <a:t>(HTTP, FTP, SOAP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cc"/>
                  </a:solidFill>
                  <a:latin typeface="Arial"/>
                </a:rPr>
                <a:t>Operating System Service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cc"/>
                  </a:solidFill>
                  <a:latin typeface="Arial"/>
                </a:rPr>
                <a:t>(ActiveX, COM, DDE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9900"/>
                  </a:solidFill>
                  <a:latin typeface="Arial"/>
                </a:rPr>
                <a:t>Database </a:t>
              </a:r>
              <a:r>
                <a:rPr b="1" lang="en-US" sz="1400" spc="-1" strike="noStrike">
                  <a:solidFill>
                    <a:srgbClr val="cc9900"/>
                  </a:solidFill>
                  <a:latin typeface="Arial"/>
                </a:rPr>
                <a:t>Connectivity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cc9900"/>
                  </a:solidFill>
                  <a:latin typeface="Arial"/>
                </a:rPr>
                <a:t>(ODBC)</a:t>
              </a:r>
              <a:endParaRPr b="0" lang="en-US" sz="900" spc="-1" strike="noStrike">
                <a:solidFill>
                  <a:srgbClr val="000099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6889c"/>
                  </a:solidFill>
                  <a:latin typeface="Arial"/>
                </a:rPr>
                <a:t>…</a:t>
              </a:r>
              <a:endParaRPr b="0" lang="en-US" sz="36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28" name="Picture 49" descr="ArrowDown"/>
            <p:cNvPicPr/>
            <p:nvPr/>
          </p:nvPicPr>
          <p:blipFill>
            <a:blip r:embed="rId15"/>
            <a:stretch/>
          </p:blipFill>
          <p:spPr>
            <a:xfrm>
              <a:off x="6802200" y="1971720"/>
              <a:ext cx="21924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Picture 50" descr="ArrowDown"/>
            <p:cNvPicPr/>
            <p:nvPr/>
          </p:nvPicPr>
          <p:blipFill>
            <a:blip r:embed="rId16"/>
            <a:stretch/>
          </p:blipFill>
          <p:spPr>
            <a:xfrm>
              <a:off x="6769080" y="2279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0" name="Picture 51" descr="ArrowDown"/>
            <p:cNvPicPr/>
            <p:nvPr/>
          </p:nvPicPr>
          <p:blipFill>
            <a:blip r:embed="rId17"/>
            <a:stretch/>
          </p:blipFill>
          <p:spPr>
            <a:xfrm>
              <a:off x="6789600" y="4511520"/>
              <a:ext cx="218880" cy="2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Picture 52" descr="ArrowDown"/>
            <p:cNvPicPr/>
            <p:nvPr/>
          </p:nvPicPr>
          <p:blipFill>
            <a:blip r:embed="rId18"/>
            <a:stretch/>
          </p:blipFill>
          <p:spPr>
            <a:xfrm>
              <a:off x="6769080" y="4222800"/>
              <a:ext cx="218880" cy="2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2" name="Group 53"/>
          <p:cNvGrpSpPr/>
          <p:nvPr/>
        </p:nvGrpSpPr>
        <p:grpSpPr>
          <a:xfrm>
            <a:off x="576360" y="5403960"/>
            <a:ext cx="2738520" cy="887400"/>
            <a:chOff x="576360" y="5403960"/>
            <a:chExt cx="2738520" cy="887400"/>
          </a:xfrm>
        </p:grpSpPr>
        <p:sp>
          <p:nvSpPr>
            <p:cNvPr id="633" name="AutoShape 54"/>
            <p:cNvSpPr/>
            <p:nvPr/>
          </p:nvSpPr>
          <p:spPr>
            <a:xfrm>
              <a:off x="578160" y="5445000"/>
              <a:ext cx="2736720" cy="82260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4" name="AutoShape 55"/>
            <p:cNvSpPr/>
            <p:nvPr/>
          </p:nvSpPr>
          <p:spPr>
            <a:xfrm>
              <a:off x="576360" y="5446800"/>
              <a:ext cx="273852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5" name="AutoShape 56"/>
            <p:cNvSpPr/>
            <p:nvPr/>
          </p:nvSpPr>
          <p:spPr>
            <a:xfrm>
              <a:off x="578160" y="5446800"/>
              <a:ext cx="2736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6" name="Line 57"/>
            <p:cNvSpPr/>
            <p:nvPr/>
          </p:nvSpPr>
          <p:spPr>
            <a:xfrm>
              <a:off x="578160" y="5734080"/>
              <a:ext cx="27367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37" name="Text Box 58"/>
            <p:cNvSpPr/>
            <p:nvPr/>
          </p:nvSpPr>
          <p:spPr>
            <a:xfrm>
              <a:off x="576360" y="5403960"/>
              <a:ext cx="26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Operating System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38" name="Picture 59" descr="penguin"/>
            <p:cNvPicPr/>
            <p:nvPr/>
          </p:nvPicPr>
          <p:blipFill>
            <a:blip r:embed="rId19"/>
            <a:stretch/>
          </p:blipFill>
          <p:spPr>
            <a:xfrm>
              <a:off x="2756160" y="5770440"/>
              <a:ext cx="485640" cy="4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60" descr="Windows"/>
            <p:cNvPicPr/>
            <p:nvPr/>
          </p:nvPicPr>
          <p:blipFill>
            <a:blip r:embed="rId20"/>
            <a:stretch/>
          </p:blipFill>
          <p:spPr>
            <a:xfrm>
              <a:off x="2233800" y="5727600"/>
              <a:ext cx="528480" cy="56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Picture 61" descr="folder3"/>
            <p:cNvPicPr/>
            <p:nvPr/>
          </p:nvPicPr>
          <p:blipFill>
            <a:blip r:embed="rId21"/>
            <a:stretch/>
          </p:blipFill>
          <p:spPr>
            <a:xfrm>
              <a:off x="61308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Picture 62" descr="folder3_green"/>
            <p:cNvPicPr/>
            <p:nvPr/>
          </p:nvPicPr>
          <p:blipFill>
            <a:blip r:embed="rId22"/>
            <a:stretch/>
          </p:blipFill>
          <p:spPr>
            <a:xfrm>
              <a:off x="93672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Picture 63" descr="folder3_grey"/>
            <p:cNvPicPr/>
            <p:nvPr/>
          </p:nvPicPr>
          <p:blipFill>
            <a:blip r:embed="rId23"/>
            <a:stretch/>
          </p:blipFill>
          <p:spPr>
            <a:xfrm>
              <a:off x="1260720" y="5745240"/>
              <a:ext cx="48564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64" descr="folder3_yellow"/>
            <p:cNvPicPr/>
            <p:nvPr/>
          </p:nvPicPr>
          <p:blipFill>
            <a:blip r:embed="rId24"/>
            <a:stretch/>
          </p:blipFill>
          <p:spPr>
            <a:xfrm>
              <a:off x="1603440" y="5745240"/>
              <a:ext cx="486000" cy="48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4" name="Group 68"/>
          <p:cNvGrpSpPr/>
          <p:nvPr/>
        </p:nvGrpSpPr>
        <p:grpSpPr>
          <a:xfrm>
            <a:off x="7461360" y="5427720"/>
            <a:ext cx="1071360" cy="846000"/>
            <a:chOff x="7461360" y="5427720"/>
            <a:chExt cx="1071360" cy="846000"/>
          </a:xfrm>
        </p:grpSpPr>
        <p:sp>
          <p:nvSpPr>
            <p:cNvPr id="645" name="AutoShape 69"/>
            <p:cNvSpPr/>
            <p:nvPr/>
          </p:nvSpPr>
          <p:spPr>
            <a:xfrm>
              <a:off x="7462800" y="5451480"/>
              <a:ext cx="1069560" cy="82224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6" name="AutoShape 70"/>
            <p:cNvSpPr/>
            <p:nvPr/>
          </p:nvSpPr>
          <p:spPr>
            <a:xfrm>
              <a:off x="7461360" y="5452920"/>
              <a:ext cx="1071360" cy="82080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0000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7" name="AutoShape 71"/>
            <p:cNvSpPr/>
            <p:nvPr/>
          </p:nvSpPr>
          <p:spPr>
            <a:xfrm>
              <a:off x="7462800" y="5452920"/>
              <a:ext cx="1069560" cy="18756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8" name="Line 72"/>
            <p:cNvSpPr/>
            <p:nvPr/>
          </p:nvSpPr>
          <p:spPr>
            <a:xfrm>
              <a:off x="7462800" y="5645160"/>
              <a:ext cx="106956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49" name="Text Box 73"/>
            <p:cNvSpPr/>
            <p:nvPr/>
          </p:nvSpPr>
          <p:spPr>
            <a:xfrm>
              <a:off x="746136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???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50" name="Picture 74" descr="folder2_grey"/>
            <p:cNvPicPr/>
            <p:nvPr/>
          </p:nvPicPr>
          <p:blipFill>
            <a:blip r:embed="rId25"/>
            <a:stretch/>
          </p:blipFill>
          <p:spPr>
            <a:xfrm>
              <a:off x="7464240" y="5662440"/>
              <a:ext cx="6076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Picture 75" descr="unknown2"/>
            <p:cNvPicPr/>
            <p:nvPr/>
          </p:nvPicPr>
          <p:blipFill>
            <a:blip r:embed="rId26"/>
            <a:stretch/>
          </p:blipFill>
          <p:spPr>
            <a:xfrm>
              <a:off x="7856280" y="5643360"/>
              <a:ext cx="593280" cy="59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2" name="Group 76"/>
          <p:cNvGrpSpPr/>
          <p:nvPr/>
        </p:nvGrpSpPr>
        <p:grpSpPr>
          <a:xfrm>
            <a:off x="1405080" y="4995720"/>
            <a:ext cx="1055160" cy="489240"/>
            <a:chOff x="1405080" y="4995720"/>
            <a:chExt cx="1055160" cy="489240"/>
          </a:xfrm>
        </p:grpSpPr>
        <p:pic>
          <p:nvPicPr>
            <p:cNvPr id="653" name="Picture 77" descr="ArrowDown"/>
            <p:cNvPicPr/>
            <p:nvPr/>
          </p:nvPicPr>
          <p:blipFill>
            <a:blip r:embed="rId27"/>
            <a:stretch/>
          </p:blipFill>
          <p:spPr>
            <a:xfrm>
              <a:off x="194292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4" name="Picture 78" descr="ArrowDown"/>
            <p:cNvPicPr/>
            <p:nvPr/>
          </p:nvPicPr>
          <p:blipFill>
            <a:blip r:embed="rId28"/>
            <a:stretch/>
          </p:blipFill>
          <p:spPr>
            <a:xfrm>
              <a:off x="1405080" y="4995720"/>
              <a:ext cx="517320" cy="48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5" name="Group 79"/>
          <p:cNvGrpSpPr/>
          <p:nvPr/>
        </p:nvGrpSpPr>
        <p:grpSpPr>
          <a:xfrm>
            <a:off x="3600360" y="5019840"/>
            <a:ext cx="1082520" cy="1271160"/>
            <a:chOff x="3600360" y="5019840"/>
            <a:chExt cx="1082520" cy="1271160"/>
          </a:xfrm>
        </p:grpSpPr>
        <p:sp>
          <p:nvSpPr>
            <p:cNvPr id="656" name="AutoShape 80"/>
            <p:cNvSpPr/>
            <p:nvPr/>
          </p:nvSpPr>
          <p:spPr>
            <a:xfrm>
              <a:off x="3605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7" name="AutoShape 81"/>
            <p:cNvSpPr/>
            <p:nvPr/>
          </p:nvSpPr>
          <p:spPr>
            <a:xfrm>
              <a:off x="3603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99cc">
                    <a:alpha val="50196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8" name="AutoShape 82"/>
            <p:cNvSpPr/>
            <p:nvPr/>
          </p:nvSpPr>
          <p:spPr>
            <a:xfrm>
              <a:off x="3605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59" name="Line 83"/>
            <p:cNvSpPr/>
            <p:nvPr/>
          </p:nvSpPr>
          <p:spPr>
            <a:xfrm>
              <a:off x="3605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0" name="Text Box 84"/>
            <p:cNvSpPr/>
            <p:nvPr/>
          </p:nvSpPr>
          <p:spPr>
            <a:xfrm>
              <a:off x="3603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XML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61" name="Picture 85" descr="XMLDocument"/>
            <p:cNvPicPr/>
            <p:nvPr/>
          </p:nvPicPr>
          <p:blipFill>
            <a:blip r:embed="rId29"/>
            <a:stretch/>
          </p:blipFill>
          <p:spPr>
            <a:xfrm>
              <a:off x="4063680" y="5672160"/>
              <a:ext cx="619200" cy="61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86" descr="folder2"/>
            <p:cNvPicPr/>
            <p:nvPr/>
          </p:nvPicPr>
          <p:blipFill>
            <a:blip r:embed="rId30"/>
            <a:stretch/>
          </p:blipFill>
          <p:spPr>
            <a:xfrm>
              <a:off x="3600360" y="566424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87" descr="UpDownArrow"/>
            <p:cNvPicPr/>
            <p:nvPr/>
          </p:nvPicPr>
          <p:blipFill>
            <a:blip r:embed="rId31"/>
            <a:stretch/>
          </p:blipFill>
          <p:spPr>
            <a:xfrm>
              <a:off x="39970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" name="Group 88"/>
          <p:cNvGrpSpPr/>
          <p:nvPr/>
        </p:nvGrpSpPr>
        <p:grpSpPr>
          <a:xfrm>
            <a:off x="4746600" y="5019840"/>
            <a:ext cx="1071360" cy="1256760"/>
            <a:chOff x="4746600" y="5019840"/>
            <a:chExt cx="1071360" cy="1256760"/>
          </a:xfrm>
        </p:grpSpPr>
        <p:sp>
          <p:nvSpPr>
            <p:cNvPr id="665" name="AutoShape 89"/>
            <p:cNvSpPr/>
            <p:nvPr/>
          </p:nvSpPr>
          <p:spPr>
            <a:xfrm>
              <a:off x="4748040" y="5451480"/>
              <a:ext cx="106992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6" name="AutoShape 90"/>
            <p:cNvSpPr/>
            <p:nvPr/>
          </p:nvSpPr>
          <p:spPr>
            <a:xfrm>
              <a:off x="4746600" y="5452920"/>
              <a:ext cx="107136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fdfdfb"/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7" name="AutoShape 91"/>
            <p:cNvSpPr/>
            <p:nvPr/>
          </p:nvSpPr>
          <p:spPr>
            <a:xfrm>
              <a:off x="4748040" y="5452920"/>
              <a:ext cx="1069920" cy="18720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8" name="Line 92"/>
            <p:cNvSpPr/>
            <p:nvPr/>
          </p:nvSpPr>
          <p:spPr>
            <a:xfrm>
              <a:off x="4748040" y="5645160"/>
              <a:ext cx="106992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69" name="Text Box 93"/>
            <p:cNvSpPr/>
            <p:nvPr/>
          </p:nvSpPr>
          <p:spPr>
            <a:xfrm>
              <a:off x="4746600" y="5427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Ellogon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70" name="Picture 94" descr="unknown"/>
            <p:cNvPicPr/>
            <p:nvPr/>
          </p:nvPicPr>
          <p:blipFill>
            <a:blip r:embed="rId32"/>
            <a:stretch/>
          </p:blipFill>
          <p:spPr>
            <a:xfrm>
              <a:off x="520992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1" name="Picture 95" descr="folder2_green"/>
            <p:cNvPicPr/>
            <p:nvPr/>
          </p:nvPicPr>
          <p:blipFill>
            <a:blip r:embed="rId33"/>
            <a:stretch/>
          </p:blipFill>
          <p:spPr>
            <a:xfrm>
              <a:off x="4746600" y="5665680"/>
              <a:ext cx="60768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2" name="Picture 96" descr="EllogonLogo_EGear"/>
            <p:cNvPicPr/>
            <p:nvPr/>
          </p:nvPicPr>
          <p:blipFill>
            <a:blip r:embed="rId34"/>
            <a:stretch/>
          </p:blipFill>
          <p:spPr>
            <a:xfrm>
              <a:off x="5209920" y="5861160"/>
              <a:ext cx="335160" cy="33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97" descr="UpDownArrow"/>
            <p:cNvPicPr/>
            <p:nvPr/>
          </p:nvPicPr>
          <p:blipFill>
            <a:blip r:embed="rId35"/>
            <a:stretch/>
          </p:blipFill>
          <p:spPr>
            <a:xfrm>
              <a:off x="5119560" y="5019840"/>
              <a:ext cx="28080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4" name="Group 98"/>
          <p:cNvGrpSpPr/>
          <p:nvPr/>
        </p:nvGrpSpPr>
        <p:grpSpPr>
          <a:xfrm>
            <a:off x="5881680" y="5019840"/>
            <a:ext cx="1521000" cy="1267920"/>
            <a:chOff x="5881680" y="5019840"/>
            <a:chExt cx="1521000" cy="1267920"/>
          </a:xfrm>
        </p:grpSpPr>
        <p:sp>
          <p:nvSpPr>
            <p:cNvPr id="675" name="AutoShape 99"/>
            <p:cNvSpPr/>
            <p:nvPr/>
          </p:nvSpPr>
          <p:spPr>
            <a:xfrm>
              <a:off x="5883480" y="5451480"/>
              <a:ext cx="1519200" cy="821880"/>
            </a:xfrm>
            <a:prstGeom prst="roundRect">
              <a:avLst>
                <a:gd name="adj" fmla="val 7144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6" name="AutoShape 100"/>
            <p:cNvSpPr/>
            <p:nvPr/>
          </p:nvSpPr>
          <p:spPr>
            <a:xfrm>
              <a:off x="5881680" y="5452920"/>
              <a:ext cx="1521000" cy="820440"/>
            </a:xfrm>
            <a:prstGeom prst="roundRect">
              <a:avLst>
                <a:gd name="adj" fmla="val 5801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dfdfb">
                    <a:alpha val="0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7" name="AutoShape 101"/>
            <p:cNvSpPr/>
            <p:nvPr/>
          </p:nvSpPr>
          <p:spPr>
            <a:xfrm>
              <a:off x="5883480" y="5452920"/>
              <a:ext cx="1519200" cy="19332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8" name="Line 102"/>
            <p:cNvSpPr/>
            <p:nvPr/>
          </p:nvSpPr>
          <p:spPr>
            <a:xfrm>
              <a:off x="5883480" y="5645160"/>
              <a:ext cx="151920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79" name="Text Box 103"/>
            <p:cNvSpPr/>
            <p:nvPr/>
          </p:nvSpPr>
          <p:spPr>
            <a:xfrm>
              <a:off x="5881680" y="5427720"/>
              <a:ext cx="1521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76889c"/>
                  </a:solidFill>
                  <a:latin typeface="Arial"/>
                </a:rPr>
                <a:t>Databases</a:t>
              </a:r>
              <a:endParaRPr b="0" lang="en-US" sz="1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680" name="Picture 104" descr="folder2_yellow"/>
            <p:cNvPicPr/>
            <p:nvPr/>
          </p:nvPicPr>
          <p:blipFill>
            <a:blip r:embed="rId36"/>
            <a:stretch/>
          </p:blipFill>
          <p:spPr>
            <a:xfrm>
              <a:off x="6078600" y="566892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1" name="Picture 105" descr="spreadsheet"/>
            <p:cNvPicPr/>
            <p:nvPr/>
          </p:nvPicPr>
          <p:blipFill>
            <a:blip r:embed="rId37"/>
            <a:stretch/>
          </p:blipFill>
          <p:spPr>
            <a:xfrm>
              <a:off x="6507360" y="5680080"/>
              <a:ext cx="6080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Picture 106" descr="UpDownArrow"/>
            <p:cNvPicPr/>
            <p:nvPr/>
          </p:nvPicPr>
          <p:blipFill>
            <a:blip r:embed="rId38"/>
            <a:stretch/>
          </p:blipFill>
          <p:spPr>
            <a:xfrm>
              <a:off x="6380280" y="5019840"/>
              <a:ext cx="281160" cy="442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3" name="Group 110"/>
          <p:cNvGrpSpPr/>
          <p:nvPr/>
        </p:nvGrpSpPr>
        <p:grpSpPr>
          <a:xfrm>
            <a:off x="684360" y="3699000"/>
            <a:ext cx="6084720" cy="1333440"/>
            <a:chOff x="684360" y="3699000"/>
            <a:chExt cx="6084720" cy="1333440"/>
          </a:xfrm>
        </p:grpSpPr>
        <p:sp>
          <p:nvSpPr>
            <p:cNvPr id="684" name="AutoShape 36"/>
            <p:cNvSpPr/>
            <p:nvPr/>
          </p:nvSpPr>
          <p:spPr>
            <a:xfrm>
              <a:off x="684360" y="3741840"/>
              <a:ext cx="6084720" cy="1290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008000">
                    <a:alpha val="15294"/>
                  </a:srgbClr>
                </a:gs>
                <a:gs pos="50000">
                  <a:srgbClr val="ccffcc">
                    <a:alpha val="15294"/>
                  </a:srgbClr>
                </a:gs>
                <a:gs pos="100000">
                  <a:srgbClr val="008000">
                    <a:alpha val="15294"/>
                  </a:srgbClr>
                </a:gs>
              </a:gsLst>
              <a:lin ang="0"/>
            </a:gra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5" name="AutoShape 37"/>
            <p:cNvSpPr/>
            <p:nvPr/>
          </p:nvSpPr>
          <p:spPr>
            <a:xfrm>
              <a:off x="684360" y="3741840"/>
              <a:ext cx="6084720" cy="287280"/>
            </a:xfrm>
            <a:prstGeom prst="roundRect">
              <a:avLst>
                <a:gd name="adj" fmla="val 939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6" name="Line 38"/>
            <p:cNvSpPr/>
            <p:nvPr/>
          </p:nvSpPr>
          <p:spPr>
            <a:xfrm>
              <a:off x="684360" y="4029120"/>
              <a:ext cx="6084720" cy="144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87" name="Text Box 39"/>
            <p:cNvSpPr/>
            <p:nvPr/>
          </p:nvSpPr>
          <p:spPr>
            <a:xfrm>
              <a:off x="706320" y="3699000"/>
              <a:ext cx="530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76889c"/>
                  </a:solidFill>
                  <a:latin typeface="Arial"/>
                </a:rPr>
                <a:t>Collection – Document Manager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grpSp>
          <p:nvGrpSpPr>
            <p:cNvPr id="688" name="Group 65"/>
            <p:cNvGrpSpPr/>
            <p:nvPr/>
          </p:nvGrpSpPr>
          <p:grpSpPr>
            <a:xfrm>
              <a:off x="3941640" y="4424400"/>
              <a:ext cx="2755440" cy="606240"/>
              <a:chOff x="3941640" y="4424400"/>
              <a:chExt cx="2755440" cy="606240"/>
            </a:xfrm>
          </p:grpSpPr>
          <p:sp>
            <p:nvSpPr>
              <p:cNvPr id="689" name="AutoShape 66"/>
              <p:cNvSpPr/>
              <p:nvPr/>
            </p:nvSpPr>
            <p:spPr>
              <a:xfrm>
                <a:off x="3941640" y="4424400"/>
                <a:ext cx="2754000" cy="606240"/>
              </a:xfrm>
              <a:prstGeom prst="roundRect">
                <a:avLst>
                  <a:gd name="adj" fmla="val 7144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690" name="AutoShape 67"/>
              <p:cNvSpPr/>
              <p:nvPr/>
            </p:nvSpPr>
            <p:spPr>
              <a:xfrm>
                <a:off x="3941640" y="4425840"/>
                <a:ext cx="2755440" cy="604800"/>
              </a:xfrm>
              <a:prstGeom prst="roundRect">
                <a:avLst>
                  <a:gd name="adj" fmla="val 5801"/>
                </a:avLst>
              </a:prstGeom>
              <a:gradFill rotWithShape="0">
                <a:gsLst>
                  <a:gs pos="0">
                    <a:srgbClr val="ffcc99">
                      <a:alpha val="60392"/>
                    </a:srgbClr>
                  </a:gs>
                  <a:gs pos="100000">
                    <a:srgbClr val="ffe5cb">
                      <a:alpha val="60392"/>
                    </a:srgbClr>
                  </a:gs>
                </a:gsLst>
                <a:lin ang="5400000"/>
              </a:gradFill>
              <a:ln w="6480">
                <a:solidFill>
                  <a:srgbClr val="9492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76889c"/>
                    </a:solidFill>
                    <a:latin typeface="Arial"/>
                  </a:rPr>
                  <a:t>Storage Format Abstraction Layer</a:t>
                </a:r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sp>
          <p:nvSpPr>
            <p:cNvPr id="691" name="AutoShape 107"/>
            <p:cNvSpPr/>
            <p:nvPr/>
          </p:nvSpPr>
          <p:spPr>
            <a:xfrm>
              <a:off x="1056960" y="4157640"/>
              <a:ext cx="1712520" cy="868320"/>
            </a:xfrm>
            <a:prstGeom prst="flowChartAlternateProcess">
              <a:avLst/>
            </a:prstGeom>
            <a:gradFill rotWithShape="0">
              <a:gsLst>
                <a:gs pos="0">
                  <a:srgbClr val="cfdfff"/>
                </a:gs>
                <a:gs pos="50000">
                  <a:srgbClr val="a1c0ff"/>
                </a:gs>
                <a:gs pos="100000">
                  <a:srgbClr val="cfd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3399"/>
                  </a:solidFill>
                  <a:latin typeface="Arial"/>
                </a:rPr>
                <a:t>C++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2" name="AutoShape 108"/>
            <p:cNvSpPr/>
            <p:nvPr/>
          </p:nvSpPr>
          <p:spPr>
            <a:xfrm>
              <a:off x="1258560" y="4540320"/>
              <a:ext cx="1290240" cy="40932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000" spc="-1" strike="noStrike">
                  <a:solidFill>
                    <a:srgbClr val="000080"/>
                  </a:solidFill>
                  <a:latin typeface="Arial"/>
                </a:rPr>
                <a:t>C API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693" name="AutoShape 109"/>
            <p:cNvSpPr/>
            <p:nvPr/>
          </p:nvSpPr>
          <p:spPr>
            <a:xfrm>
              <a:off x="2373120" y="4613400"/>
              <a:ext cx="1726920" cy="233280"/>
            </a:xfrm>
            <a:prstGeom prst="leftRightArrow">
              <a:avLst>
                <a:gd name="adj1" fmla="val 50000"/>
                <a:gd name="adj2" fmla="val 147370"/>
              </a:avLst>
            </a:prstGeom>
            <a:gradFill rotWithShape="0">
              <a:gsLst>
                <a:gs pos="0">
                  <a:srgbClr val="ccffcc"/>
                </a:gs>
                <a:gs pos="50000">
                  <a:srgbClr val="00ff00"/>
                </a:gs>
                <a:gs pos="100000">
                  <a:srgbClr val="ccffcc"/>
                </a:gs>
              </a:gsLst>
              <a:lin ang="0"/>
            </a:gra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694" name="Slide Number Placeholder 107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6ED8-0161-440D-A273-54EF4EBAAD8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5" name="Date Placeholder 10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96" name="Footer Placeholder 10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indefinite"/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indefinite"/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indefinite"/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indefinite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: plug-ins in many programming language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8" name="Group 14"/>
          <p:cNvGrpSpPr/>
          <p:nvPr/>
        </p:nvGrpSpPr>
        <p:grpSpPr>
          <a:xfrm>
            <a:off x="609480" y="1233360"/>
            <a:ext cx="7813440" cy="4969080"/>
            <a:chOff x="609480" y="1233360"/>
            <a:chExt cx="7813440" cy="4969080"/>
          </a:xfrm>
        </p:grpSpPr>
        <p:sp>
          <p:nvSpPr>
            <p:cNvPr id="699" name="AutoShape 15"/>
            <p:cNvSpPr/>
            <p:nvPr/>
          </p:nvSpPr>
          <p:spPr>
            <a:xfrm>
              <a:off x="609480" y="1233360"/>
              <a:ext cx="7813440" cy="4969080"/>
            </a:xfrm>
            <a:prstGeom prst="roundRect">
              <a:avLst>
                <a:gd name="adj" fmla="val 1755"/>
              </a:avLst>
            </a:prstGeom>
            <a:solidFill>
              <a:srgbClr val="ffffff"/>
            </a:solidFill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0" name="AutoShape 16"/>
            <p:cNvSpPr/>
            <p:nvPr/>
          </p:nvSpPr>
          <p:spPr>
            <a:xfrm>
              <a:off x="609480" y="1233360"/>
              <a:ext cx="7813440" cy="2876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e8e6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1" name="Line 17"/>
            <p:cNvSpPr/>
            <p:nvPr/>
          </p:nvSpPr>
          <p:spPr>
            <a:xfrm>
              <a:off x="609480" y="1521000"/>
              <a:ext cx="7813440" cy="0"/>
            </a:xfrm>
            <a:prstGeom prst="line">
              <a:avLst/>
            </a:prstGeom>
            <a:ln w="6480">
              <a:solidFill>
                <a:srgbClr val="9492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2" name="Group 13"/>
          <p:cNvGrpSpPr/>
          <p:nvPr/>
        </p:nvGrpSpPr>
        <p:grpSpPr>
          <a:xfrm>
            <a:off x="755640" y="1617840"/>
            <a:ext cx="3346200" cy="1019160"/>
            <a:chOff x="755640" y="1617840"/>
            <a:chExt cx="3346200" cy="1019160"/>
          </a:xfrm>
        </p:grpSpPr>
        <p:sp>
          <p:nvSpPr>
            <p:cNvPr id="703" name="AutoShape 7"/>
            <p:cNvSpPr/>
            <p:nvPr/>
          </p:nvSpPr>
          <p:spPr>
            <a:xfrm>
              <a:off x="755640" y="1665360"/>
              <a:ext cx="3346200" cy="957240"/>
            </a:xfrm>
            <a:prstGeom prst="roundRect">
              <a:avLst>
                <a:gd name="adj" fmla="val 10269"/>
              </a:avLst>
            </a:prstGeom>
            <a:gradFill rotWithShape="0">
              <a:gsLst>
                <a:gs pos="0">
                  <a:srgbClr val="d7f5ff"/>
                </a:gs>
                <a:gs pos="100000">
                  <a:srgbClr val="ffffff"/>
                </a:gs>
              </a:gsLst>
              <a:lin ang="0"/>
            </a:gradFill>
            <a:ln w="648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04" name="Text Box 8"/>
            <p:cNvSpPr/>
            <p:nvPr/>
          </p:nvSpPr>
          <p:spPr>
            <a:xfrm>
              <a:off x="1657440" y="1737000"/>
              <a:ext cx="2444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99cc"/>
                  </a:solidFill>
                  <a:latin typeface="Arial"/>
                </a:rPr>
                <a:t>Ellogon</a:t>
              </a:r>
              <a:endParaRPr b="0" lang="en-US" sz="44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pic>
          <p:nvPicPr>
            <p:cNvPr id="705" name="Picture 11" descr="execBlueAdaptiveContrast"/>
            <p:cNvPicPr/>
            <p:nvPr/>
          </p:nvPicPr>
          <p:blipFill>
            <a:blip r:embed="rId1"/>
            <a:stretch/>
          </p:blipFill>
          <p:spPr>
            <a:xfrm>
              <a:off x="755640" y="1617840"/>
              <a:ext cx="1019160" cy="101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6" name="Group 31"/>
          <p:cNvGrpSpPr/>
          <p:nvPr/>
        </p:nvGrpSpPr>
        <p:grpSpPr>
          <a:xfrm>
            <a:off x="3849840" y="2884320"/>
            <a:ext cx="3601440" cy="650880"/>
            <a:chOff x="3849840" y="2884320"/>
            <a:chExt cx="3601440" cy="650880"/>
          </a:xfrm>
        </p:grpSpPr>
        <p:pic>
          <p:nvPicPr>
            <p:cNvPr id="707" name="Picture 20" descr="execGreen"/>
            <p:cNvPicPr/>
            <p:nvPr/>
          </p:nvPicPr>
          <p:blipFill>
            <a:blip r:embed="rId2"/>
            <a:stretch/>
          </p:blipFill>
          <p:spPr>
            <a:xfrm>
              <a:off x="3849840" y="288432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Text Box 21"/>
            <p:cNvSpPr/>
            <p:nvPr/>
          </p:nvSpPr>
          <p:spPr>
            <a:xfrm>
              <a:off x="4429080" y="2960640"/>
              <a:ext cx="302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33cc33"/>
                  </a:solidFill>
                  <a:latin typeface="Verdana"/>
                </a:rPr>
                <a:t>C/C++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09" name="Group 32"/>
          <p:cNvGrpSpPr/>
          <p:nvPr/>
        </p:nvGrpSpPr>
        <p:grpSpPr>
          <a:xfrm>
            <a:off x="3849840" y="3465360"/>
            <a:ext cx="3130560" cy="650880"/>
            <a:chOff x="3849840" y="3465360"/>
            <a:chExt cx="3130560" cy="650880"/>
          </a:xfrm>
        </p:grpSpPr>
        <p:pic>
          <p:nvPicPr>
            <p:cNvPr id="710" name="Picture 19" descr="execRed"/>
            <p:cNvPicPr/>
            <p:nvPr/>
          </p:nvPicPr>
          <p:blipFill>
            <a:blip r:embed="rId3"/>
            <a:stretch/>
          </p:blipFill>
          <p:spPr>
            <a:xfrm>
              <a:off x="3849840" y="346536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Text Box 22"/>
            <p:cNvSpPr/>
            <p:nvPr/>
          </p:nvSpPr>
          <p:spPr>
            <a:xfrm>
              <a:off x="4429440" y="3537000"/>
              <a:ext cx="255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9900"/>
                  </a:solidFill>
                  <a:latin typeface="Verdana"/>
                </a:rPr>
                <a:t>Java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2" name="Group 33"/>
          <p:cNvGrpSpPr/>
          <p:nvPr/>
        </p:nvGrpSpPr>
        <p:grpSpPr>
          <a:xfrm>
            <a:off x="3849840" y="4041720"/>
            <a:ext cx="2917440" cy="655560"/>
            <a:chOff x="3849840" y="4041720"/>
            <a:chExt cx="2917440" cy="655560"/>
          </a:xfrm>
        </p:grpSpPr>
        <p:pic>
          <p:nvPicPr>
            <p:cNvPr id="713" name="Picture 23" descr="execOrange"/>
            <p:cNvPicPr/>
            <p:nvPr/>
          </p:nvPicPr>
          <p:blipFill>
            <a:blip r:embed="rId4"/>
            <a:stretch/>
          </p:blipFill>
          <p:spPr>
            <a:xfrm>
              <a:off x="3849840" y="4041720"/>
              <a:ext cx="65556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Text Box 24"/>
            <p:cNvSpPr/>
            <p:nvPr/>
          </p:nvSpPr>
          <p:spPr>
            <a:xfrm>
              <a:off x="4429080" y="4087800"/>
              <a:ext cx="23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cc00"/>
                  </a:solidFill>
                  <a:latin typeface="Verdana"/>
                </a:rPr>
                <a:t>Tc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5" name="Group 34"/>
          <p:cNvGrpSpPr/>
          <p:nvPr/>
        </p:nvGrpSpPr>
        <p:grpSpPr>
          <a:xfrm>
            <a:off x="3849840" y="4616280"/>
            <a:ext cx="3130560" cy="650880"/>
            <a:chOff x="3849840" y="4616280"/>
            <a:chExt cx="3130560" cy="650880"/>
          </a:xfrm>
        </p:grpSpPr>
        <p:pic>
          <p:nvPicPr>
            <p:cNvPr id="716" name="Picture 25" descr="execDeepBlue"/>
            <p:cNvPicPr/>
            <p:nvPr/>
          </p:nvPicPr>
          <p:blipFill>
            <a:blip r:embed="rId5"/>
            <a:stretch/>
          </p:blipFill>
          <p:spPr>
            <a:xfrm>
              <a:off x="3849840" y="4616280"/>
              <a:ext cx="65088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Text Box 27"/>
            <p:cNvSpPr/>
            <p:nvPr/>
          </p:nvSpPr>
          <p:spPr>
            <a:xfrm>
              <a:off x="4428000" y="4689360"/>
              <a:ext cx="25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33cc"/>
                  </a:solidFill>
                  <a:latin typeface="Verdana"/>
                </a:rPr>
                <a:t>Perl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18" name="Group 35"/>
          <p:cNvGrpSpPr/>
          <p:nvPr/>
        </p:nvGrpSpPr>
        <p:grpSpPr>
          <a:xfrm>
            <a:off x="3849840" y="5191200"/>
            <a:ext cx="3528360" cy="650880"/>
            <a:chOff x="3849840" y="5191200"/>
            <a:chExt cx="3528360" cy="650880"/>
          </a:xfrm>
        </p:grpSpPr>
        <p:pic>
          <p:nvPicPr>
            <p:cNvPr id="719" name="Picture 28" descr="execMustard"/>
            <p:cNvPicPr/>
            <p:nvPr/>
          </p:nvPicPr>
          <p:blipFill>
            <a:blip r:embed="rId6"/>
            <a:stretch/>
          </p:blipFill>
          <p:spPr>
            <a:xfrm>
              <a:off x="3849840" y="5191200"/>
              <a:ext cx="65052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Text Box 30"/>
            <p:cNvSpPr/>
            <p:nvPr/>
          </p:nvSpPr>
          <p:spPr>
            <a:xfrm>
              <a:off x="4427640" y="5276880"/>
              <a:ext cx="295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cc00"/>
                  </a:solidFill>
                  <a:latin typeface="Verdana"/>
                </a:rPr>
                <a:t>Python Components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grpSp>
        <p:nvGrpSpPr>
          <p:cNvPr id="721" name="Group 41"/>
          <p:cNvGrpSpPr/>
          <p:nvPr/>
        </p:nvGrpSpPr>
        <p:grpSpPr>
          <a:xfrm>
            <a:off x="1071720" y="2622240"/>
            <a:ext cx="368280" cy="3219480"/>
            <a:chOff x="1071720" y="2622240"/>
            <a:chExt cx="368280" cy="3219480"/>
          </a:xfrm>
        </p:grpSpPr>
        <p:sp>
          <p:nvSpPr>
            <p:cNvPr id="722" name="AutoShape 42"/>
            <p:cNvSpPr/>
            <p:nvPr/>
          </p:nvSpPr>
          <p:spPr>
            <a:xfrm rot="16200000">
              <a:off x="-362520" y="4070160"/>
              <a:ext cx="3205800" cy="3366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23" name="Text Box 43"/>
            <p:cNvSpPr/>
            <p:nvPr/>
          </p:nvSpPr>
          <p:spPr>
            <a:xfrm rot="16200000">
              <a:off x="-353520" y="404784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66cc"/>
                  </a:solidFill>
                  <a:latin typeface="Arial"/>
                </a:rPr>
                <a:t>CDM API</a:t>
              </a:r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24" name="Line 44"/>
          <p:cNvSpPr/>
          <p:nvPr/>
        </p:nvSpPr>
        <p:spPr>
          <a:xfrm>
            <a:off x="1440000" y="317664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5" name="Line 45"/>
          <p:cNvSpPr/>
          <p:nvPr/>
        </p:nvSpPr>
        <p:spPr>
          <a:xfrm>
            <a:off x="144000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6" name="Line 46"/>
          <p:cNvSpPr/>
          <p:nvPr/>
        </p:nvSpPr>
        <p:spPr>
          <a:xfrm>
            <a:off x="144000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7" name="Line 47"/>
          <p:cNvSpPr/>
          <p:nvPr/>
        </p:nvSpPr>
        <p:spPr>
          <a:xfrm>
            <a:off x="1440000" y="490536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8" name="Line 48"/>
          <p:cNvSpPr/>
          <p:nvPr/>
        </p:nvSpPr>
        <p:spPr>
          <a:xfrm>
            <a:off x="1440000" y="548172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29" name="Group 2195"/>
          <p:cNvGrpSpPr/>
          <p:nvPr/>
        </p:nvGrpSpPr>
        <p:grpSpPr>
          <a:xfrm>
            <a:off x="1722600" y="3514680"/>
            <a:ext cx="1949400" cy="490320"/>
            <a:chOff x="1722600" y="3514680"/>
            <a:chExt cx="1949400" cy="490320"/>
          </a:xfrm>
        </p:grpSpPr>
        <p:grpSp>
          <p:nvGrpSpPr>
            <p:cNvPr id="730" name="Group 2166"/>
            <p:cNvGrpSpPr/>
            <p:nvPr/>
          </p:nvGrpSpPr>
          <p:grpSpPr>
            <a:xfrm>
              <a:off x="1722600" y="3514680"/>
              <a:ext cx="1949400" cy="490320"/>
              <a:chOff x="1722600" y="3514680"/>
              <a:chExt cx="1949400" cy="490320"/>
            </a:xfrm>
          </p:grpSpPr>
          <p:sp>
            <p:nvSpPr>
              <p:cNvPr id="731" name="AutoShape 2167"/>
              <p:cNvSpPr/>
              <p:nvPr/>
            </p:nvSpPr>
            <p:spPr>
              <a:xfrm>
                <a:off x="1722600" y="3514680"/>
                <a:ext cx="1941120" cy="44784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32" name="Text Box 2168"/>
              <p:cNvSpPr/>
              <p:nvPr/>
            </p:nvSpPr>
            <p:spPr>
              <a:xfrm>
                <a:off x="1722600" y="3514680"/>
                <a:ext cx="1949400" cy="49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9900"/>
                    </a:solidFill>
                    <a:latin typeface="Arial"/>
                  </a:rPr>
                  <a:t>Java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33" name="Picture 49" descr="JavaModule"/>
            <p:cNvPicPr/>
            <p:nvPr/>
          </p:nvPicPr>
          <p:blipFill>
            <a:blip r:embed="rId7"/>
            <a:stretch/>
          </p:blipFill>
          <p:spPr>
            <a:xfrm>
              <a:off x="1806480" y="3560760"/>
              <a:ext cx="38880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4" name="Line 2170"/>
          <p:cNvSpPr/>
          <p:nvPr/>
        </p:nvSpPr>
        <p:spPr>
          <a:xfrm>
            <a:off x="3692520" y="3753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35" name="Line 2176"/>
          <p:cNvSpPr/>
          <p:nvPr/>
        </p:nvSpPr>
        <p:spPr>
          <a:xfrm>
            <a:off x="3692520" y="4329000"/>
            <a:ext cx="19512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36" name="Group 2178"/>
          <p:cNvGrpSpPr/>
          <p:nvPr/>
        </p:nvGrpSpPr>
        <p:grpSpPr>
          <a:xfrm>
            <a:off x="1727280" y="4667400"/>
            <a:ext cx="1949400" cy="490320"/>
            <a:chOff x="1727280" y="4667400"/>
            <a:chExt cx="1949400" cy="490320"/>
          </a:xfrm>
        </p:grpSpPr>
        <p:sp>
          <p:nvSpPr>
            <p:cNvPr id="737" name="AutoShape 2179"/>
            <p:cNvSpPr/>
            <p:nvPr/>
          </p:nvSpPr>
          <p:spPr>
            <a:xfrm>
              <a:off x="1727280" y="466740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38" name="Text Box 2180"/>
            <p:cNvSpPr/>
            <p:nvPr/>
          </p:nvSpPr>
          <p:spPr>
            <a:xfrm>
              <a:off x="1727280" y="466740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Perl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39" name="Line 2182"/>
          <p:cNvSpPr/>
          <p:nvPr/>
        </p:nvSpPr>
        <p:spPr>
          <a:xfrm>
            <a:off x="3697200" y="490536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0" name="Group 2184"/>
          <p:cNvGrpSpPr/>
          <p:nvPr/>
        </p:nvGrpSpPr>
        <p:grpSpPr>
          <a:xfrm>
            <a:off x="1727280" y="5243400"/>
            <a:ext cx="1949400" cy="490680"/>
            <a:chOff x="1727280" y="5243400"/>
            <a:chExt cx="1949400" cy="490680"/>
          </a:xfrm>
        </p:grpSpPr>
        <p:sp>
          <p:nvSpPr>
            <p:cNvPr id="741" name="AutoShape 2185"/>
            <p:cNvSpPr/>
            <p:nvPr/>
          </p:nvSpPr>
          <p:spPr>
            <a:xfrm>
              <a:off x="1727280" y="5243400"/>
              <a:ext cx="1941120" cy="44820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2" name="Text Box 2186"/>
            <p:cNvSpPr/>
            <p:nvPr/>
          </p:nvSpPr>
          <p:spPr>
            <a:xfrm>
              <a:off x="1727280" y="5243400"/>
              <a:ext cx="194940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cc00"/>
                  </a:solidFill>
                  <a:latin typeface="Arial"/>
                </a:rPr>
                <a:t>Python VM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3" name="Line 2188"/>
          <p:cNvSpPr/>
          <p:nvPr/>
        </p:nvSpPr>
        <p:spPr>
          <a:xfrm>
            <a:off x="3697200" y="548172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4" name="Group 2190"/>
          <p:cNvGrpSpPr/>
          <p:nvPr/>
        </p:nvGrpSpPr>
        <p:grpSpPr>
          <a:xfrm>
            <a:off x="1727280" y="2924280"/>
            <a:ext cx="1949400" cy="490320"/>
            <a:chOff x="1727280" y="2924280"/>
            <a:chExt cx="1949400" cy="490320"/>
          </a:xfrm>
        </p:grpSpPr>
        <p:sp>
          <p:nvSpPr>
            <p:cNvPr id="745" name="AutoShape 2191"/>
            <p:cNvSpPr/>
            <p:nvPr/>
          </p:nvSpPr>
          <p:spPr>
            <a:xfrm>
              <a:off x="1727280" y="2924280"/>
              <a:ext cx="1941120" cy="447840"/>
            </a:xfrm>
            <a:prstGeom prst="roundRect">
              <a:avLst>
                <a:gd name="adj" fmla="val 1755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8e6e9"/>
                </a:gs>
              </a:gsLst>
              <a:lin ang="10800000"/>
            </a:gradFill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99"/>
                </a:solidFill>
                <a:latin typeface="Verdana"/>
              </a:endParaRPr>
            </a:p>
          </p:txBody>
        </p:sp>
        <p:sp>
          <p:nvSpPr>
            <p:cNvPr id="746" name="Text Box 2192"/>
            <p:cNvSpPr/>
            <p:nvPr/>
          </p:nvSpPr>
          <p:spPr>
            <a:xfrm>
              <a:off x="1727280" y="2924280"/>
              <a:ext cx="1949400" cy="49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000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cc33"/>
                  </a:solidFill>
                  <a:latin typeface="Arial"/>
                </a:rPr>
                <a:t>Direct Link</a:t>
              </a:r>
              <a:endParaRPr b="0" lang="en-US" sz="2000" spc="-1" strike="noStrike">
                <a:solidFill>
                  <a:srgbClr val="000099"/>
                </a:solidFill>
                <a:latin typeface="Verdana"/>
              </a:endParaRPr>
            </a:p>
          </p:txBody>
        </p:sp>
      </p:grpSp>
      <p:sp>
        <p:nvSpPr>
          <p:cNvPr id="747" name="Line 2194"/>
          <p:cNvSpPr/>
          <p:nvPr/>
        </p:nvSpPr>
        <p:spPr>
          <a:xfrm>
            <a:off x="3697200" y="3162240"/>
            <a:ext cx="195480" cy="0"/>
          </a:xfrm>
          <a:prstGeom prst="line">
            <a:avLst/>
          </a:prstGeom>
          <a:ln w="7632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748" name="Group 2198"/>
          <p:cNvGrpSpPr/>
          <p:nvPr/>
        </p:nvGrpSpPr>
        <p:grpSpPr>
          <a:xfrm>
            <a:off x="1722600" y="4091040"/>
            <a:ext cx="1949400" cy="489960"/>
            <a:chOff x="1722600" y="4091040"/>
            <a:chExt cx="1949400" cy="489960"/>
          </a:xfrm>
        </p:grpSpPr>
        <p:grpSp>
          <p:nvGrpSpPr>
            <p:cNvPr id="749" name="Group 2172"/>
            <p:cNvGrpSpPr/>
            <p:nvPr/>
          </p:nvGrpSpPr>
          <p:grpSpPr>
            <a:xfrm>
              <a:off x="1722600" y="4091040"/>
              <a:ext cx="1949400" cy="489960"/>
              <a:chOff x="1722600" y="4091040"/>
              <a:chExt cx="1949400" cy="489960"/>
            </a:xfrm>
          </p:grpSpPr>
          <p:sp>
            <p:nvSpPr>
              <p:cNvPr id="750" name="AutoShape 2173"/>
              <p:cNvSpPr/>
              <p:nvPr/>
            </p:nvSpPr>
            <p:spPr>
              <a:xfrm>
                <a:off x="1722600" y="4091040"/>
                <a:ext cx="1941120" cy="447480"/>
              </a:xfrm>
              <a:prstGeom prst="roundRect">
                <a:avLst>
                  <a:gd name="adj" fmla="val 1755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8e6e9"/>
                  </a:gs>
                </a:gsLst>
                <a:lin ang="10800000"/>
              </a:gradFill>
              <a:ln w="1260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  <p:sp>
            <p:nvSpPr>
              <p:cNvPr id="751" name="Text Box 2174"/>
              <p:cNvSpPr/>
              <p:nvPr/>
            </p:nvSpPr>
            <p:spPr>
              <a:xfrm>
                <a:off x="1722600" y="4091040"/>
                <a:ext cx="194940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000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cc00"/>
                    </a:solidFill>
                    <a:latin typeface="Arial"/>
                  </a:rPr>
                  <a:t>Tcl VM</a:t>
                </a:r>
                <a:endParaRPr b="0" lang="en-US" sz="2000" spc="-1" strike="noStrike">
                  <a:solidFill>
                    <a:srgbClr val="000099"/>
                  </a:solidFill>
                  <a:latin typeface="Verdana"/>
                </a:endParaRPr>
              </a:p>
            </p:txBody>
          </p:sp>
        </p:grpSp>
        <p:pic>
          <p:nvPicPr>
            <p:cNvPr id="752" name="Picture 2196" descr="New Image"/>
            <p:cNvPicPr/>
            <p:nvPr/>
          </p:nvPicPr>
          <p:blipFill>
            <a:blip r:embed="rId8"/>
            <a:stretch/>
          </p:blipFill>
          <p:spPr>
            <a:xfrm>
              <a:off x="1824120" y="4176720"/>
              <a:ext cx="334440" cy="335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Slide Number Placeholder 5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5692-15FF-4AE1-98B7-0DCC4645D0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4" name="Date Placeholder 59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5" name="Footer Placeholder 60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6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E815-5E53-44F5-9315-F624B32359F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7" name="Date Placeholder 8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08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roadmap for Ellogon 2.0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goals for Ellogon 2.0 are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’s core thread safe (done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ke Ellogon multi-threaded (feasible?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Ellogon &amp; the Tcl thread model can cooperat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odernise GUI (using OO and ttk widgets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~30% complet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itially written in iTcl, now ported to TclO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cludes a complete rewrite of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notation Tool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of Ellog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2A01E-FDC9-4B78-BAB1-90E2794A64B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on Tools: polymorphism required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notation tools is a very demanding are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lot of tasks that need annotated corpor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task, may have its own annotation sche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group, may pose different requirements for the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first generation of tools was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ded in plain Tcl/Tk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ifficult to adapt/ext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C4F8-FFE9-4F0A-83BA-2BCF56A5DDA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67" name="Picture 5" descr="EditAnnotationTools-TokenPosAttribute"/>
          <p:cNvPicPr/>
          <p:nvPr/>
        </p:nvPicPr>
        <p:blipFill>
          <a:blip r:embed="rId1"/>
          <a:stretch/>
        </p:blipFill>
        <p:spPr>
          <a:xfrm>
            <a:off x="674640" y="1125360"/>
            <a:ext cx="7794720" cy="5194440"/>
          </a:xfrm>
          <a:prstGeom prst="rect">
            <a:avLst/>
          </a:prstGeom>
          <a:ln w="0">
            <a:noFill/>
          </a:ln>
        </p:spPr>
      </p:pic>
      <p:sp>
        <p:nvSpPr>
          <p:cNvPr id="76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F9A5-E7FB-461D-B8E4-3C50049FEBDD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6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2" name="Picture 8" descr="EllogonEditAnnotationsOnHTML1"/>
          <p:cNvPicPr/>
          <p:nvPr/>
        </p:nvPicPr>
        <p:blipFill>
          <a:blip r:embed="rId1"/>
          <a:stretch/>
        </p:blipFill>
        <p:spPr>
          <a:xfrm>
            <a:off x="1339920" y="1197000"/>
            <a:ext cx="6464160" cy="5040360"/>
          </a:xfrm>
          <a:prstGeom prst="rect">
            <a:avLst/>
          </a:prstGeom>
          <a:ln w="0">
            <a:noFill/>
          </a:ln>
        </p:spPr>
      </p:pic>
      <p:sp>
        <p:nvSpPr>
          <p:cNvPr id="773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5893-AA3C-4A40-AE16-A451CE81178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5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rst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77" name="Picture 6" descr="EditingHierarchies"/>
          <p:cNvPicPr/>
          <p:nvPr/>
        </p:nvPicPr>
        <p:blipFill>
          <a:blip r:embed="rId1"/>
          <a:stretch/>
        </p:blipFill>
        <p:spPr>
          <a:xfrm>
            <a:off x="620640" y="1197000"/>
            <a:ext cx="7902720" cy="5040360"/>
          </a:xfrm>
          <a:prstGeom prst="rect">
            <a:avLst/>
          </a:prstGeom>
          <a:ln w="0">
            <a:noFill/>
          </a:ln>
        </p:spPr>
      </p:pic>
      <p:sp>
        <p:nvSpPr>
          <p:cNvPr id="77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38BC-C76F-454D-8CDF-0577FA3265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7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2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8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C3BA-1A98-44CD-83AE-71C0AAA049C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87" name="Picture 2" descr="C:\Users\George\Pictures\ZScreen Images\Text_Visual_Annotation_Editor...-20100728161851.png"/>
          <p:cNvPicPr/>
          <p:nvPr/>
        </p:nvPicPr>
        <p:blipFill>
          <a:blip r:embed="rId1"/>
          <a:stretch/>
        </p:blipFill>
        <p:spPr>
          <a:xfrm>
            <a:off x="14760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8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27C0-477A-434C-9ADA-AC46E782C4C7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8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3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2" name="Picture 2" descr="C:\Users\George\Pictures\ZScreen Images\Text_Visual_Annotation_Editor...-20100728161803.png"/>
          <p:cNvPicPr/>
          <p:nvPr/>
        </p:nvPicPr>
        <p:blipFill>
          <a:blip r:embed="rId1"/>
          <a:stretch/>
        </p:blipFill>
        <p:spPr>
          <a:xfrm>
            <a:off x="146160" y="1295280"/>
            <a:ext cx="8850240" cy="4800600"/>
          </a:xfrm>
          <a:prstGeom prst="rect">
            <a:avLst/>
          </a:prstGeom>
          <a:ln w="0">
            <a:noFill/>
          </a:ln>
        </p:spPr>
      </p:pic>
      <p:sp>
        <p:nvSpPr>
          <p:cNvPr id="793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1D18-FFF5-4791-9C4C-BD94D1B8665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4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4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797" name="Picture 2" descr="C:\Users\George\Pictures\ZScreen Images\Text_Visual_Annotation_Editor...-20100728161833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4A49-C405-4CF6-8DCD-BD734D60926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5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B7AD-4D30-40DE-A168-A150CBDEB62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05" name="Picture 2" descr="C:\Users\George\Pictures\ZScreen Images\Text_Visual_Annotation_Editor_with_Annotation-based_text_selection...-20100728162045.png"/>
          <p:cNvPicPr/>
          <p:nvPr/>
        </p:nvPicPr>
        <p:blipFill>
          <a:blip r:embed="rId1"/>
          <a:stretch/>
        </p:blipFill>
        <p:spPr>
          <a:xfrm>
            <a:off x="1031760" y="1066680"/>
            <a:ext cx="70804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ssume an application that uses Itc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hat happens if it is run under ActiveTcl 8.6 beta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11" name="Picture 2" descr="C:\Users\George\Pictures\Itcl-Crash.png"/>
          <p:cNvPicPr/>
          <p:nvPr/>
        </p:nvPicPr>
        <p:blipFill>
          <a:blip r:embed="rId1"/>
          <a:stretch/>
        </p:blipFill>
        <p:spPr>
          <a:xfrm>
            <a:off x="1752480" y="2209680"/>
            <a:ext cx="6324840" cy="4006800"/>
          </a:xfrm>
          <a:prstGeom prst="rect">
            <a:avLst/>
          </a:prstGeom>
          <a:ln w="0">
            <a:noFill/>
          </a:ln>
        </p:spPr>
      </p:pic>
      <p:sp>
        <p:nvSpPr>
          <p:cNvPr id="512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02D6-E1CB-43DF-BDF4-F15E513159B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3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4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6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07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0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38D0-0332-479A-AFC7-83CE5A7B39C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0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7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C112-0E9A-4CEE-A593-E9C9F7E74B7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15" name="Picture 2" descr="C:\Users\George\Pictures\ZScreen Images\Text_Visual_Annotation_Editor...-2010072816194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8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39BB-E0C8-424F-A9F8-80A71E93B40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1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0" name="Picture 2" descr="C:\Users\George\Pictures\ZScreen Images\Text_Visual_Annotation_Editor...-20100728161951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9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A1C4-BCDB-4201-BB56-979B5658975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25" name="Picture 2" descr="C:\Users\George\Pictures\ZScreen Images\Text_Visual_Annotation_Editor...-20100728161957.png"/>
          <p:cNvPicPr/>
          <p:nvPr/>
        </p:nvPicPr>
        <p:blipFill>
          <a:blip r:embed="rId1"/>
          <a:stretch/>
        </p:blipFill>
        <p:spPr>
          <a:xfrm>
            <a:off x="957240" y="995400"/>
            <a:ext cx="722952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generation tools (10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27" name="Picture 2" descr="C:\Users\George\Pictures\ZScreen Images\Aligned_Text_Visual_Annotation_Editor...-20100728164754.png"/>
          <p:cNvPicPr/>
          <p:nvPr/>
        </p:nvPicPr>
        <p:blipFill>
          <a:blip r:embed="rId1"/>
          <a:stretch/>
        </p:blipFill>
        <p:spPr>
          <a:xfrm>
            <a:off x="117360" y="1219320"/>
            <a:ext cx="8909280" cy="4962240"/>
          </a:xfrm>
          <a:prstGeom prst="rect">
            <a:avLst/>
          </a:prstGeom>
          <a:ln w="0">
            <a:noFill/>
          </a:ln>
        </p:spPr>
      </p:pic>
      <p:sp>
        <p:nvSpPr>
          <p:cNvPr id="82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3CE7-AE6B-4BB0-B7C5-3D7FD96884C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2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32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33" name="TextBox 4"/>
          <p:cNvSpPr/>
          <p:nvPr/>
        </p:nvSpPr>
        <p:spPr>
          <a:xfrm>
            <a:off x="3257640" y="12304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4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5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6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37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38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39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0" name="Slide Number Placeholder 12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4B077-2CEE-4458-99CF-81EFCFE353A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1" name="Date Placeholder 11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2" name="Footer Placeholder 13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asses Decompositi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844" name="Picture 2" descr="C:\Users\George\Pictures\ZScreen Images\Text_Visual_Annotation_Editor_with_Events...-20100728162221.png"/>
          <p:cNvPicPr/>
          <p:nvPr/>
        </p:nvPicPr>
        <p:blipFill>
          <a:blip r:embed="rId1"/>
          <a:stretch/>
        </p:blipFill>
        <p:spPr>
          <a:xfrm>
            <a:off x="1031760" y="1143000"/>
            <a:ext cx="7080480" cy="5113440"/>
          </a:xfrm>
          <a:prstGeom prst="rect">
            <a:avLst/>
          </a:prstGeom>
          <a:ln w="0">
            <a:noFill/>
          </a:ln>
        </p:spPr>
      </p:pic>
      <p:sp>
        <p:nvSpPr>
          <p:cNvPr id="845" name="TextBox 4"/>
          <p:cNvSpPr/>
          <p:nvPr/>
        </p:nvSpPr>
        <p:spPr>
          <a:xfrm>
            <a:off x="3257640" y="114300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oplevelWindow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6" name="TextBox 5"/>
          <p:cNvSpPr/>
          <p:nvPr/>
        </p:nvSpPr>
        <p:spPr>
          <a:xfrm>
            <a:off x="1143000" y="1828800"/>
            <a:ext cx="3352680" cy="4114800"/>
          </a:xfrm>
          <a:prstGeom prst="rect">
            <a:avLst/>
          </a:prstGeom>
          <a:solidFill>
            <a:srgbClr val="ff0000">
              <a:alpha val="10000"/>
            </a:srgbClr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TextWidgetDisplay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7" name="TextBox 6"/>
          <p:cNvSpPr/>
          <p:nvPr/>
        </p:nvSpPr>
        <p:spPr>
          <a:xfrm>
            <a:off x="4648320" y="3276720"/>
            <a:ext cx="3352680" cy="2590560"/>
          </a:xfrm>
          <a:prstGeom prst="rect">
            <a:avLst/>
          </a:prstGeom>
          <a:solidFill>
            <a:srgbClr val="008000">
              <a:alpha val="10000"/>
            </a:srgbClr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Verdana"/>
              </a:rPr>
              <a:t>ButtonAnnota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48" name="TextBox 7"/>
          <p:cNvSpPr/>
          <p:nvPr/>
        </p:nvSpPr>
        <p:spPr>
          <a:xfrm>
            <a:off x="1066680" y="1523880"/>
            <a:ext cx="4114800" cy="228600"/>
          </a:xfrm>
          <a:prstGeom prst="rect">
            <a:avLst/>
          </a:prstGeom>
          <a:solidFill>
            <a:srgbClr val="0070c0">
              <a:alpha val="10000"/>
            </a:srgbClr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</a:rPr>
              <a:t>DocumentSelecto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cxnSp>
        <p:nvCxnSpPr>
          <p:cNvPr id="849" name="Straight Arrow Connector 10"/>
          <p:cNvCxnSpPr/>
          <p:nvPr/>
        </p:nvCxnSpPr>
        <p:spPr>
          <a:xfrm flipV="1">
            <a:off x="4495320" y="1676160"/>
            <a:ext cx="1143720" cy="7624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50" name="Straight Arrow Connector 15"/>
          <p:cNvCxnSpPr/>
          <p:nvPr/>
        </p:nvCxnSpPr>
        <p:spPr>
          <a:xfrm flipV="1">
            <a:off x="5866200" y="1675800"/>
            <a:ext cx="686520" cy="14482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851" name="TextBox 8"/>
          <p:cNvSpPr/>
          <p:nvPr/>
        </p:nvSpPr>
        <p:spPr>
          <a:xfrm>
            <a:off x="4648320" y="1828800"/>
            <a:ext cx="3352680" cy="1143000"/>
          </a:xfrm>
          <a:prstGeom prst="rect">
            <a:avLst/>
          </a:prstGeom>
          <a:solidFill>
            <a:srgbClr val="ffc000">
              <a:alpha val="10000"/>
            </a:srgbClr>
          </a:solidFill>
          <a:ln w="28440">
            <a:solidFill>
              <a:srgbClr val="d5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55000"/>
                </a:solidFill>
                <a:latin typeface="Verdana"/>
              </a:rPr>
              <a:t>EventDefiner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52" name="Picture 2" descr="C:\Users\George\Pictures\ZScreen Images\TextAnnotatorWithEvents.tcl_D...lepELEPVisualAnnotators_-_GVIM2-20100728171340.png"/>
          <p:cNvPicPr/>
          <p:nvPr/>
        </p:nvPicPr>
        <p:blipFill>
          <a:blip r:embed="rId2"/>
          <a:stretch/>
        </p:blipFill>
        <p:spPr>
          <a:xfrm>
            <a:off x="1347840" y="1143000"/>
            <a:ext cx="6448320" cy="5143680"/>
          </a:xfrm>
          <a:prstGeom prst="rect">
            <a:avLst/>
          </a:prstGeom>
          <a:ln w="0">
            <a:noFill/>
          </a:ln>
        </p:spPr>
      </p:pic>
      <p:sp>
        <p:nvSpPr>
          <p:cNvPr id="853" name="Slide Number Placeholder 1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557C-9D5B-424E-95D0-6AD508268C4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4" name="Date Placeholder 1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5" name="Footer Placeholder 1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7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8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806D-0E87-4C50-902A-58E5D6A811BF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59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0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get/configur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dd cget/configure on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need for a complex implementation of configure/cge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 only use them to get/set variable value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Very easy to add new methods on all objects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verything is a child of oo::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imple implementati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oo::define oo::object method cget {name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set name [string range $name 1 end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y variable $name; return [set $name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get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3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DFC6-36FF-4C38-B7BF-2574FE43DA0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4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5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866" name="Picture 2" descr="C:\Users\George\Pictures\ZScreen Images\Utilities.tcl_DUserspeta...2.0libelepELEPBase_-_GVIM1-20101007182431.png"/>
          <p:cNvPicPr/>
          <p:nvPr/>
        </p:nvPicPr>
        <p:blipFill>
          <a:blip r:embed="rId1"/>
          <a:stretch/>
        </p:blipFill>
        <p:spPr>
          <a:xfrm>
            <a:off x="976320" y="1309680"/>
            <a:ext cx="719136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 has another trick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Procedure oo::define::&lt;name&gt; extends oo::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Implementing ::oo::define::common allows to use the keyword “common” during class crea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ommon {varname args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&gt;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 … 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Get the name of the current clas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 # Export method varnam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Initialise the variabl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  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ar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  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6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5396-DCAB-490F-82C3-DDF3B0CFEAC1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this happens as iTcl 3.4 is loaded in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compile Tcl from sources (CVS HEAD 27/Jul/10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cl now contains a new iTcl implementation (4.0b4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17" name="Picture 2" descr="C:\Users\George\Pictures\Editor-Itcl4-Main.png"/>
          <p:cNvPicPr/>
          <p:nvPr/>
        </p:nvPicPr>
        <p:blipFill>
          <a:blip r:embed="rId1"/>
          <a:stretch/>
        </p:blipFill>
        <p:spPr>
          <a:xfrm>
            <a:off x="990720" y="3352680"/>
            <a:ext cx="7562880" cy="11620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C:\Users\George\Pictures\Editor-Itcl4-Console.png"/>
          <p:cNvPicPr/>
          <p:nvPr/>
        </p:nvPicPr>
        <p:blipFill>
          <a:blip r:embed="rId2"/>
          <a:stretch/>
        </p:blipFill>
        <p:spPr>
          <a:xfrm>
            <a:off x="1550880" y="1219320"/>
            <a:ext cx="6602400" cy="5105160"/>
          </a:xfrm>
          <a:prstGeom prst="rect">
            <a:avLst/>
          </a:prstGeom>
          <a:ln w="0">
            <a:noFill/>
          </a:ln>
        </p:spPr>
      </p:pic>
      <p:sp>
        <p:nvSpPr>
          <p:cNvPr id="519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3896-A6CD-42A0-814B-33665A529E2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0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1" name="Footer Placeholder 8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ommon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 common also needs a method to be called from methods accessing common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oo::object method common {args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}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callclass 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[self caller] 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oo::defin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elf export var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forea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lappend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pairs [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callclas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varnam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vnam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pva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pair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commo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mmon and my cget/configur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do not mix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4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4372-8A1F-4D9B-A962-B846E32EE63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# Define "classmethod"...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pro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::oo::define::classmethod {name {args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body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"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} {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Code from: </a:t>
            </a:r>
            <a:r>
              <a:rPr b="0" lang="en-US" sz="1600" spc="-1" strike="noStrike" u="sng">
                <a:solidFill>
                  <a:srgbClr val="336699"/>
                </a:solidFill>
                <a:uFillTx/>
                <a:latin typeface="Courier New"/>
                <a:ea typeface="Calibri"/>
                <a:hlinkClick r:id="rId1"/>
              </a:rPr>
              <a:t>http://wiki.tcl.tk/21595#pagetoce30e53a1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argc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length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0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4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uplevel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s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self metho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bod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lseif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argc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==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3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-code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error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"..."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the name of the current class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cls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lindex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level -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 </a:t>
            </a:r>
            <a:r>
              <a:rPr b="0" lang="en-US" sz="1600" spc="-1" strike="noStrike">
                <a:solidFill>
                  <a:srgbClr val="ff00ff"/>
                </a:solidFill>
                <a:latin typeface="Courier New"/>
                <a:ea typeface="Calibri"/>
              </a:rPr>
              <a:t>1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Get its private "my" command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set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my [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info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object </a:t>
            </a:r>
            <a:r>
              <a:rPr b="1" lang="en-US" sz="1600" spc="-1" strike="noStrike">
                <a:solidFill>
                  <a:srgbClr val="804040"/>
                </a:solidFill>
                <a:latin typeface="Courier New"/>
                <a:ea typeface="Calibri"/>
              </a:rPr>
              <a:t>namespac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cls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]::my</a:t>
            </a:r>
            <a:br>
              <a:rPr sz="1600"/>
            </a:b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  # Make the connection by forwarding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 tailcall forward 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my</a:t>
            </a: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600" spc="-1" strike="noStrike">
                <a:solidFill>
                  <a:srgbClr val="008080"/>
                </a:solidFill>
                <a:latin typeface="Courier New"/>
                <a:ea typeface="Calibri"/>
              </a:rPr>
              <a:t>$name</a:t>
            </a:r>
            <a:br>
              <a:rPr sz="1600"/>
            </a:br>
            <a:r>
              <a:rPr b="0" lang="en-US" sz="16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600" spc="-1" strike="noStrike">
                <a:solidFill>
                  <a:srgbClr val="0000ff"/>
                </a:solidFill>
                <a:latin typeface="Courier New"/>
                <a:ea typeface="Calibri"/>
              </a:rPr>
              <a:t># ::oo::define::classmethod</a:t>
            </a:r>
            <a:endParaRPr b="0" lang="en-US" sz="1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8698-74D6-48C9-B9EF-E9877C7DAC4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TclOO classes: class method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about inherita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Base::Utilities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userAppDir   {} {...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oo::class create ELEP::System::System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superclass ELEP::Base::Utilities 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classmethod systemConfigurationDir {} {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  </a:t>
            </a:r>
            <a:r>
              <a:rPr b="1" lang="en-US" sz="20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[my userAppDir]/Systems/Config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  </a:t>
            </a:r>
            <a:r>
              <a:rPr b="0" lang="en-US" sz="20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alibri"/>
              </a:rPr>
              <a:t># systemConfigurationDi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unknown method "userAppDir"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4" name="Slide Number Placeholder 3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F7FFF-87DE-4A97-B54F-A9D01661EE32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5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6" name="Footer Placeholder 5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8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8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8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8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74F3-130C-4F0F-8064-EBF06260807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Ellogon, I don’t think in terms of Tk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fact, I totally ignore them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nly 3 classes available, which represent widge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oplevel, Dialog, Widget, Ribbon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097280" indent="-21924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RibbonToplevel has a Windows Ribbon instead of a menu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me common methods for all cla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Toplevel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getClientAre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utomatic variabl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n for toplevel/dialog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13160" indent="-27432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dget for widge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FC28-6BFA-400C-8B94-9486DE7DEE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idget classe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8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36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idgets are destroyed when objects are deleted, and vise vers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 a way similar to iTk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oplevel/Dialogs generate widgets based on the object nam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bjects of the Widget class need the widget type and nam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Widget ttk::button .button ?arg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9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54A31-A92E-4AF9-8F9E-6E85BE35032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llogon building block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any building blocks that inherit Widge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nly the Tk widget that will contain the block is required (the “parent”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ButtonAnnotator, 1-Click selector, TemplateFiller, TextViewer, HTMLViewer, AllignedTextViewer, etc.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generic class that represents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from Topleve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plits client area into two columns, separated by a ttk::panedwindow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l tools, subclass this class, add another layout if required, and create/place building block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B458-E311-4575-80D0-4FB8CC73018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09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DAC30-1302-4724-B345-EF6135B0841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0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reating an Annotation Too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Gluing building blocks is easy, but what about the user experienc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Lets see an example, by creating an Annotation tool that annotates a document with a semantic model (i.e. an ontology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For this task, the bits required are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annotate “properties” found in the tex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properties into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314360" indent="-457200">
              <a:spcBef>
                <a:spcPts val="499"/>
              </a:spcBef>
              <a:buClr>
                <a:srgbClr val="000099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An annotator to group objects into other object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4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EF19-D49E-4CF7-AABD-C37E1FD050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5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6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18" name="Picture 2" descr="C:\Users\George\Pictures\Ellogon-Annotator.png"/>
          <p:cNvPicPr/>
          <p:nvPr/>
        </p:nvPicPr>
        <p:blipFill>
          <a:blip r:embed="rId1"/>
          <a:stretch/>
        </p:blipFill>
        <p:spPr>
          <a:xfrm>
            <a:off x="147600" y="1295280"/>
            <a:ext cx="8848800" cy="4800600"/>
          </a:xfrm>
          <a:prstGeom prst="rect">
            <a:avLst/>
          </a:prstGeom>
          <a:ln w="0">
            <a:noFill/>
          </a:ln>
        </p:spPr>
      </p:pic>
      <p:sp>
        <p:nvSpPr>
          <p:cNvPr id="919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81F1-C294-4682-8EA2-36ACCDD80728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0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1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k, iTcl 4.0 has a problem with a variabl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ets “correct” thi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variable objectsTree {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method CreatePropertiesPage_Objects {} 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chai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$objectsTree configure -dropenabled 1 -dragenabled 1 \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-dropcmd "$this CreatePropertiesPage_Objects_DropEvent“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ourier New"/>
              </a:rPr>
              <a:t>};# CreatePropertiesPage_Objec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524" name="Picture 2" descr="C:\Users\George\Pictures\Editor-Itcl4-Console2.png"/>
          <p:cNvPicPr/>
          <p:nvPr/>
        </p:nvPicPr>
        <p:blipFill>
          <a:blip r:embed="rId1"/>
          <a:stretch/>
        </p:blipFill>
        <p:spPr>
          <a:xfrm>
            <a:off x="182520" y="2133720"/>
            <a:ext cx="8778960" cy="4114800"/>
          </a:xfrm>
          <a:prstGeom prst="rect">
            <a:avLst/>
          </a:prstGeom>
          <a:ln w="0">
            <a:noFill/>
          </a:ln>
        </p:spPr>
      </p:pic>
      <p:sp>
        <p:nvSpPr>
          <p:cNvPr id="52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8581-77CC-4179-974A-634D379C2590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6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Annotating properties: the button annotator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operates with a viewer (text, HTML, Aligned text, Aligned HTML) and allows the user to annotate the selected text with one or more properti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annotation schema is dynamic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createSpecificationSelectorObject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reates  an AnnotationSpecificationSelector object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Method show(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lls AnnotationSpecificationSelector.show() and waits for an answer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ous schemas are read from an XML file, and presented to the us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ton annotator adapts to the selected schema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24" name="Picture 2" descr="D:\Tcl\Select_Annotation_Characteristics...-20100731080951.png"/>
          <p:cNvPicPr/>
          <p:nvPr/>
        </p:nvPicPr>
        <p:blipFill>
          <a:blip r:embed="rId1"/>
          <a:stretch/>
        </p:blipFill>
        <p:spPr>
          <a:xfrm>
            <a:off x="2152800" y="1600200"/>
            <a:ext cx="4838400" cy="2400480"/>
          </a:xfrm>
          <a:prstGeom prst="rect">
            <a:avLst/>
          </a:prstGeom>
          <a:ln w="0">
            <a:noFill/>
          </a:ln>
        </p:spPr>
      </p:pic>
      <p:sp>
        <p:nvSpPr>
          <p:cNvPr id="925" name="Slide Number Placeholder 6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4B81-3CCC-468E-ADAA-DCD6FF485A3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27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Grouping properties/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emplateFiller annotator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gain presents a dynamic schema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Now method createSpecificationSelectorObject()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s  an AnnotationAndTemplateSpecificationSelector object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easy is to mix the two annotator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Easy, just create the two objects and place them on a single annotation tool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ny disadvantage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es. The user gets </a:t>
            </a:r>
            <a:r>
              <a:rPr b="0" lang="en-US" sz="2200" spc="-1" strike="noStrike" u="sng">
                <a:solidFill>
                  <a:srgbClr val="000099"/>
                </a:solidFill>
                <a:uFillTx/>
                <a:latin typeface="Verdana"/>
              </a:rPr>
              <a:t>two dialogs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for configuring a single tool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721C-C0BF-4D41-83AB-19B8CA887B1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9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9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9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9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e multiple dialog issu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How can this be re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new class must be created, which is the concatenation of the two configuration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two objects must somehow create and use the same configuration objec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5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9036-7A9E-4BC3-AF5A-1B67A82976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6" name="Date Placeholder 4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D18B-4DD3-46FB-9595-F81E27E02885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iTcl was very easy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Create a new class that inherits the two configuration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cl has the ability to call explicitly methods from the class hierarchy: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Method populateDialogFrame() just creates two ttk::labelframe and calls populateDialogFrame() of the two inherited classes with the proper parent frame.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 TclOO the task is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Verdana"/>
              </a:rPr>
              <a:t>far</a:t>
            </a: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 more complex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You cannot simply inherit both 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ABFA-B10F-4087-9F6C-A7CFEBB0910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atenating dialog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best alternativ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e a new class that behaves as both configuration selectors, and drives instances of the two selectors internall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methods of the two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new class must have all the public variables of both objects (so as cget/configure to work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CC19-B24A-48AD-93DF-0D9AE7F3394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variable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Declare all variables as “automatic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857160" indent="-45720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.e. in class, with the “variable” keywor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Use “upvar” to link variables between two object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2719-4355-410B-AB35-274EFB0E05B3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58" name="Picture 4" descr="C:\Users\George\Pictures\ZScreen Images\AnnotationAndTemplateSpecificat...libelepELEPViewerBase_-_GVIM3-20101007190655.png"/>
          <p:cNvPicPr/>
          <p:nvPr/>
        </p:nvPicPr>
        <p:blipFill>
          <a:blip r:embed="rId1"/>
          <a:stretch/>
        </p:blipFill>
        <p:spPr>
          <a:xfrm>
            <a:off x="1523880" y="2590920"/>
            <a:ext cx="60976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xposing methods of contained objec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ethods from both contained objects must be exposed - through “unknown”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marL="457200" indent="-45720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args} {</a:t>
            </a: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  ## Try to call the aggregated objects...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if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![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catch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result]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  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retur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result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}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next </a:t>
            </a:r>
            <a:r>
              <a:rPr b="1" lang="en-US" sz="1800" spc="-1" strike="noStrike">
                <a:solidFill>
                  <a:srgbClr val="804040"/>
                </a:solidFill>
                <a:latin typeface="Courier New"/>
                <a:ea typeface="Calibri"/>
              </a:rPr>
              <a:t>unknown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{*}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rgs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unknown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47E5E-6CB7-48FD-909A-A41A151869F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2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3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o, are all problems solv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Each class stores state information in the configuration array of the application, using a key based on the class name.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saveState {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saveSt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method restoreState {</a:t>
            </a:r>
            <a:r>
              <a:rPr b="1" lang="en-US" sz="1800" spc="-1" strike="noStrike">
                <a:solidFill>
                  <a:srgbClr val="2e8b57"/>
                </a:solidFill>
                <a:latin typeface="Courier New"/>
                <a:ea typeface="Calibri"/>
              </a:rPr>
              <a:t>frame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 {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ann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 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annotation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 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templ_selector</a:t>
            </a: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 restoreState </a:t>
            </a:r>
            <a:r>
              <a:rPr b="0" lang="en-US" sz="1800" spc="-1" strike="noStrike">
                <a:solidFill>
                  <a:srgbClr val="008080"/>
                </a:solidFill>
                <a:latin typeface="Courier New"/>
                <a:ea typeface="Calibri"/>
              </a:rPr>
              <a:t>$frame.template</a:t>
            </a:r>
            <a:br>
              <a:rPr sz="1800"/>
            </a:br>
            <a:r>
              <a:rPr b="0" lang="en-US" sz="1800" spc="-1" strike="noStrike">
                <a:solidFill>
                  <a:srgbClr val="000099"/>
                </a:solidFill>
                <a:latin typeface="Courier New"/>
                <a:ea typeface="Calibri"/>
              </a:rPr>
              <a:t>};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alibri"/>
              </a:rPr>
              <a:t># restoreState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965" name="Picture 2" descr="D:\Tcl\Select_Annotation__Template_Characteristics...-20100731081105.png"/>
          <p:cNvPicPr/>
          <p:nvPr/>
        </p:nvPicPr>
        <p:blipFill>
          <a:blip r:embed="rId1"/>
          <a:stretch/>
        </p:blipFill>
        <p:spPr>
          <a:xfrm>
            <a:off x="480960" y="2138400"/>
            <a:ext cx="8182080" cy="2581200"/>
          </a:xfrm>
          <a:prstGeom prst="rect">
            <a:avLst/>
          </a:prstGeom>
          <a:ln w="0">
            <a:noFill/>
          </a:ln>
        </p:spPr>
      </p:pic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roblems solved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7" name="Slide Number Placeholder 5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21F0-5C24-4887-9529-364DF97A185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8" name="Date Placeholder 6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69" name="Footer Placeholder 7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What about efficiency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380520" y="129492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s there a problem using unknown to “distribute” method calls to the proper object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don’t know, I haven’t measured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assumed that there is a penalty, so I explored alternatives before implementing a similar approach for “merging” Button Annotator &amp; Template Fille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hat I finally did, was to create a new class which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herits only ButtonAnnota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various methods of TemplateFiller are copied/extend methods of the new clas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us “next” works, as there is only a linear hierarchy to follow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configuration selector dialog object is single/comm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C456-A511-473E-AF45-9EA184443449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object variables not supported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t seems no…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but, object naming was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internal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4.0 has been actively maintained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ignificant progress since last test (6-8 months ago)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Does not crash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 few “rough edges” remai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ut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upport for iTcl object variables seems missin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tatus of iTcl next gener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1" marL="727920" indent="-280080">
              <a:spcBef>
                <a:spcPts val="451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Verdana"/>
              </a:rPr>
              <a:t>Unknown. Not working either in previous tests</a:t>
            </a: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  <a:p>
            <a:pPr lvl="2" marL="1119960" indent="-223920">
              <a:spcBef>
                <a:spcPts val="451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43D6-CCAF-4ABB-894E-815727BD736E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E9E7-AD3D-44A7-8FF4-6EDCC574DEE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7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clOO: “gray” area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Mixi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ve used “mixin”s a few times, but what are really “mixin”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at happens with colliding method names, the constructor and inheritance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nherit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ow do you inherit from classes whose constructors take different arguments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The same issue can occur with plain methods and “next”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s “next” limited, and an additional invocation method is requir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2E58-A814-480A-9345-7517E242E71C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Lacked support for unknow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 had to use the “@itcl …” variable naming for serialising object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info method is error-prone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7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AAAE-5C00-4C98-9429-1F772DD1344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8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89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clusions (2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Both iTcl &amp; TclOO have their strengths and weaknesse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clOO: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No support for calling a specific class method from the superclasses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Variables cannot be initialised without a constructor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35480" indent="-28296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Are traces supported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31480" indent="-22608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Can constructor arguments be recorded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Should things like classmethod &amp; common be moved from the wiki to the Tcl core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2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7DC5-C897-46D8-9FED-E0488A1483D4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3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4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80880" y="3162240"/>
            <a:ext cx="83822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ank you!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7" name="Date Placeholder 7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8" name="Slide Number Placeholder 8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D61C-2F74-45C1-8E6A-6B6725121284}" type="slidenum">
              <a:rPr b="0" i="1" lang="el-GR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9" name="Footer Placeholder 9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iTcl and Tcl 8.6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lternatives for running the application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Wait until iTcl 4.0 is ready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Will it support 3.4 object variable naming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Port the code from iTcl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Hm, 41 classes? ~20.000 lines of code?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Such a task needs to be automated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Verdana"/>
              </a:rPr>
              <a:t>Stick to Tcl 8.5 and iTcl 3.4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But what happens with open source applications?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1D94-7966-4F6D-8071-3E0871C2ED8B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The shock of Tcl 8.6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orting existing code to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ase study: the Ellogon NLP platform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iTcl facilities in TclOO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Organisation of classes in 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reating an Annotation Tool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atenating Dialog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Conclusions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0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B469-A64E-4D56-A373-B1BCD628D226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1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2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920" y="76320"/>
            <a:ext cx="8164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rting from iTcl to TclOO (1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Verdana"/>
              </a:rPr>
              <a:t>A medium sized application: 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Ellogon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Open source (LGPL), </a:t>
            </a:r>
            <a:r>
              <a:rPr b="0" lang="en-US" sz="22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ellogon.org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Sticking to Tcl 8.5 is not an option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0000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But ~</a:t>
            </a:r>
            <a:r>
              <a:rPr b="1" lang="en-US" sz="2200" spc="-1" strike="noStrike">
                <a:solidFill>
                  <a:srgbClr val="000099"/>
                </a:solidFill>
                <a:latin typeface="Verdana"/>
              </a:rPr>
              <a:t>480</a:t>
            </a:r>
            <a:r>
              <a:rPr b="0" lang="en-US" sz="2200" spc="-1" strike="noStrike">
                <a:solidFill>
                  <a:srgbClr val="000099"/>
                </a:solidFill>
                <a:latin typeface="Verdana"/>
              </a:rPr>
              <a:t> iTcl classes need to be ported!</a:t>
            </a:r>
            <a:endParaRPr b="0" lang="en-US" sz="22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“variable” syntax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The “my” keyword when calling methods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Different method exporting convention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Where is TclOO documentation?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5" name="Slide Number Placeholder 4"/>
          <p:cNvSpPr/>
          <p:nvPr/>
        </p:nvSpPr>
        <p:spPr>
          <a:xfrm>
            <a:off x="8534520" y="630072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EE3E-E615-4A25-9DB9-AE5D2063529A}" type="slidenum">
              <a:rPr b="0" i="1" lang="en-US" sz="1400" spc="-1" strike="noStrike">
                <a:solidFill>
                  <a:srgbClr val="4d4d4d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6" name="Date Placeholder 5"/>
          <p:cNvSpPr/>
          <p:nvPr/>
        </p:nvSpPr>
        <p:spPr>
          <a:xfrm>
            <a:off x="7086600" y="6308640"/>
            <a:ext cx="1328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13 Oct 2010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47" name="Footer Placeholder 6"/>
          <p:cNvSpPr/>
          <p:nvPr/>
        </p:nvSpPr>
        <p:spPr>
          <a:xfrm>
            <a:off x="358920" y="6308640"/>
            <a:ext cx="6892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4d4d4d"/>
                </a:solidFill>
                <a:latin typeface="Verdana"/>
              </a:rPr>
              <a:t>iTcl &amp; TclOO: From the perspective of a simple user</a:t>
            </a:r>
            <a:endParaRPr b="0" lang="en-US" sz="1400" spc="-1" strike="noStrike">
              <a:solidFill>
                <a:srgbClr val="0000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George</dc:creator>
  <dc:description/>
  <dc:language>en-US</dc:language>
  <cp:lastModifiedBy>George</cp:lastModifiedBy>
  <dcterms:modified xsi:type="dcterms:W3CDTF">2010-10-13T13:46:57Z</dcterms:modified>
  <cp:revision>231</cp:revision>
  <dc:subject/>
  <dc:title>Itcl and TclOO</dc:title>
</cp:coreProperties>
</file>