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388584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7"/>
          </p:nvPr>
        </p:nvSpPr>
        <p:spPr>
          <a:xfrm>
            <a:off x="-36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8"/>
          </p:nvPr>
        </p:nvSpPr>
        <p:spPr>
          <a:xfrm>
            <a:off x="388584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073AD-102B-4873-A4AE-5B33542E611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Img"/>
          </p:nvPr>
        </p:nvSpPr>
        <p:spPr>
          <a:xfrm>
            <a:off x="111240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note: intra-document refer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X = \label\r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 output: Autogenerated TOC of se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ections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seen before – Je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doing work based on customer inter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 this work contracted by Cisco for their routers, embedded tc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ual markup =&gt; Comes in at the end, in the output, through the formatter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1986-27B1-4D54-9606-4B54665D4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6373-1EB6-47A6-B457-4D6F4A5E5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9D51-6F1E-48F9-B1E2-F2F34F03A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4E61-D301-45C2-870F-B5F88D0C9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071BB1-867E-4F81-9816-C65CCA70F96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F62F7F-09CE-4012-B664-6B265236EA9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AC95D8-BF0C-4B8A-8B37-F57BB6C677C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848127-DFFF-48D4-8C2A-BC730DEA1BF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6192FA-428F-4852-B29B-4A245126AFB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1174F2-7A71-4D8D-A6C2-219A6164294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688066-682E-4C2F-9C6F-4907CF8FDE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4D9A-569D-4E21-AD5E-61C9AADEF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909908-BA40-4D87-8AD9-A494BE68653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370D43-03D6-434B-AF3F-41A3475F914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B3B7CB-1716-4FD6-A907-81C7438F69D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C5E7A1-DD74-452B-BCAA-6BEDED3FB83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EEAC3B-4DFD-4373-B2AD-DF749CB77D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DA76-6551-4103-8DB1-80DADBFE5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9FDB-18CC-4258-B206-F10ED16FD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21A6-D034-4F82-ADE5-CCD108C40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9D5B-E72B-451D-BB1C-2ED1467A5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6E81-002E-4535-BD4D-8F9DB52F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354E-D748-4242-A114-CE79EBF5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2E46-8C5C-41CC-A2F2-B4E85637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© ActiveState Corporation 2003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D05DB-4FC9-4F46-AADA-5D356A4F16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ftr" idx="4"/>
          </p:nvPr>
        </p:nvSpPr>
        <p:spPr>
          <a:xfrm>
            <a:off x="3152520" y="6273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E704D-6AAF-4109-AD5B-0AA6DB593A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80000" y="5638680"/>
            <a:ext cx="183960" cy="4572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mini.net/sdarchive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cTo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772400" cy="302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slave interpr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syntax che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ting eng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d functionality means easier maintenance of the 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 against bugs in format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ainst malicious intent t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C / Index Autogener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l: DocTools Processor (dt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cllib, TclApps, Starkit available at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mini.net/sdarchive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dflow_x2" descr=""/>
          <p:cNvPicPr/>
          <p:nvPr/>
        </p:nvPicPr>
        <p:blipFill>
          <a:blip r:embed="rId2"/>
          <a:stretch/>
        </p:blipFill>
        <p:spPr>
          <a:xfrm>
            <a:off x="685800" y="1219320"/>
            <a:ext cx="7620120" cy="333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TOC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86400" cy="462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791320" cy="462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true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hing for the text bas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HTML only through regular hyperlink &lt;a&gt;, not as &lt;img&gt;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a true document managemen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include facility for text b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 variables for paramete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management fac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bolic names, formatter selects actual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 language with graphics commands (vector drawin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utput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P, DocBook, ReST, PDF, doctools (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k Text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doctools as intermediate format for other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ion from existing doc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erate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+ Documentation, extract the latter with a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Doc, z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ual reports from code brow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Navig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William Duquette, for “Expan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Joe English, for advice and hel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305000"/>
            <a:ext cx="77724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also provides flexible email management software for enterpr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upports most UNIX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Extensible in Pe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pam and virus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Gateway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C’s and Ind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ations and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formats in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roff, HTML, Plain Text, XML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-BLAS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atest attempt at un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Manpage Markup Language (XML bas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XML is considered heavy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ur Solu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Tools  = Yet more format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pages, Table of Contents, Ind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ce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ptual:        LaTeX (Semantic marku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: Exp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Forge: Tcllib pro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(BSD) lic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: SHA1 Manp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63904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: Table of Cont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378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I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617920" y="1447920"/>
            <a:ext cx="386388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defined output forma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(Metada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an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MML   - Tcl Manpage Markup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ki     - Text format, using semantic mark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r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rs are free to define more formats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3-07-16T20:24:18Z</dcterms:modified>
  <cp:revision>444</cp:revision>
  <dc:subject/>
  <dc:title>8.4 Tcl Overview</dc:title>
</cp:coreProperties>
</file>