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2227320" y="165276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784080" y="-2479680"/>
            <a:ext cx="79282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336600"/>
            <a:ext cx="904860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6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2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51600" y="2158920"/>
            <a:ext cx="4200480" cy="464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17840" y="2725560"/>
            <a:ext cx="3333960" cy="256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98600" y="2913120"/>
            <a:ext cx="253368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38560" y="1577520"/>
            <a:ext cx="4200480" cy="227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08320" y="1687680"/>
            <a:ext cx="1901880" cy="25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538520"/>
            <a:ext cx="902160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kologisin valinta ihmiselle on vähentää luonnollista halua kulutta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koholismi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istAkaa matti kolmogor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1240" y="2101320"/>
            <a:ext cx="4200480" cy="227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51600" y="2101320"/>
            <a:ext cx="4200480" cy="227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51600" y="4589640"/>
            <a:ext cx="4200480" cy="22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41240" y="4589640"/>
            <a:ext cx="4200480" cy="227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40040" y="1442880"/>
            <a:ext cx="5842080" cy="3306960"/>
          </a:xfrm>
          <a:prstGeom prst="roundRect">
            <a:avLst>
              <a:gd name="adj" fmla="val 4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270080" y="3192480"/>
            <a:ext cx="5389560" cy="2803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34960" y="6611760"/>
            <a:ext cx="911700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1240" y="2101320"/>
            <a:ext cx="4200480" cy="2271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51600" y="2101320"/>
            <a:ext cx="4200480" cy="2271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51600" y="4589640"/>
            <a:ext cx="4200480" cy="22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41240" y="4589640"/>
            <a:ext cx="4200480" cy="22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901880" y="-587520"/>
            <a:ext cx="6054840" cy="1063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