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9795"/>
        <c:axId val="30547345"/>
      </c:barChart>
      <c:catAx>
        <c:axId val="26889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7345"/>
        <c:crosses val="autoZero"/>
        <c:auto val="1"/>
        <c:lblAlgn val="ctr"/>
        <c:lblOffset val="100"/>
        <c:noMultiLvlLbl val="0"/>
      </c:catAx>
      <c:valAx>
        <c:axId val="3054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9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595-3685-4DC8-B94C-531013CF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0B6-0D20-45BF-B3CE-D73C40E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856-ECB6-4728-BC37-E2015EF67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C1C-FB7C-440B-B1BB-0BB13964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A17-4357-492A-9A82-52263950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AD8-8AA3-43D4-B180-CB36E23D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236-6B69-4851-8D2E-403804A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F3E-AD4A-48C7-A5F2-0227127F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A71-B874-4CAB-B607-9DFA438B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DDC-AE67-4211-87CB-4CA18E4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6C6-F37C-4199-BC7F-07E3FBB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FAA-4B77-4F2A-92AE-FF8743E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8FC81-70B7-4D56-ACC8-A517C034C0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