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39417"/>
        <c:axId val="92044008"/>
      </c:barChart>
      <c:catAx>
        <c:axId val="104394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44008"/>
        <c:crosses val="autoZero"/>
        <c:auto val="1"/>
        <c:lblAlgn val="ctr"/>
        <c:lblOffset val="100"/>
        <c:noMultiLvlLbl val="0"/>
      </c:catAx>
      <c:valAx>
        <c:axId val="920440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394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E0D-DEDF-442C-B9E3-E0972329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E1B-5FD3-4EC3-BCB6-E12D7DD6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1B3F-A8A1-4D88-AF9F-7D6A0CC8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DC63-6A49-4952-BEDB-F99F1929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D95A-C943-43CE-B589-844D26E2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6BF0-076B-4888-A617-23C1DEAD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EFDD-05E1-4792-803E-37916B9F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DE4A-5CED-4A33-B44B-0F000AA3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479D-742F-4BFD-A77C-E85105C3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3B6B-7AFF-4A89-84A2-4A7F6938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09D5-5D80-4A87-B8A5-A30D684C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F6E-0F31-4496-9C69-7E06D931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B0EB9-C24D-4ACE-8766-C997C977E5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