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58751"/>
        <c:axId val="78885203"/>
      </c:barChart>
      <c:catAx>
        <c:axId val="77158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85203"/>
        <c:crosses val="autoZero"/>
        <c:auto val="1"/>
        <c:lblAlgn val="ctr"/>
        <c:lblOffset val="100"/>
        <c:noMultiLvlLbl val="0"/>
      </c:catAx>
      <c:valAx>
        <c:axId val="78885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58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160-FBC2-4F6A-98EA-E51B9700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86C-FEB5-41CE-9FC5-6866393B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8D1-5C64-4AB3-9C33-230D6CA8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0A7-3F9E-4B3E-9270-A7DC5B30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D4D-2E43-43CA-B6FA-E5E8DD1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343-99E4-4FF8-819A-2164D671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7CE-A8B7-43EE-AF04-CE0777AD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3C5-0CB0-4595-A8F9-C6974EC0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ADB-1021-4744-B73D-03DD2FD6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F62-3EDE-4C0C-99B3-5F0C03C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973-CD77-4122-A3DB-8D48E2AC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73C-60EE-4F75-BE57-0F0D323F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4CEAF-2FD9-4DC3-B4E5-C1107AC579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