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82890"/>
        <c:axId val="89057619"/>
      </c:barChart>
      <c:catAx>
        <c:axId val="69182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57619"/>
        <c:crosses val="autoZero"/>
        <c:auto val="1"/>
        <c:lblAlgn val="ctr"/>
        <c:lblOffset val="100"/>
        <c:noMultiLvlLbl val="0"/>
      </c:catAx>
      <c:valAx>
        <c:axId val="89057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82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AA2-4BD8-4FA9-A98B-D3B56620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3B7-8102-4332-8CF3-C71036E3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BE9-E503-4325-9443-B04A1141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F13-595C-4FFF-92A8-3D54D59A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F8F-5394-4DBD-95A4-5D40F021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B8A-85F9-4698-BEC4-9A6C6FB4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EC3-E54C-47D1-9C1B-FBF40704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C28-C27B-448E-B7EF-EC91B5AC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8BF-5B4C-4FBB-8D29-BF387427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F33-6EC2-4B72-82F5-17446E4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EFD-C8E6-4C52-AB52-79C326C3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CA0-FB13-40EC-8AFC-F27AD0D1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F27FC-921F-46A0-A433-D1AC558434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