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97707"/>
        <c:axId val="40245823"/>
      </c:barChart>
      <c:catAx>
        <c:axId val="24697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5823"/>
        <c:crosses val="autoZero"/>
        <c:auto val="1"/>
        <c:lblAlgn val="ctr"/>
        <c:lblOffset val="100"/>
        <c:noMultiLvlLbl val="0"/>
      </c:catAx>
      <c:valAx>
        <c:axId val="40245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7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0B0-ACFF-4174-B355-1CE68A47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034-A514-4C63-9335-753B3A5C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DF8-622C-4258-BD9B-F0362CD5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70B-0D2B-45E3-93FD-6E2EE083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BC1-2CF4-4C17-9B35-7C98CAA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C57-2BA8-44B1-A0AE-B5266B94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83E-CC01-4E4E-B203-824549A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E3F-A550-4051-89BB-4C14F16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03E-6B9E-4633-8CB2-75B4102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26D-E201-4AA8-96A8-E8677BAE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681-C01E-4378-8DAD-573F056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21C-9534-4590-A427-6A58101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F66F2-48E2-4D03-91D0-FED3DEA7E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