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134611"/>
        <c:axId val="11375869"/>
      </c:barChart>
      <c:catAx>
        <c:axId val="511346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75869"/>
        <c:crosses val="autoZero"/>
        <c:auto val="1"/>
        <c:lblAlgn val="ctr"/>
        <c:lblOffset val="100"/>
        <c:noMultiLvlLbl val="0"/>
      </c:catAx>
      <c:valAx>
        <c:axId val="113758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346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3011-C149-4571-9048-DF86EB5C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9C7B-9818-4691-B50E-F1272572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B195-0FC3-44FE-ACA8-FB50CF40F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8349-A3BA-4F7E-8755-86B27417D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4EE5-AB6D-46B2-8A6A-3A608E7F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0496-E821-4C83-9C86-6A8D407F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9BA7-1F4C-4D0E-9D1A-FE917E9E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6936-4B6C-45E3-BFE6-E24A6714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6339-FA65-42C8-B444-8B7F9634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44ED-44B9-4B68-B94F-B6A65339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6499-47FD-4F63-A038-AE58E9CF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94C6-1973-464C-A90A-CEDD94FD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03B87-ED51-4F29-BFFE-119E01B6AE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