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590"/>
        <c:axId val="54815867"/>
      </c:barChart>
      <c:catAx>
        <c:axId val="1073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15867"/>
        <c:crosses val="autoZero"/>
        <c:auto val="1"/>
        <c:lblAlgn val="ctr"/>
        <c:lblOffset val="100"/>
        <c:noMultiLvlLbl val="0"/>
      </c:catAx>
      <c:valAx>
        <c:axId val="54815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AD4-88CF-47B7-A720-8F60053C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89F-7921-4027-974B-8ACE8746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59E-01C3-4360-A873-69287CE6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195-DDB4-4213-8864-3EA82AB7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A36-1625-43DA-896F-C3B51F3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9B0-681E-4A86-A843-C25A50A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4BC-937E-43AF-8D1B-78411B1F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783-D78F-4D25-B98D-B7559C75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FDE-228D-4CE8-97DC-842D7A69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7C2-4D5A-47A9-AD8A-F0E549B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94D-02EF-4062-81C1-40B97EAA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E82-658F-4610-AC6B-C8C55E5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4C00-1DDE-4B7E-9F5C-A7E7CF75A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