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88721"/>
        <c:axId val="71468384"/>
      </c:barChart>
      <c:catAx>
        <c:axId val="69887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468384"/>
        <c:crosses val="autoZero"/>
        <c:auto val="1"/>
        <c:lblAlgn val="ctr"/>
        <c:lblOffset val="100"/>
        <c:noMultiLvlLbl val="0"/>
      </c:catAx>
      <c:valAx>
        <c:axId val="714683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87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A6CB-3F97-4B4D-A56A-42202EE86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4A59-6995-45B5-A632-3C5E673C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4AE3-2793-44B6-B42E-E4CBAE47C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47CC-280D-489D-9C88-12CB7E57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3421-BC98-4567-99C8-64DDB5E3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73B9-DFCD-4FAD-ABB7-393FB111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D7F6-E97B-4EA9-8952-62489189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F571-4075-4C02-AC88-B3C085C7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C8F6-A75C-4A4B-A4EA-B65AA54A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6F5E-7F32-48CF-99D8-5016A6A5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3AE1-D1E3-4A09-8E15-87F9A467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31E9-D753-4C74-B058-7F414EC3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22F14-46D4-439B-B379-6CE684934D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