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98401"/>
        <c:axId val="75903010"/>
      </c:barChart>
      <c:catAx>
        <c:axId val="50198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03010"/>
        <c:crosses val="autoZero"/>
        <c:auto val="1"/>
        <c:lblAlgn val="ctr"/>
        <c:lblOffset val="100"/>
        <c:noMultiLvlLbl val="0"/>
      </c:catAx>
      <c:valAx>
        <c:axId val="75903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98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06B-9704-41F1-99A2-F3AA5A7D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791-0A26-4B9C-94DE-A2753C21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CE3-AE0C-44BB-ADA6-FB751A9D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A37-64BF-4F08-BEF1-49B147C1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04C-6FF7-42A0-82BD-98D8A969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E40-6E13-4D7D-A40D-740C2DBF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7F7-2A82-42D4-BA0C-AD261766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ED4-CFF8-4C2C-A3C8-4F76194A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115-C6D0-4949-9CE2-D09A802E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0C2-EBCD-4E1A-B476-D959CF40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742-CB56-46DF-BF2A-EB720D37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44C-02AA-4AC3-A1F8-F4908055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4DA5C-BD47-40DF-B266-372E632DB8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