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35450"/>
        <c:axId val="71250336"/>
      </c:barChart>
      <c:catAx>
        <c:axId val="27935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50336"/>
        <c:crosses val="autoZero"/>
        <c:auto val="1"/>
        <c:lblAlgn val="ctr"/>
        <c:lblOffset val="100"/>
        <c:noMultiLvlLbl val="0"/>
      </c:catAx>
      <c:valAx>
        <c:axId val="71250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35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6F1-D936-4CFF-897F-6A9BAEBA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938-2A48-4808-867B-AE92E4B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B89-54BE-4A73-A9F8-98ADB0A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15B-FDC9-4DA8-9E17-D3110D95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83A-1CA7-4F77-BFAF-FE151A3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A5B-DECD-4C08-ACE7-7E59F32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0EF-8811-45A8-8CB5-E4F0D742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633-7800-463E-81BD-E0B4BC04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05-1F04-4AA5-B65F-7A49EB3D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E36-912C-40E3-B60B-C1417DC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6CC-B7E5-4722-81F0-5CECCDB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EF3-AB4B-4382-854E-C9C015F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8923F-57AA-48AF-BB72-0EFAEB907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