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38222"/>
        <c:axId val="21939693"/>
      </c:barChart>
      <c:catAx>
        <c:axId val="84938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39693"/>
        <c:crosses val="autoZero"/>
        <c:auto val="1"/>
        <c:lblAlgn val="ctr"/>
        <c:lblOffset val="100"/>
        <c:noMultiLvlLbl val="0"/>
      </c:catAx>
      <c:valAx>
        <c:axId val="21939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38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7A5-7129-4720-8BF0-2CCDA837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CA5-7966-402D-82E9-79DB12FC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818-C57B-46EC-A0B4-DF4FBF1D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AA0-1A5D-48A5-9359-8FC71AEB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467-FF0A-4271-8381-86D6EE47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D99-7D9D-447E-8E0D-563D9AA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442-F144-44A3-87B4-6D790B83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48A-C264-4031-BDF1-52E7686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B6E-7B3A-4DCD-9A6F-1DB17B40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E08-CDC7-4C52-9E41-387506DC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BC3-7279-412E-BF15-872BCBEC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2BE-AE19-4D4E-B5E9-C009C7E1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D6866-6742-4319-A410-31D6326053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