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95944"/>
        <c:axId val="52378645"/>
      </c:barChart>
      <c:catAx>
        <c:axId val="99895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78645"/>
        <c:crosses val="autoZero"/>
        <c:auto val="1"/>
        <c:lblAlgn val="ctr"/>
        <c:lblOffset val="100"/>
        <c:noMultiLvlLbl val="0"/>
      </c:catAx>
      <c:valAx>
        <c:axId val="52378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95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222-D6D6-427A-87C4-CB7B0AFD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6B8-8B90-4CEC-B48C-006CDDA2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133-C2C0-48F1-9463-5673FB7F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D78-9241-4A4A-8A49-D7A1C102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95C-2669-483B-89FC-E96E2155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B36-E06E-48E0-A9F6-BD80053C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6A0-3BB5-4FB4-82AF-00511230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6E9-1461-4C31-8D1E-9F3BA94F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915-D774-4874-BC86-85885752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C03-21BB-4944-A24C-139FAE7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FC8-07A7-4B88-9740-91A4E146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F18-31D2-4B05-998D-069FBB8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FC910-CA35-435D-A9F5-DE28F0E522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