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98009"/>
        <c:axId val="30488195"/>
      </c:barChart>
      <c:catAx>
        <c:axId val="11598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8195"/>
        <c:crosses val="autoZero"/>
        <c:auto val="1"/>
        <c:lblAlgn val="ctr"/>
        <c:lblOffset val="100"/>
        <c:noMultiLvlLbl val="0"/>
      </c:catAx>
      <c:valAx>
        <c:axId val="30488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98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00B-A7DF-44F9-B6F7-F6B72551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57C-64B7-4B9F-92F9-93DAB2D1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417-66CC-4399-93F4-C57B55BA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F88-B602-4138-B92A-8C281E1E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26A-A686-43DA-84EF-FAC80B77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3ED-AC53-4B8F-B464-352A30D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331-47AB-4C3C-83C1-68ED1254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9DF-582C-4A7B-B4ED-FC9D5B53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A4B-C826-411B-A536-005FE24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958-503D-4241-8067-0ED148D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CD8-6068-4083-A061-80F587E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239-6452-4DB2-8AB9-FF2212EA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36E7A-3BF0-477D-BA49-19B3E727C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