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65594"/>
        <c:axId val="51626257"/>
      </c:barChart>
      <c:catAx>
        <c:axId val="46565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26257"/>
        <c:crosses val="autoZero"/>
        <c:auto val="1"/>
        <c:lblAlgn val="ctr"/>
        <c:lblOffset val="100"/>
        <c:noMultiLvlLbl val="0"/>
      </c:catAx>
      <c:valAx>
        <c:axId val="51626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65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184-D2D1-424A-AC53-06E90D12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449-E258-448E-A620-050DF0B2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8B0-7845-40D3-BC36-EE66241C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CD4-79C7-4AA6-AB95-725DFA93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13A-6D4B-4D64-8996-A562C357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2B0-C84B-4E22-BC85-D25B60AA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A0E-2B76-4FFC-99F8-74F9FF69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D1B-6EF7-434E-8747-F5C481ED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428-2388-4C81-8C51-83CBC039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A32-978E-4706-A255-1371B8D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884-2AD0-437B-9F24-C54CC26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B21-DDA1-4EE8-BC42-D867EF34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1EF17-E8B9-40BE-8D57-F9DD327192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