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287834"/>
        <c:axId val="45014490"/>
      </c:barChart>
      <c:catAx>
        <c:axId val="572878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14490"/>
        <c:crosses val="autoZero"/>
        <c:auto val="1"/>
        <c:lblAlgn val="ctr"/>
        <c:lblOffset val="100"/>
        <c:noMultiLvlLbl val="0"/>
      </c:catAx>
      <c:valAx>
        <c:axId val="450144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878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4A75-D952-4213-9BE5-AD1D544D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16F8-2163-4516-BFDF-A85A5CE0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D04C-DBE6-446C-B04F-B80784AE6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48E5-7BB8-4571-9018-5F03FCA1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53B6-850C-45D2-BAF6-3202A2F6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62F9-7A1E-494E-9756-732A341B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CCDC-F2C1-4201-9F7D-779A1ABE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D2EB-960E-4D70-8526-A93C01C4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3185-53C9-4153-A08F-DFD15FEC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F57D-2DA6-48E7-A215-06186F7E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62A6-9D67-4638-97C7-6EEFBAB7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34AD-7084-42FC-9ADE-2B6AF300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1CBCE-B42E-4817-B296-564405C702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