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99868"/>
        <c:axId val="32751523"/>
      </c:barChart>
      <c:catAx>
        <c:axId val="33699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1523"/>
        <c:crosses val="autoZero"/>
        <c:auto val="1"/>
        <c:lblAlgn val="ctr"/>
        <c:lblOffset val="100"/>
        <c:noMultiLvlLbl val="0"/>
      </c:catAx>
      <c:valAx>
        <c:axId val="32751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99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7B7-8453-40F6-A793-692947A2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560-B382-4DF9-83E7-164144C3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87F-CB53-454C-816A-1ECBE3F7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864-EEBC-467F-BBBD-9358BA5E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07C-B031-4B5C-8AB1-4441103F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879-2872-4474-A2B9-0A73180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BA1-131D-456C-842A-BC23BAA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352-8003-497D-BF5C-75BB98C9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28D-32FB-4B50-916C-5F9CC866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91A-D197-440C-A87D-264D6E33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570-A3FB-4C29-A8EE-531DAFF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2A7-FD9A-49B7-AF4C-20BBFC6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E1AC-45F5-4A98-AC73-B9A3C55453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