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549206"/>
        <c:axId val="53969861"/>
      </c:barChart>
      <c:catAx>
        <c:axId val="955492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969861"/>
        <c:crosses val="autoZero"/>
        <c:auto val="1"/>
        <c:lblAlgn val="ctr"/>
        <c:lblOffset val="100"/>
        <c:noMultiLvlLbl val="0"/>
      </c:catAx>
      <c:valAx>
        <c:axId val="539698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5492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8A31-82A2-4618-B754-E68FA5CDB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0C9B-92C4-4C0B-AAF6-5E8CDA98D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2245-8B31-40A7-9450-D1DFA0C7C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C9B4-EC5B-4310-B844-020967D4C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B122-C469-4815-8A75-2960EFDB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7B6D-4C73-4757-A63A-E494165D4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4C00-1151-45B9-8DD0-B07B7FAC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BDBC-6DB4-4D89-97DD-3125A1A37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D7A0-5A5C-4881-8982-B7CFE8F3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FBD4-95E5-4200-9301-D705CAB4C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9C63-52E1-467C-B969-0F1C04BB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06CE0-AE26-41FD-AFED-41A0D8F1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0B6A78-6371-4364-A4BA-86C11C8882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