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27A4E2B8-9B8D-4B62-BEA8-1D54D458606C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 Comman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479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and Line Interf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Purge 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2 weeks 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7/10/2005 8:00am“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2 weeks ago to the hard date of July 10, 2005 at 8:00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3 days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now – 2 days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3 days ago to this time 2 days a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yesterday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anytime yesterday or la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e “help alert delete” for more info on date range specifica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Lists control actions allowed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nfigures the control parameters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chedules a control action to be performed some time in the futur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for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ecute a control action immediatel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Deploy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ployer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t supported on Windows platfor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what metrics are configured for collection and values that have been collected over a date rang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list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metric details and live valu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view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mpacts aging metric data and purges old dat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s a metric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.g. list/view metrics for JBo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2700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hq-shell::jbnadmin&gt; metric list -server "mazzlap HQ JBoss“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Metric listing: 10 metrics found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ID      Interval   Enabled   Description                          Alia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--      --------   -------   -----------                          -----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70   300        true      Active Thread Count                  ActiveThread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6   300        true      Active Thread Group Count            ActiveThreadGroup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4   10         true      Availability                         Availabilit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8   300        true      JMS Message Cache Size               TotalCacheSiz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2   10         true      JVM Free Memory                      Free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4   1800       true      JVM Max Memory                       Max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0   300        true      JVM Total Memory                     Total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8   300        true      Transactions Active                  Tx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6   600        true      Transactions Committed per Minute    TxCommit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2   600        true      Transactions Rolledback per Minute   TxRollback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1368720" y="4648320"/>
            <a:ext cx="6474960" cy="1280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metric view -value 100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rieved JVM Free Memory from 'mazzlap HQ JBoss' (2:10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alue:                 47.2 M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llection Time:       7/10/05 11:43:18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veloper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7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ust set developer.commands pr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supported commands – some are buggy, some are no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t/get system proper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 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ful to see all the agents on your networ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4191120"/>
            <a:ext cx="7238880" cy="1604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agent 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 Agents listing 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d      Address            Created              Last Mod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      -------            -------              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0001   127.0.0.1:2144     7/9/05 7:06:10 PM    7/9/05 8:20:47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 your shell to login automatically when you start i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the resour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all resour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details of your JBN EM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metrics for the JBEM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the metrics that will be collected for the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some values of some 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ra Credit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server’s jboss-service.xml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int: see “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elp tf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verview of the CLI she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pecify resourc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 over each group of command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s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t. 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q-shell.[bat,sh]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be renamed “jbn-shell.[bat,sh]” in the fu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pon startup, runs commands found in the script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~/.hq/shell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interactively enter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execute a bulk set of commands by adding them to a script and running the script via the “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source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” comma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elp command provides help (go figure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lp &lt;command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re are “hidden”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supported, yet potentially helpfu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are “broken” – be prepared for error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enab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 developer.commands tr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tting this also enables stack traces to be dumped when exceptions occu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ent Shel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pecifying resourc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y commands accept a resource as a command argu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platfor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i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grou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ap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ypically, you can specify a resource by name (“host.domain.com”, “My JBoss Server”) or by ID (10001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1000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“My Group”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sic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ogi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login username:password@ho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is can be the first line in ~/.hq/shellrc to automatically log you in whenever you start the shel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ers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el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[command] [subcommand]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ourc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ulk execute a set of comma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im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imes the execution of another command and reports the elapsed time once comp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&lt;command to execute&gt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lee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use for N seco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qui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ource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xport/Import resource inventor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full inventory can be exported to an .xml file or imported from an 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export C:\inventory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list all resources or just the resources of a particular typ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list -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get a more detailed view of a resource (such as what resources are contained in a group, as an example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view –server "My JBoss Server"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 and Se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configure configuration settings for a particular resourc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figure command configures all setting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t command configures one sett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ather than use this command, you typically configure a resource or set a particular resource’s configuration property from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Viewing a Resour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240"/>
            <a:ext cx="8001000" cy="4800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q-shell::jbnadmin&gt; resource view -server "mazzlap HQ JBoss“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:         mazzlap HQ JBoss (id=10006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 Type:    JBoss 3.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scrip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:          unknow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all Path:   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engine\server\defaul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wner:          jbnadm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ca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ast Modified:  7/10/05 9:56:25 PM (by admi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reated:        7/9/05 11:00:40 P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resource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.naming.provider.url = 'jnp://127.0.0.1:2099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control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figSet            = 'defaul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             = '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engine\bin\run.ba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command provides ability to perform auto-discovery and to import resources that were auto-discovered (and as you’ve already seen, you typically do this from the GUI not from CL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rt, stop, stat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a run to fire in the futu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istory – shows previous autoinventory ru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– shows current autoinventory schedule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e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ows resources that were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e or ignore resources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ost of these commands are broken due to a NoClassDefFoundError – this will be fixed so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sts alerts that were rais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information provided is not as user-friendly as the information provided when the GUI lists aler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letes alerts from a particular resource or during a particular date range (se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lp alert delet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for interesting ways you can specify the date rang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 is really the most useful of the alert/alertdef family of comman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de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dd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ds actions to an aler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alertdef command is less commonly used – the GUI is typically used to perform the task of creating alert definition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8:28:49Z</dcterms:created>
  <dc:creator>John Mazzitelli</dc:creator>
  <dc:description/>
  <dc:language>en-US</dc:language>
  <cp:lastModifiedBy>John Mazzitelli</cp:lastModifiedBy>
  <dcterms:modified xsi:type="dcterms:W3CDTF">2005-07-11T03:50:58Z</dcterms:modified>
  <cp:revision>57</cp:revision>
  <dc:subject/>
  <dc:title>JBN EM CLI API</dc:title>
</cp:coreProperties>
</file>