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A7F82-2517-4821-8CDB-3C9FA4939B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questions to end of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ontact [salesperson X] for slid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business card should be in your 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9770B2D8-5064-4E0A-8041-784DF321F39A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N The Road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-the-Train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v1.2.SP1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Ques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’re improving, but we’re not perfec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o we’d really like your feed back on the roadshow material and JBoss ON in general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31112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liver “JBoss ON The Road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 over things to look out for when you give the Roadsho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i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pare you to present “JBoss ON The Road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amiliarize you more with JBoss 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egin with the PowerPoi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ll include additional material (normally hidden) to help familiar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ips n’ Trick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re are the slide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rivate CVS: jboss-network\docs-general\enterprise_admin\training\jbossontheroa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gnore the hidden slides when giving presentations (will keep to schedul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gnore notes in [ … ], just there for additional info, not critic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preparing the slides for the sales team to give out, I print to PDF the visible slides, no notes, 4 slides to a pag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ere is a rough timeline for the JBoss ON training section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00m Introduction and agenda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05m JON RoadMap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20m JON Architectur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35m JON Install &amp; Config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00m LAB: JON Install &amp; Confi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10m BREAK (working lunch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25m GUI Introduction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50m LAB: Dashboard Configuration, Software Updat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00m Monitoring JBos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15m LAB: JBoss Alert, DataSource cre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30m Finis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stall Tip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tendees should use appropriate installer from root of CD. This is version 1.2.29, which is 1.2.SP1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 Windows if users have APPDATA not set to C: then install will fail: "Error. Cannot open installer log file at D:\blah\install.log“. Work around is to use the Windows Text installer in /etc of C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ttendees should run setup.bat then follow on screen instruction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ed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start up DB server separately when using text install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mo at https://network.jboss.com/confluence/display/DOC/Tutorial-Install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stall Tips (2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asked for a mailserver: For the demo you can use anything, e.g. localhos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ndows installer only allows you to change http/https ports, others are ignored. Port conflicts should be resolved by turning off the other application, uninstalling and deleting JON, then re-install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uto-discovery/Inventorying Tip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e don’t support the JBoss AS Binding Service, but do support run –b 127.0.0.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 templates: Only apply to resources which are imported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emplate is creat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ert templates: Only apply to resource which are imported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befor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emplate is create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eneral Tip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a user can't see any resources being imported, restart the ag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getting exceptions in UI, check server logs, probably related to no network during install. Make sure they have network then uninstall and re-instal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Charles Crouch</cp:lastModifiedBy>
  <dcterms:modified xsi:type="dcterms:W3CDTF">2006-09-11T22:35:55Z</dcterms:modified>
  <cp:revision>91</cp:revision>
  <dc:subject/>
  <dc:title>JBN Enterprise Management</dc:title>
</cp:coreProperties>
</file>