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8C80BD-3EF1-449A-802C-95532DD21E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portlet or tile will represent one area of functionality, e.g. apache virtual hosts, tomcat data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want to reinvent stuff in providing a usable CLI implementation. The idea would be to just have CLI call the domain layer directly. Essentially this would make the CLI a first class citizen similar to the Struts Actions or Portal rendering methods. Should see same interface as Struts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lidation has to be in the Domain Layer so that it can be applied consistently regardless of client interf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key requirement which the CLI brings is the need to provide the capability of making ‘direct updates’ rather than having to perform a read followed by an update. This is going to be critical for items that have just a monolithic config e.g. Apache. Don't want the client to have pass in all configuration information just to update one part of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im of this layer is to abstract away complexities due to configuration, remoteness of resources, and updating multiple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on: really just a marker class e.g. GetDataSource, StopServer. Action class or subclasses really shouldn’t have much state or any oper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onArgs: a wrapper for Ma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rget: a concrete instance of a Server, Service, Application, or some group of those mapping to an actual entity within the topology of resources being administe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eneric invoke() mechanism enables easier decoupling between the intention of an action from its implementation, essentially similar to the benefits JMX gives you in this reg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cept of having the arguments to an action kept in a map should make it simpler to support a generic GUI and CLI which is not tightly coupled to particular actions or resour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Immediate’ calls are ones which get executed immediately on the appropriate resource, e.g. read operations, some lifecycle (start/stop) operations possibl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Queued’ calls are ones which do not get executed immediately, but instead get added to a queue for execution at a later time.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sing Queued calls the user, through the GUI/CLI, will have the ability to apply all the changes at once or to throw them away so that they are never appli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GUI/CLI This enables support for commit/discard commands to be made through the GUI/CLI for applying or throwing away a set of action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gentles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way in which the invoke() operation is called with simple, generic arguments allows for simple persistence of the queue itself.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nother benefit of having the queue concept is that we can insert items into the queue, underneath the feet of the user, e.g. okay I see that you made a particular sort of update, we're going to need to wrap that in a "server stop“, "server start" pai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resource topology will be created by registering platforms, servers, services, and applications. Included in the topological information will be configuration layout, e.g. is this JBossAS server using netboot? Is this Tomcat server clustered? Distribution filesystem root. This information will be used to determine how changes should be applied to a particular resourc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sources should be able to be added manually or autodiscover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BLEM: How to give clients a consistent view of their changes prior to them being committed. Should this problem be left to the GUI or CLI layers or managed by the Domain laye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ne possible solution in the domain layer: This is mainly a problem for ‘Immediate’ actions, e.g. I issue a command to read a datasource, which I’ve changed, but not yet committed. We want to return the changed value. For reads you have to go up through the queue to check if the read request makes sense, e.g. the resource being read hasn't been deleted. Then if it does, you execute the read then go up through the stack again to see if any of the pending changes will have impacted the data.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shouldn’t be a problem for ‘queued’ actions since we could may be support adding invalid actions to the queue, e.g. an update after a delete, but then just fail that action when it comes to get executed after a commi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im of this layer is to just abstract away complexities due to remoteness of resources and the engine/agent topology. It will defer to the Infrastructure Layer to carry out the actual chang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layer will receive a set of one or more instructions from the Domain Layer and then combine that with the physical topology information that has been registered, to come up with a list of instructions to pass to the Infrastructure lay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at actually gets executed will vary depending upon the resource being administered and engine/agent topolog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 if you want to update a datasource, then how you would do this depends on the physical topolog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g. two local instances one machine, versus one netboot server and two machin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g. no agents deployed, (only remote JMX will be available), versus an agent deployed which can manipulate the filesystem direct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layer will support plugging in different implementation options. For instance JBoss Support Platinum customers would have access to ‘high-value’ features, e.g. transactional updates across multiple nodes. While we may want to let all users have access to basic non-transactional updates.</a:t>
            </a: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kes cares of implementing the instructions received from the Target layer, e.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pdate this file on this webdav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pdate blah-ds.xml on these three serv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frastructure Layer includes functionality covering both Engine and Agent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scription above does not impose very many implementation restrictions. The blah-ds.xml files could be updated by updating a central SVN repository and then getting the servers to do an ‘svn update’, or by ssh’ing into each machine and running a perl command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 Network is made up of three pa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nowledge Access</a:t>
            </a:r>
            <a:r>
              <a:rPr b="0" lang="en-US" sz="1200" spc="-1" strike="noStrike">
                <a:solidFill>
                  <a:srgbClr val="000000"/>
                </a:solidFill>
                <a:latin typeface="Arial"/>
              </a:rPr>
              <a:t> via a seamless and customizable port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ftware Distribution</a:t>
            </a:r>
            <a:r>
              <a:rPr b="0" lang="en-US" sz="1200" spc="-1" strike="noStrike">
                <a:solidFill>
                  <a:srgbClr val="000000"/>
                </a:solidFill>
                <a:latin typeface="Arial"/>
              </a:rPr>
              <a:t> including delivery of patches specific to your environ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pplication Management</a:t>
            </a:r>
            <a:r>
              <a:rPr b="0" lang="en-US" sz="1200" spc="-1" strike="noStrike">
                <a:solidFill>
                  <a:srgbClr val="000000"/>
                </a:solidFill>
                <a:latin typeface="Arial"/>
              </a:rPr>
              <a:t> including administration, monitoring, and advanced deployment management too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the application mgmt part we are concentrating on the subset related to administ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rchitecture concentrates on problems around administering JEMS products, and products supported by JBoss inside and outside of JBoss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administering means: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ploy: Make an entity available, assuming the thing containing the deployed entity is running.</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ndeploy: Make an entity unavailable, opposite of Deploy.</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nfigure: Make persistent changes to a resou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perate: Make non persistent runtime changes that will not survive a restart, e.g. stopping or starting a ServerInstance.</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atch: Update a configuration file or add a new baseline jar file or update an existing baseline jar which is part of an entity.</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resource is a JBoss instances, it should be possible to embed the Agent inside of the managed JBoss Instanc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ype of engine/agent organization will likely have fewer capabilities since there will be no process local to the resources to assist with actions. Instead all actions must be done using remote APIs which the resources themselves support.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ical breakdown of the responsibilities in the archite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omain layer handles initial requests and feeds installation information into the Topology reposi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arget layer deals with converting abstract requests from the Domain layer e.g. “update all Apache instances on this group of servers to have virtual host X” into a set of concrete actions e.g. “add the &lt;VirtualHost 10.1.2.3&gt; stanza to the httpd.conf file, found under the SERVER_ROOT C:/apache, on machines with IP 192.168.0.1, 192.168.0.2, 192.168.0.3.” The target layer will read from the Topology repository in order to help determine what concrete actions need to occ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Infrastructure layer is responsible for taking instructions from the Domain layer and actually attempting to execute them. This is the layer that will talk to the agents to carry out actions, but is also likely to need to be able to JMX server (for agent less configurations) or update WebDAV servers to make changes to netboot configur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frastructure Layer includes functionality covering both Engine and Agent processe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 not convinced I know what I’m talking about when I explain Logical Targ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ll predicated on the fact that we are assuming our content repository can define our topology’s content fully using URL/file synta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cluster1/jboss.xml is something we’ve always used in use-cases.  That’s very simplistic – what does the URL/file structure look like f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physical hos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 appl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 groups of things (like groups of distributions, groups of services, groups of appl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4. serv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5. distribution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E1A0C2-23A6-458D-A12F-BC6F549236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10DD85-93B8-488B-9626-25FB8184D6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340241-15F8-45C8-B78D-ED93F85B34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7BF15B-3246-41C7-B957-DBF0AE4FCB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4CD2C3-6448-4301-A835-D82C506E36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FCF42C-BFE4-448C-8D5C-1AF0129C6D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531300-9C35-4446-A843-087CC6EA01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078441-1497-49C7-B354-D2290D0536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2C8FAA-F52C-4045-84B7-153E3E771D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E950EB-D25D-48E5-BB8A-430BF4A489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777A02-5A40-4913-9606-C9077D060A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EE8A9C-8FD7-49F8-B746-1A016F1912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8A6C88-AED5-4F1E-B22F-5EB9C9120AA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BN Administration</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chitectu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UI/CLI</a:t>
            </a: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UI will be Struts+Tiles based.</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uld like to use BeanShell for CLI.</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im to avoid updating CLI classes when Domain Layer chang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ed “POJO remoting” to make calls inside of same JVM as Engine.</a:t>
            </a:r>
            <a:endParaRPr b="0" lang="en-US" sz="32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BLEM: </a:t>
            </a:r>
            <a:r>
              <a:rPr b="0" lang="en-US" sz="2400" spc="-1" strike="noStrike">
                <a:solidFill>
                  <a:srgbClr val="000000"/>
                </a:solidFill>
                <a:latin typeface="Arial"/>
              </a:rPr>
              <a:t>Showing differences between an individual resource and a group of resources.</a:t>
            </a:r>
            <a:endParaRPr b="0" lang="en-US" sz="24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BLEM: Need to do authentication/authorization for CLI.</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main Layer</a:t>
            </a: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yer used by GUI/CLI.</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s call invoke(Action action, ActionArgs args, Target targe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BLEM: Need a way to configure what are valid action+args+target tuples, then have them validated on invoca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BLEM: Need to add some caller identification information to argument list in order to do authorization checks and keep actions of different users separate, e.g. EJB method permission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main Layer</a:t>
            </a: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pport both sync and async call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pport ‘immediate’ and ‘queued’ call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ores actual resource topology being administer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BLEM: For async calls need some standard way to let the user query the status of one or more invocations: success, failure, error.</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BLEM: How to give clients a consistent view of their changes prior to them being committe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arget Layer</a:t>
            </a: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layer which maps from logical action &amp; target to actual set of instructions to be execut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main Layer calls invok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an action is invoked what actually gets executed will vary based on: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ource topolog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ministration topolog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frastructure Layer</a:t>
            </a: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layer is responsible for taking instructions such as update this netboot server to have this setting, and actually doing i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face does not expose the underlying implement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cope</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JBossNetwork is Knowledge Access, Software Distribution, Application Managemen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 Management is “</a:t>
            </a:r>
            <a:r>
              <a:rPr b="1" lang="en-US" sz="3200" spc="-1" strike="noStrike">
                <a:solidFill>
                  <a:srgbClr val="000000"/>
                </a:solidFill>
                <a:latin typeface="Arial"/>
              </a:rPr>
              <a:t>administration</a:t>
            </a:r>
            <a:r>
              <a:rPr b="0" lang="en-US" sz="3200" spc="-1" strike="noStrike">
                <a:solidFill>
                  <a:srgbClr val="000000"/>
                </a:solidFill>
                <a:latin typeface="Arial"/>
              </a:rPr>
              <a:t>, monitoring, and advanced deployment management tool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ducts/Projects in Scope</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projects that JBoss, Inc. releases (JEMS is obviously a subse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projects supported by JBoss, Inc (including Apach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Boss products even if they are running outside of JBossAS (for example, Hibernate running within WebLogic).</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e Case: Deploy a web app to a cluster of JBoss servers</a:t>
            </a:r>
            <a:br>
              <a:rPr sz="4000"/>
            </a:br>
            <a:endParaRPr b="0" lang="en-US" sz="40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s: two JBossAS instances, two machines, using local install, one agent per machin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topology:</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eate a Group of JBossAS Servers, call it "ProdJBos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ister Server A</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ister Server B</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ly action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loy web application to "ProdJBos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ly Action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ess Organization, Ex1</a:t>
            </a:r>
            <a:endParaRPr b="0" lang="en-US" sz="4400" spc="-1" strike="noStrike">
              <a:solidFill>
                <a:srgbClr val="000000"/>
              </a:solidFill>
              <a:latin typeface="Arial"/>
            </a:endParaRPr>
          </a:p>
        </p:txBody>
      </p:sp>
      <p:graphicFrame>
        <p:nvGraphicFramePr>
          <p:cNvPr id="57" name=""/>
          <p:cNvGraphicFramePr/>
          <p:nvPr/>
        </p:nvGraphicFramePr>
        <p:xfrm>
          <a:off x="2629080" y="1600200"/>
          <a:ext cx="3886200" cy="4525920"/>
        </p:xfrm>
        <a:graphic>
          <a:graphicData uri="http://schemas.openxmlformats.org/presentationml/2006/ole">
            <p:oleObj r:id="rId1" spid="">
              <p:embed/>
              <p:pic>
                <p:nvPicPr>
                  <p:cNvPr id="58" name="" descr=""/>
                  <p:cNvPicPr/>
                  <p:nvPr/>
                </p:nvPicPr>
                <p:blipFill>
                  <a:blip r:embed="rId2"/>
                  <a:stretch/>
                </p:blipFill>
                <p:spPr>
                  <a:xfrm>
                    <a:off x="2629080" y="1600200"/>
                    <a:ext cx="3886200" cy="452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ess Organization, Ex2</a:t>
            </a:r>
            <a:endParaRPr b="0" lang="en-US" sz="4400" spc="-1" strike="noStrike">
              <a:solidFill>
                <a:srgbClr val="000000"/>
              </a:solidFill>
              <a:latin typeface="Arial"/>
            </a:endParaRPr>
          </a:p>
        </p:txBody>
      </p:sp>
      <p:graphicFrame>
        <p:nvGraphicFramePr>
          <p:cNvPr id="60" name=""/>
          <p:cNvGraphicFramePr/>
          <p:nvPr/>
        </p:nvGraphicFramePr>
        <p:xfrm>
          <a:off x="2146320" y="1600200"/>
          <a:ext cx="4849920" cy="4525920"/>
        </p:xfrm>
        <a:graphic>
          <a:graphicData uri="http://schemas.openxmlformats.org/presentationml/2006/ole">
            <p:oleObj r:id="rId1" spid="">
              <p:embed/>
              <p:pic>
                <p:nvPicPr>
                  <p:cNvPr id="61" name="" descr=""/>
                  <p:cNvPicPr/>
                  <p:nvPr/>
                </p:nvPicPr>
                <p:blipFill>
                  <a:blip r:embed="rId2"/>
                  <a:stretch/>
                </p:blipFill>
                <p:spPr>
                  <a:xfrm>
                    <a:off x="2146320" y="1600200"/>
                    <a:ext cx="4849920" cy="452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ess Organization, Ex3</a:t>
            </a:r>
            <a:endParaRPr b="0" lang="en-US" sz="4400" spc="-1" strike="noStrike">
              <a:solidFill>
                <a:srgbClr val="000000"/>
              </a:solidFill>
              <a:latin typeface="Arial"/>
            </a:endParaRPr>
          </a:p>
        </p:txBody>
      </p:sp>
      <p:graphicFrame>
        <p:nvGraphicFramePr>
          <p:cNvPr id="63" name=""/>
          <p:cNvGraphicFramePr/>
          <p:nvPr/>
        </p:nvGraphicFramePr>
        <p:xfrm>
          <a:off x="2629080" y="1600200"/>
          <a:ext cx="3886200" cy="4525920"/>
        </p:xfrm>
        <a:graphic>
          <a:graphicData uri="http://schemas.openxmlformats.org/presentationml/2006/ole">
            <p:oleObj r:id="rId1" spid="">
              <p:embed/>
              <p:pic>
                <p:nvPicPr>
                  <p:cNvPr id="64" name="" descr=""/>
                  <p:cNvPicPr/>
                  <p:nvPr/>
                </p:nvPicPr>
                <p:blipFill>
                  <a:blip r:embed="rId2"/>
                  <a:stretch/>
                </p:blipFill>
                <p:spPr>
                  <a:xfrm>
                    <a:off x="2629080" y="1600200"/>
                    <a:ext cx="3886200" cy="452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rchitectural Layers</a:t>
            </a:r>
            <a:endParaRPr b="0" lang="en-US" sz="4400" spc="-1" strike="noStrike">
              <a:solidFill>
                <a:srgbClr val="000000"/>
              </a:solidFill>
              <a:latin typeface="Arial"/>
            </a:endParaRPr>
          </a:p>
        </p:txBody>
      </p:sp>
      <p:graphicFrame>
        <p:nvGraphicFramePr>
          <p:cNvPr id="66" name=""/>
          <p:cNvGraphicFramePr/>
          <p:nvPr/>
        </p:nvGraphicFramePr>
        <p:xfrm>
          <a:off x="3014640" y="1600200"/>
          <a:ext cx="3113280" cy="4525920"/>
        </p:xfrm>
        <a:graphic>
          <a:graphicData uri="http://schemas.openxmlformats.org/presentationml/2006/ole">
            <p:oleObj r:id="rId1" spid="">
              <p:embed/>
              <p:pic>
                <p:nvPicPr>
                  <p:cNvPr id="67" name="" descr=""/>
                  <p:cNvPicPr/>
                  <p:nvPr/>
                </p:nvPicPr>
                <p:blipFill>
                  <a:blip r:embed="rId2"/>
                  <a:stretch/>
                </p:blipFill>
                <p:spPr>
                  <a:xfrm>
                    <a:off x="3014640" y="1600200"/>
                    <a:ext cx="3113280" cy="452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2590920" y="228600"/>
            <a:ext cx="114300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UI</a:t>
            </a:r>
            <a:endParaRPr b="0" lang="en-US" sz="1800" spc="-1" strike="noStrike">
              <a:solidFill>
                <a:srgbClr val="000000"/>
              </a:solidFill>
              <a:latin typeface="Arial"/>
            </a:endParaRPr>
          </a:p>
        </p:txBody>
      </p:sp>
      <p:sp>
        <p:nvSpPr>
          <p:cNvPr id="69" name=""/>
          <p:cNvSpPr/>
          <p:nvPr/>
        </p:nvSpPr>
        <p:spPr>
          <a:xfrm>
            <a:off x="3886200" y="228600"/>
            <a:ext cx="114300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a:t>
            </a:r>
            <a:endParaRPr b="0" lang="en-US" sz="1800" spc="-1" strike="noStrike">
              <a:solidFill>
                <a:srgbClr val="000000"/>
              </a:solidFill>
              <a:latin typeface="Arial"/>
            </a:endParaRPr>
          </a:p>
        </p:txBody>
      </p:sp>
      <p:sp>
        <p:nvSpPr>
          <p:cNvPr id="70" name=""/>
          <p:cNvSpPr/>
          <p:nvPr/>
        </p:nvSpPr>
        <p:spPr>
          <a:xfrm>
            <a:off x="5181480" y="228600"/>
            <a:ext cx="152424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Service</a:t>
            </a:r>
            <a:endParaRPr b="0" lang="en-US" sz="1800" spc="-1" strike="noStrike">
              <a:solidFill>
                <a:srgbClr val="000000"/>
              </a:solidFill>
              <a:latin typeface="Arial"/>
            </a:endParaRPr>
          </a:p>
        </p:txBody>
      </p:sp>
      <p:sp>
        <p:nvSpPr>
          <p:cNvPr id="71" name=""/>
          <p:cNvSpPr/>
          <p:nvPr/>
        </p:nvSpPr>
        <p:spPr>
          <a:xfrm>
            <a:off x="2971800" y="1295280"/>
            <a:ext cx="2819520" cy="8384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ion Processor</a:t>
            </a:r>
            <a:endParaRPr b="0" lang="en-US" sz="1800" spc="-1" strike="noStrike">
              <a:solidFill>
                <a:srgbClr val="000000"/>
              </a:solidFill>
              <a:latin typeface="Arial"/>
            </a:endParaRPr>
          </a:p>
        </p:txBody>
      </p:sp>
      <p:grpSp>
        <p:nvGrpSpPr>
          <p:cNvPr id="72" name=""/>
          <p:cNvGrpSpPr/>
          <p:nvPr/>
        </p:nvGrpSpPr>
        <p:grpSpPr>
          <a:xfrm>
            <a:off x="533520" y="4114800"/>
            <a:ext cx="2895480" cy="2514600"/>
            <a:chOff x="533520" y="4114800"/>
            <a:chExt cx="2895480" cy="2514600"/>
          </a:xfrm>
        </p:grpSpPr>
        <p:sp>
          <p:nvSpPr>
            <p:cNvPr id="73" name=""/>
            <p:cNvSpPr/>
            <p:nvPr/>
          </p:nvSpPr>
          <p:spPr>
            <a:xfrm>
              <a:off x="533520" y="4114800"/>
              <a:ext cx="289548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Dav</a:t>
              </a:r>
              <a:endParaRPr b="0" lang="en-US" sz="1800" spc="-1" strike="noStrike">
                <a:solidFill>
                  <a:srgbClr val="000000"/>
                </a:solidFill>
                <a:latin typeface="Arial"/>
              </a:endParaRPr>
            </a:p>
          </p:txBody>
        </p:sp>
        <p:sp>
          <p:nvSpPr>
            <p:cNvPr id="74" name=""/>
            <p:cNvSpPr/>
            <p:nvPr/>
          </p:nvSpPr>
          <p:spPr>
            <a:xfrm>
              <a:off x="533520" y="4572000"/>
              <a:ext cx="2895480" cy="2057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ent Repo/Slide</a:t>
              </a:r>
              <a:endParaRPr b="0" lang="en-US" sz="1800" spc="-1" strike="noStrike">
                <a:solidFill>
                  <a:srgbClr val="000000"/>
                </a:solidFill>
                <a:latin typeface="Arial"/>
              </a:endParaRPr>
            </a:p>
          </p:txBody>
        </p:sp>
        <p:sp>
          <p:nvSpPr>
            <p:cNvPr id="75" name=""/>
            <p:cNvSpPr/>
            <p:nvPr/>
          </p:nvSpPr>
          <p:spPr>
            <a:xfrm>
              <a:off x="1371600" y="5029200"/>
              <a:ext cx="198108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main Topology</a:t>
              </a:r>
              <a:endParaRPr b="0" lang="en-US" sz="1800" spc="-1" strike="noStrike">
                <a:solidFill>
                  <a:srgbClr val="000000"/>
                </a:solidFill>
                <a:latin typeface="Arial"/>
              </a:endParaRPr>
            </a:p>
          </p:txBody>
        </p:sp>
        <p:sp>
          <p:nvSpPr>
            <p:cNvPr id="76" name=""/>
            <p:cNvSpPr/>
            <p:nvPr/>
          </p:nvSpPr>
          <p:spPr>
            <a:xfrm>
              <a:off x="1371600" y="5867280"/>
              <a:ext cx="198108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ent Target</a:t>
              </a:r>
              <a:endParaRPr b="0" lang="en-US" sz="1800" spc="-1" strike="noStrike">
                <a:solidFill>
                  <a:srgbClr val="000000"/>
                </a:solidFill>
                <a:latin typeface="Arial"/>
              </a:endParaRPr>
            </a:p>
          </p:txBody>
        </p:sp>
      </p:grpSp>
      <p:sp>
        <p:nvSpPr>
          <p:cNvPr id="77" name=""/>
          <p:cNvSpPr/>
          <p:nvPr/>
        </p:nvSpPr>
        <p:spPr>
          <a:xfrm>
            <a:off x="6629400" y="6172200"/>
            <a:ext cx="22860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ent Communicator</a:t>
            </a:r>
            <a:endParaRPr b="0" lang="en-US" sz="1800" spc="-1" strike="noStrike">
              <a:solidFill>
                <a:srgbClr val="000000"/>
              </a:solidFill>
              <a:latin typeface="Arial"/>
            </a:endParaRPr>
          </a:p>
        </p:txBody>
      </p:sp>
      <p:sp>
        <p:nvSpPr>
          <p:cNvPr id="78" name=""/>
          <p:cNvSpPr/>
          <p:nvPr/>
        </p:nvSpPr>
        <p:spPr>
          <a:xfrm>
            <a:off x="685800" y="2286000"/>
            <a:ext cx="1143000" cy="1066680"/>
          </a:xfrm>
          <a:prstGeom prst="can">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po</a:t>
            </a:r>
            <a:br>
              <a:rPr sz="1800"/>
            </a:br>
            <a:r>
              <a:rPr b="0" lang="en-US" sz="1800" spc="-1" strike="noStrike">
                <a:solidFill>
                  <a:srgbClr val="000000"/>
                </a:solidFill>
                <a:latin typeface="Arial"/>
              </a:rPr>
              <a:t>DB</a:t>
            </a:r>
            <a:endParaRPr b="0" lang="en-US" sz="1800" spc="-1" strike="noStrike">
              <a:solidFill>
                <a:srgbClr val="000000"/>
              </a:solidFill>
              <a:latin typeface="Arial"/>
            </a:endParaRPr>
          </a:p>
        </p:txBody>
      </p:sp>
      <p:sp>
        <p:nvSpPr>
          <p:cNvPr id="79" name=""/>
          <p:cNvSpPr/>
          <p:nvPr/>
        </p:nvSpPr>
        <p:spPr>
          <a:xfrm>
            <a:off x="2971800" y="2362320"/>
            <a:ext cx="2819520" cy="914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ical Target</a:t>
            </a:r>
            <a:endParaRPr b="0" lang="en-US" sz="1800" spc="-1" strike="noStrike">
              <a:solidFill>
                <a:srgbClr val="000000"/>
              </a:solidFill>
              <a:latin typeface="Arial"/>
            </a:endParaRPr>
          </a:p>
        </p:txBody>
      </p:sp>
      <p:sp>
        <p:nvSpPr>
          <p:cNvPr id="80" name=""/>
          <p:cNvSpPr/>
          <p:nvPr/>
        </p:nvSpPr>
        <p:spPr>
          <a:xfrm>
            <a:off x="4267080" y="4572000"/>
            <a:ext cx="2133720" cy="1371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s</a:t>
            </a:r>
            <a:endParaRPr b="0" lang="en-US" sz="1800" spc="-1" strike="noStrike">
              <a:solidFill>
                <a:srgbClr val="000000"/>
              </a:solidFill>
              <a:latin typeface="Arial"/>
            </a:endParaRPr>
          </a:p>
        </p:txBody>
      </p:sp>
      <p:sp>
        <p:nvSpPr>
          <p:cNvPr id="81" name=""/>
          <p:cNvSpPr/>
          <p:nvPr/>
        </p:nvSpPr>
        <p:spPr>
          <a:xfrm>
            <a:off x="4267080" y="4114800"/>
            <a:ext cx="213372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 API</a:t>
            </a:r>
            <a:endParaRPr b="0" lang="en-US" sz="1800" spc="-1" strike="noStrike">
              <a:solidFill>
                <a:srgbClr val="000000"/>
              </a:solidFill>
              <a:latin typeface="Arial"/>
            </a:endParaRPr>
          </a:p>
        </p:txBody>
      </p:sp>
      <p:sp>
        <p:nvSpPr>
          <p:cNvPr id="82" name=""/>
          <p:cNvSpPr/>
          <p:nvPr/>
        </p:nvSpPr>
        <p:spPr>
          <a:xfrm>
            <a:off x="3352680" y="914400"/>
            <a:ext cx="6098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4419720" y="91440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flipH="1">
            <a:off x="4876920" y="914400"/>
            <a:ext cx="76176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4343400" y="21337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flipH="1">
            <a:off x="2514240" y="3276720"/>
            <a:ext cx="152388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4724280" y="3276720"/>
            <a:ext cx="76212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3352680" y="6248520"/>
            <a:ext cx="327672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6400800" y="5257800"/>
            <a:ext cx="137160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90" name=""/>
          <p:cNvCxnSpPr>
            <a:stCxn id="78" idx="2"/>
            <a:endCxn id="75" idx="1"/>
          </p:cNvCxnSpPr>
          <p:nvPr/>
        </p:nvCxnSpPr>
        <p:spPr>
          <a:xfrm flipH="1" flipV="1" rot="10800000">
            <a:off x="684720" y="2818080"/>
            <a:ext cx="686520" cy="2553120"/>
          </a:xfrm>
          <a:prstGeom prst="bentConnector3">
            <a:avLst>
              <a:gd name="adj1" fmla="val -63378"/>
            </a:avLst>
          </a:prstGeom>
          <a:ln w="9360">
            <a:solidFill>
              <a:srgbClr val="000000"/>
            </a:solidFill>
            <a:miter/>
            <a:tailEnd len="med" type="triangle" w="med"/>
          </a:ln>
        </p:spPr>
      </p:cxnSp>
      <p:cxnSp>
        <p:nvCxnSpPr>
          <p:cNvPr id="91" name=""/>
          <p:cNvCxnSpPr>
            <a:stCxn id="79" idx="1"/>
            <a:endCxn id="78" idx="4"/>
          </p:cNvCxnSpPr>
          <p:nvPr/>
        </p:nvCxnSpPr>
        <p:spPr>
          <a:xfrm flipH="1">
            <a:off x="1828080" y="2819160"/>
            <a:ext cx="1143720" cy="1080"/>
          </a:xfrm>
          <a:prstGeom prst="straightConnector1">
            <a:avLst/>
          </a:prstGeom>
          <a:ln w="9360">
            <a:solidFill>
              <a:srgbClr val="000000"/>
            </a:solidFill>
            <a:miter/>
            <a:tailEnd len="med" type="triangle" w="med"/>
          </a:ln>
        </p:spPr>
      </p:cxnSp>
      <p:sp>
        <p:nvSpPr>
          <p:cNvPr id="92" name=""/>
          <p:cNvSpPr/>
          <p:nvPr/>
        </p:nvSpPr>
        <p:spPr>
          <a:xfrm>
            <a:off x="6022800" y="1066680"/>
            <a:ext cx="2425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ctions:</a:t>
            </a:r>
            <a:br>
              <a:rPr sz="1800"/>
            </a:br>
            <a:r>
              <a:rPr b="0" lang="en-US" sz="1800" spc="-1" strike="noStrike">
                <a:solidFill>
                  <a:srgbClr val="000000"/>
                </a:solidFill>
                <a:latin typeface="Arial"/>
              </a:rPr>
              <a:t>1. Start group</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Modify group confi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Modify topology</a:t>
            </a:r>
            <a:endParaRPr b="0" lang="en-US" sz="1800" spc="-1" strike="noStrike">
              <a:solidFill>
                <a:srgbClr val="000000"/>
              </a:solidFill>
              <a:latin typeface="Arial"/>
            </a:endParaRPr>
          </a:p>
        </p:txBody>
      </p:sp>
      <p:sp>
        <p:nvSpPr>
          <p:cNvPr id="93" name=""/>
          <p:cNvSpPr/>
          <p:nvPr/>
        </p:nvSpPr>
        <p:spPr>
          <a:xfrm>
            <a:off x="6023160" y="2286000"/>
            <a:ext cx="28569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targets:</a:t>
            </a:r>
            <a:br>
              <a:rPr sz="1800"/>
            </a:br>
            <a:r>
              <a:rPr b="0" lang="en-US" sz="1800" spc="-1" strike="noStrike">
                <a:solidFill>
                  <a:srgbClr val="000000"/>
                </a:solidFill>
                <a:latin typeface="Arial"/>
              </a:rPr>
              <a:t>1. Topo DB</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Group config file in rep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Group cmd execu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11T03:44:36Z</dcterms:created>
  <dc:creator>Charles Crouch</dc:creator>
  <dc:description/>
  <dc:language>en-US</dc:language>
  <cp:lastModifiedBy>John Mazzitelli</cp:lastModifiedBy>
  <dcterms:modified xsi:type="dcterms:W3CDTF">2005-04-14T04:53:18Z</dcterms:modified>
  <cp:revision>41</cp:revision>
  <dc:subject/>
  <dc:title>JBN Admin</dc:title>
</cp:coreProperties>
</file>