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87476"/>
        <c:axId val="46211423"/>
      </c:barChart>
      <c:catAx>
        <c:axId val="75287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11423"/>
        <c:crosses val="autoZero"/>
        <c:auto val="1"/>
        <c:lblAlgn val="ctr"/>
        <c:lblOffset val="100"/>
        <c:noMultiLvlLbl val="0"/>
      </c:catAx>
      <c:valAx>
        <c:axId val="46211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7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C59-945C-43E3-BAE9-D40824DB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646-EEF8-4FA2-8F47-6D7A504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01E-56A7-4B59-A910-CBF945D7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719-E1C4-4F0C-8D84-150A3D5F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B46-87B5-473D-88ED-B375297B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668-985A-4857-B43F-5FC33A82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E4A-9CC6-4F96-9DD5-3732628F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8EF-5542-4DBD-BCFE-F0105338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29E-3BCA-40A0-A3D3-0D75C9FC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464-EB73-4E35-9E1D-F974C6A8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A69-A4F2-43F2-94C2-957F1D1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CF9-8311-46A8-8343-7817AE51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9DEA2-43B9-40AD-B9A6-C83152BEC9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