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80479"/>
        <c:axId val="84560253"/>
      </c:barChart>
      <c:catAx>
        <c:axId val="55180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60253"/>
        <c:crosses val="autoZero"/>
        <c:auto val="1"/>
        <c:lblAlgn val="ctr"/>
        <c:lblOffset val="100"/>
        <c:noMultiLvlLbl val="0"/>
      </c:catAx>
      <c:valAx>
        <c:axId val="845602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80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1FA-3589-4127-B0A4-67B03FC3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05E-27B0-4BBB-9D86-0C34A49C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14F-07D3-45E4-BA83-2B073DF3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012-9458-4A00-9FB0-63F41CBBF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F6E7-A9E8-4D78-B283-29BB547D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D55-AC36-4FB6-A61F-8D6722C3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0CE4-20D1-4128-91C4-4EEE1E80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E868-0A0B-4E68-98E8-7CBA581D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D98-5DDC-444E-969E-429285D2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320-A684-4CD2-B955-84171E3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255-A158-445F-B140-2BC5427D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0F7-0824-47F9-B226-6E1D4CF7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C29DF-1416-44CF-9711-298A45ADD0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