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63335"/>
        <c:axId val="23805551"/>
      </c:barChart>
      <c:catAx>
        <c:axId val="128633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05551"/>
        <c:crosses val="autoZero"/>
        <c:auto val="1"/>
        <c:lblAlgn val="ctr"/>
        <c:lblOffset val="100"/>
        <c:noMultiLvlLbl val="0"/>
      </c:catAx>
      <c:valAx>
        <c:axId val="238055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633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724-578D-4906-98E6-62E9BE20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B135-8368-45EC-8267-2C50176FF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FB8-6B79-47BD-B615-1F072545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64F-4DB9-416C-B275-F975BD2F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4BF-8A16-4DA0-B2FA-3D9AE380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560D-A61C-429B-A812-D3A47845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5B8C-4880-4797-94C5-5C7352025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9F36-CE22-4841-BFFF-431C0CE7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B645-F265-448F-83E9-FA6E38CAA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0A7-6C33-46F6-8E27-D79EBAC0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22D-4107-458B-B545-9296AEE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21F-EE98-43DF-A073-48EBB5AF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799FF-65B1-41DA-B181-D9EE40E43F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