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55475"/>
        <c:axId val="80769967"/>
      </c:barChart>
      <c:catAx>
        <c:axId val="26155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69967"/>
        <c:crosses val="autoZero"/>
        <c:auto val="1"/>
        <c:lblAlgn val="ctr"/>
        <c:lblOffset val="100"/>
        <c:noMultiLvlLbl val="0"/>
      </c:catAx>
      <c:valAx>
        <c:axId val="80769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55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4C9-2302-4158-A240-D70B9B02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818-9DD7-451A-9B0A-5BA087A1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26E-A622-49DA-AB97-B0ADD114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227-6737-432C-8892-60EA8B2B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062-AD9B-47C9-B004-6BD56F84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C32-37E2-47EE-8F34-86949476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138-8BD9-4C4E-9228-5DAFC0CF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1DA-8A10-48CA-B53C-6AAF25A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47A-851F-4266-BB68-B645C4BB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269-8984-4684-AC3B-2AE7DF8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9B0-B95C-4C81-B5F1-B4AF193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FF4-890A-4F6C-8994-D4C43C71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91301-7F39-46E4-953B-F8ED4F2C92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