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018848"/>
        <c:axId val="45488350"/>
      </c:barChart>
      <c:catAx>
        <c:axId val="640188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488350"/>
        <c:crosses val="autoZero"/>
        <c:auto val="1"/>
        <c:lblAlgn val="ctr"/>
        <c:lblOffset val="100"/>
        <c:noMultiLvlLbl val="0"/>
      </c:catAx>
      <c:valAx>
        <c:axId val="454883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0188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292D-263E-40D0-82CB-1608FE112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75F2-B9D5-40C5-92CD-E51D948A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F340-5A96-46AC-817E-77A470DE5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F691-F0B3-4ECB-982D-595CC44CA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17CE-A263-46AA-B91B-EE072623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678B-6625-4B9A-A893-25708441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F0C3-70AC-4759-BF61-FA564103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ADC2-CDDB-4A55-AA78-7D28479F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4DBD-6DC1-4CF0-8B0D-98D1B9D0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5BC8-18A6-4619-AF91-F2DFEC91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D91B-878C-42CA-8F9D-03B8656C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883D-6B9A-46C6-B73D-06FFA967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1327BC-4939-47C3-BFA1-1B5DDCE80A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